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947-DDF6-4162-9386-96C08EA2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9B7-36FE-4C87-BFE2-372162DE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6E-38C4-4382-982C-F3BA5A77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5B8-42B9-4851-A739-EF3E5035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F9B9-D2BC-4087-B2EC-F44BE181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9F9C-73CC-4A9B-B776-16E6D23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76A1-381B-47F1-BE34-433116A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F05-2925-4300-B562-BD730239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194-7B68-4345-8FA1-93AC6035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72E-B94E-41A0-B9F2-AEF6A68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D2B-E6A0-46BC-8974-EEACE74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366-C31B-457E-8AF6-70D1CA9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C11-E1F9-493A-8EF3-E34AB6B4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2A25-9964-4AF8-A366-6ABDCD2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2BCB-1F5E-4410-8991-4DFCDBD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75AB-4473-4B7C-8018-485288D2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5A3-7C5A-45AB-833F-A238DC8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AE7-C627-4D0B-905B-E1C40C7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FD4-698F-41F0-9590-01A4CF1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413-BAC6-49F0-B5D6-869155D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CA1-913F-4522-A00E-C9DF0152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EB8-62F9-4435-BBC4-EBB47BE2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CFE-1E49-432A-A4A9-6BAC5F1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77A-0A7F-4D78-BB13-14C2A78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1EE3-14C9-4DF5-BD5B-112B4BCE4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12F-BFE6-4714-AC65-E1471E622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7440" y="2147760"/>
            <a:ext cx="649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indeterminate troponin really mean?...</a:t>
            </a:r>
            <a:r>
              <a:rPr b="0" lang="en-US" sz="3200" spc="-1" strike="noStrike">
                <a:solidFill>
                  <a:srgbClr val="add9f5"/>
                </a:solidFill>
                <a:latin typeface="Arial"/>
              </a:rPr>
              <a:t>other than another 3am rule out  ACS ad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0200" y="4411800"/>
            <a:ext cx="411480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mie Navel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on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 Costa Regional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l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standardized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denotes a non coronary artery disease pathology that does not require cardiac cath or anti-thrombotic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nds gentler and is often explained away but does have prognostic 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strategies are varied based on the underlying pathology and goa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terminate Tropon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 (0.07)-0.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outpatient clinical significance in providing marker of increased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ule out concurrent CAD but clinical suspicion and risk factors are very important in guiding initi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should be indentified and treatment based on treating underlying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agnosis of Acute Myocardial Infar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ason we initially order a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 is cell death secondary to ischemia- evidenced by coagulation necrosis or contraction band necrosis under  a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estingly normal apoptosis does not cause measurable troponi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thologic Phase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Acute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irst 6 hours coagulation necrosis.  After 6 hours there is PM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ing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can take up to 5-6 weeks with mononuclear and fibroblast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Healed M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car tissue with no cellular infil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pontaneous AMI secondary to primary coronary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MI secondary to ischemia from increased oxygen demand or decreased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Classification of 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dden cardiac death with evidence of ischemia but no bio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a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4b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nt thromb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Type 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linical suspi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biomarkers  (troponin &gt;0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Acute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have no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crescendo crushing chest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mfort in upper back, neck, jaw, tee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oresis, SOB, nausea, vomiting or syn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 and diaphor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l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 heart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3 or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 or brad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 and hypo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ST elevation at the J point in two contiguous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1mV in two contiguous anatomic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BB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ior leads &gt;0.05 acceptable if high suspi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NSTEMI</a:t>
            </a:r>
            <a:r>
              <a:rPr b="0" lang="en-US" sz="2400" spc="-1" strike="noStrike">
                <a:solidFill>
                  <a:srgbClr val="84c5f1"/>
                </a:solidFill>
                <a:latin typeface="Arial"/>
              </a:rPr>
              <a:t>-new horizontal or down-sloping ST depre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5mV in two contiguous leads and/or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inversion &gt;0.1mV in two contig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with prominent R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the definition of a troponin l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diagnosi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new classifications of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in detail mechanisms of Type 2 AMI and indeterminate tropon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ignificance of elevated tropon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KG limitations/pit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of Q waves (acute or prior 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e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ST↓ V1-V2 and ST↑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Ventricular Infar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4R ST ↑, ST↑ in lateral l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oint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C:\Documents and Settings\HCMARTINEZ\My Documents\My Pictures\smily.jpg"/>
          <p:cNvPicPr/>
          <p:nvPr/>
        </p:nvPicPr>
        <p:blipFill>
          <a:blip r:embed="rId1"/>
          <a:stretch/>
        </p:blipFill>
        <p:spPr>
          <a:xfrm>
            <a:off x="2327400" y="950760"/>
            <a:ext cx="6343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data still being stu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elpful in early MI when troponins aren’t elevated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wall motion abnormality helps guide decision for immediat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ways immediately available and requires further training of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roponins in initial evaluation of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pretest probability of Acute Myocardial infarction secondary to coronary artery occlusion (Type 1) is high a positive troponin is very helpful and part of the diagnostic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retest probability is low this can lead to unnecessary cardiac evaluation including cardiac cath (i.e. Type 2 AM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4160" y="27432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thrombus Ischemia/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Increased Myocardial Oxyge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diac loading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ardiac 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ocardial de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7abd"/>
                </a:solidFill>
                <a:latin typeface="Arial"/>
              </a:rPr>
              <a:t>Decreased Oxygen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oronary per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d systemic oxyge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 in setting of Type 2 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2 AMI can be caused by increased demand in the setting of stable coronary artery disease (won’t necessarily be immediately improved by PCI/anticoagu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cause of Type 2 AMI might be contraindication to PCI or anti-coagulation but worth discussing risks/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negative cardiac cath rule out coronary artery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tudies showing evidence of AMI on cardiac MRI despite negative cardiac c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yndrome X-patients with symptoms of angina but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vascular occlusion can cause angina, EKG changes and cell death with normal coronary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Syndrome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Cell Dysfunction-reduced vasodilator or enhanced vasoconstrictor response to medications or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nomic Dysfunction-increased sympathetic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coronary artery disease-diagnosed by intravascula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pain sensi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uses troponin re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- When myocytes are irreversibly damaged the cell membrane degrades releases the contents.  Some believe this is always the cause regardless of evidence of coronary artery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membrane permeability coupled with myocardial depressive factors-Degradation to smaller fragments that “leak” out-not completely underst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thrombotic causes of elevated tropo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64920" y="15890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emand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chy or bradyarrhyth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itically ill pati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ovol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C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rns (&gt;25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Nonthrombotic Myocardial Ischem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vasospa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ute Stro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gestion  of Sympathomim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dis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ical balloo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46600" y="1600200"/>
            <a:ext cx="364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yocardial St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reme exer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ortic valve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Direct Myocardial Da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iltrative dise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lammatory diseases including myocardi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habdomyo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diac Trauma including surg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b0ff"/>
                </a:solidFill>
                <a:latin typeface="Arial"/>
              </a:rPr>
              <a:t>Multi-factorial</a:t>
            </a:r>
            <a:r>
              <a:rPr b="0" lang="en-US" sz="1600" spc="-1" strike="noStrike">
                <a:solidFill>
                  <a:srgbClr val="d6ecf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al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s are a commonly ordered test in the Emergency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priate interpretation of a positive or negative troponin is important in determining correct course of intervention (namely Percutaneous Coronary Intervention/anti-thrombot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correlation is still very important in determining cause of an elevate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s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is still the most helpful in distinguishing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is more often elevated in asymptomatic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ed troponin associated with poorer prognosis at same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is of AMI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because many ESRD/CKD patients have co-morbid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 more specific as both myoglobin and CK-MB can be falsely elevated with elevated 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dialysis patients have elevated CK but generally less than 3x n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d is very important in CKD patients for determining presence of new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Elevated Troponin in CK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lial dys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s of membran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ired renal ex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mediated troponin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nce demonstrating stre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8400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Ventricular Hypertroph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troponin elevation increases as degree of LVH increas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lt subendocardial ischemia from increased oxygen demand from increased muscle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flow reserve due remodeled coronary micro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20720" y="1600200"/>
            <a:ext cx="69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release via strain and cell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correlation between BNP and tropon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ll stress leads to subend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eath secondary to RAS, sympathetic stimulation, inflammatory medi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ions associated with advanced 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Em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 to acute right heart st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resolves in 40 hours (more quickly then with ischemic heart 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monary Hyperten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mixed venous oxygen sat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BNP ele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ly COPD exacerbations with elevated troponins have higher in hospital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depression secondary to circulating factors (TNF-a, IL-6, C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er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V dysfunction generally reversible and can be exacerbated by norepineph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extent of burns rather than age or co-exist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seen when greater than 25-30% surface area is 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ropon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93520" y="1599840"/>
            <a:ext cx="6326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proteins that control the calcium-mediated interaction of actin and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ub-units Troponin T, Troponin I and Troponin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nd in all muscle but our assays test for the cardiac specific troponins of I and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C not clinically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balanc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sympathetic activity and cathecholamin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nterpret secondary to high degree of co-existing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induced cardiomy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 known as Takotsobu’s or Broken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 apical ballooning seen on E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levels of circulating catechol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takotsobu.jpg"/>
          <p:cNvPicPr/>
          <p:nvPr/>
        </p:nvPicPr>
        <p:blipFill>
          <a:blip r:embed="rId1"/>
          <a:stretch/>
        </p:blipFill>
        <p:spPr>
          <a:xfrm>
            <a:off x="4667400" y="4633920"/>
            <a:ext cx="211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myocardial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cont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D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ltrative disorders (amyloidosis via compression of myocy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dose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tis or Myopericard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response after cardiac transpla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use of a positive troponin must be immediately classified for appropriate inter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determinate troponin is not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causes of an indeterminate tropon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give an ASA if any suspi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ardless of the cause of elevation there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mortality/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udhary, Imran. ”Cardiac Syndrome X”. UTDOL updated 10/16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bson MD MS, C Michael. “Serum Cardiac Enzymes in patients with Renal Failure” UTDOL updated 6/13/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rich MD MACP, William L.  “Serum cardiac enzymes in patients with renal failure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ffe MD, Allan S.  “Troponins and creatinine kinase as biomarkers of cardiac injury” UTDOL updated 6/19/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remias MD, Allen. “Narrative review:Alternative cause for elevated cardiac troponin levels when Acute Coronary Syndrome are excluded.  Annals of Internal Medicine. Vol 142. No 9. Pg786-7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nter MD MS, Shaun.  “A new, precise definition of acute myocardial infarction” Cleveland Clinic Journal of Medicine. Volume 76.  Number 3. March 2009. pg 159-1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7abd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3" descr="artichoke.gif"/>
          <p:cNvPicPr/>
          <p:nvPr/>
        </p:nvPicPr>
        <p:blipFill>
          <a:blip r:embed="rId1"/>
          <a:stretch/>
        </p:blipFill>
        <p:spPr>
          <a:xfrm>
            <a:off x="3849840" y="1420920"/>
            <a:ext cx="4020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ontent Placeholder 3" descr="TnComplex.jpg"/>
          <p:cNvPicPr/>
          <p:nvPr/>
        </p:nvPicPr>
        <p:blipFill>
          <a:blip r:embed="rId1"/>
          <a:stretch/>
        </p:blipFill>
        <p:spPr>
          <a:xfrm>
            <a:off x="3062160" y="838080"/>
            <a:ext cx="48848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Content Placeholder 3" descr="ribbon troponin.jpg"/>
          <p:cNvPicPr/>
          <p:nvPr/>
        </p:nvPicPr>
        <p:blipFill>
          <a:blip r:embed="rId1"/>
          <a:stretch/>
        </p:blipFill>
        <p:spPr>
          <a:xfrm>
            <a:off x="3564000" y="701640"/>
            <a:ext cx="44085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I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 was the first troponin used but now Troponin I is considered superior and the newer assays are very sensitive (can detect &lt;1g myocardial necr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0.05 is normal (At CCRMC our cutoff is &lt;0.07)*     &gt;99% of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0.05 - &lt;0.5 is indeter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5 or greater considered suggestive of acute myocardial isc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oni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test $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P (not just cool fish) ~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le out ACS admits because of indeterminate troponins-pric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ce of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ositive troponi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520" y="155592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clear standards for the interpretation of positive (&gt;0.5) in setting of high suspicion of coronary artery disease.  This leads to a protocalized approach with the common goal being early reva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other hand there’s the gray area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leak-a common term oft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nymous with indeterminate troponin, or positive troponin secondary to a non coronary artery pathology ca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3:25:33Z</dcterms:created>
  <dc:creator>David</dc:creator>
  <dc:description/>
  <dc:language>en-US</dc:language>
  <cp:lastModifiedBy>HCMARTINEZ</cp:lastModifiedBy>
  <dcterms:modified xsi:type="dcterms:W3CDTF">2009-09-30T19:00:24Z</dcterms:modified>
  <cp:revision>100</cp:revision>
  <dc:subject/>
  <dc:title>What does an indeterminate troponin really mean?...other than another annoying 3am rule out  ACS admit</dc:title>
</cp:coreProperties>
</file>