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4E15-028F-4D81-8198-17FC3827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DF49-ACFE-4827-A4C8-337D661E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D1F1-3A76-4F7C-876A-3B76F8DC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372A-9906-422F-B7DD-AECEECB3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9001-1A05-476B-B53B-9CA299C7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DEAE-8B34-4142-A338-4DD507C7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A05C-623B-4304-BB33-DF921C5D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04A1-1D89-4D93-8188-756ADF1A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4973-27FC-466A-B4E3-C62D3854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582F-88AB-4228-A90C-E4AF1FB2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69A8-E6BF-4484-9058-A0E535C0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D15F-225D-4ACD-B5A6-D6B933F7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4DE4-803A-4478-B0A4-84715A80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1D13-16C0-4D18-80D8-568F27A8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C151-3CA1-494D-B677-ED9CA783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105A-EBE9-4DB0-B070-2BAC7F1F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F0A5-3104-4CFF-A01D-A96E046A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0C0E-DEB0-41E7-A2E2-C2B5E031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4193-67D2-4BC8-8DE0-A70BE6C8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0610-130D-4E5D-BC9B-66746FE3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89A7-6DF1-4976-9FE3-DF3487E6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9F5B-E4D3-4716-9009-805172D5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5B54-99B5-4C91-AAE3-861A4C66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0B78-48B2-4B4E-9CD4-899121D9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6329-950D-4D59-86E6-DCCA87E803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0EE3-09C2-44FD-B156-C6768290A7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7440" y="2147760"/>
            <a:ext cx="6496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an indeterminate troponin really mean?...</a:t>
            </a:r>
            <a:r>
              <a:rPr b="0" lang="en-US" sz="3200" spc="-1" strike="noStrike">
                <a:solidFill>
                  <a:srgbClr val="add9f5"/>
                </a:solidFill>
                <a:latin typeface="Arial"/>
              </a:rPr>
              <a:t>other than another 3am rule out  ACS ad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0200" y="4411800"/>
            <a:ext cx="4114800" cy="20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mie Navel, M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tember 3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on 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 Costa Regional Medical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ponin le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 standardized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cally denotes a non coronary artery disease pathology that does not require cardiac cath or anti-thrombotic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nds gentler and is often explained away but does have prognostic impor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ment strategies are varied based on the underlying pathology and goals of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terminate Tropon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05 (0.07)-0.4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outpatient clinical significance in providing marker of increased mort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not rule out concurrent CAD but clinical suspicion and risk factors are very important in guiding initial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 should be indentified and treatment based on treating underlying path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agnosis of Acute Myocardial Infar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ason we initially order a tropon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cardial Infarction is cell death secondary to ischemia- evidenced by coagulation necrosis or contraction band necrosis under  a micro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nterestingly normal apoptosis does not cause measurable troponin leve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Pathologic Phases of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Acute M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First 6 hours coagulation necrosis.  After 6 hours there is PMN inva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Healing M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can take up to 5-6 weeks with mononuclear and fibroblast inva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Healed M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scar tissue with no cellular infil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al Classification of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spontaneous AMI secondary to primary coronary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MI secondary to ischemia from increased oxygen demand or decreased su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al Classification of AM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3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udden cardiac death with evidence of ischemia but no bioma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4a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4b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ent thromb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5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B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 of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clinical suspic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KG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ed biomarkers  (troponin &gt;0.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 of Acute 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% have no symp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c crescendo crushing chest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mfort in upper back, neck, jaw, tee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phoresis, SOB, nausea, vomiting or syn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s of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e and diaphore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l extrem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 heart s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3 or S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chy or bradycar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 and hypo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KG f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7abd"/>
                </a:solidFill>
                <a:latin typeface="Arial"/>
              </a:rPr>
              <a:t>STEMI</a:t>
            </a: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-new ST elevation at the J point in two contiguous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0.1mV in two contiguous anatomic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LBB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erior leads &gt;0.05 acceptable if high suspi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7abd"/>
                </a:solidFill>
                <a:latin typeface="Arial"/>
              </a:rPr>
              <a:t>NSTEMI</a:t>
            </a: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-new horizontal or down-sloping ST depress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05mV in two contiguous leads and/or 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inversion &gt;0.1mV in two contigu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s with prominent R w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the definition of a troponin l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diagnosis of A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new classifications of A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in detail mechanisms of Type 2 AMI and indeterminate troponi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cal significance of elevated tropon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KG limitations/pit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ning of Q waves (acute or prior M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erior 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ST↓ V1-V2 and ST↑ lateral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 Ventricular Infar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4R ST ↑, ST↑ in lateral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 point ele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C:\Documents and Settings\HCMARTINEZ\My Documents\My Pictures\smily.jpg"/>
          <p:cNvPicPr/>
          <p:nvPr/>
        </p:nvPicPr>
        <p:blipFill>
          <a:blip r:embed="rId1"/>
          <a:stretch/>
        </p:blipFill>
        <p:spPr>
          <a:xfrm>
            <a:off x="2327400" y="950760"/>
            <a:ext cx="634356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hocardi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come data still being stud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helpful in early MI when troponins aren’t elevated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wall motion abnormality helps guide decision for immediate cardiac c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ways immediately available and requires further training of perso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troponins in initial evaluation of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 pretest probability of Acute Myocardial infarction secondary to coronary artery occlusion (Type 1) is high a positive troponin is very helpful and part of the diagnostic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pretest probability is low this can lead to unnecessary cardiac evaluation including cardiac cath (i.e. Type 2 AMI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14160" y="274320"/>
            <a:ext cx="67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thrombus Ischemia/Type 2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7abd"/>
                </a:solidFill>
                <a:latin typeface="Arial"/>
              </a:rPr>
              <a:t>Increased Myocardial Oxygen Dem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chycar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s in cardiac loading 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cardiac 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ocardial de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7abd"/>
                </a:solidFill>
                <a:latin typeface="Arial"/>
              </a:rPr>
              <a:t>Decreased Oxygen Su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d coronary perf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reased systemic oxyge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D in setting of Type 2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2 AMI can be caused by increased demand in the setting of stable coronary artery disease (won’t necessarily be immediately improved by PCI/anticoagul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cause of Type 2 AMI might be contraindication to PCI or anti-coagulation but worth discussing risks/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negative cardiac cath rule out coronary artery disea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studies showing evidence of AMI on cardiac MRI despite negative cardiac c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Syndrome X-patients with symptoms of angina but normal coronary art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vascular occlusion can cause angina, EKG changes and cell death with normal coronary art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diac Syndrome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thelial Cell Dysfunction-reduced vasodilator or enhanced vasoconstrictor response to medications or 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nomic Dysfunction-increased sympathetic 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lt coronary artery disease-diagnosed by intravascula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hanced pain sensi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auses troponin relea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death- When myocytes are irreversibly damaged the cell membrane degrades releases the contents.  Some believe this is always the cause regardless of evidence of coronary artery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membrane permeability coupled with myocardial depressive factors-Degradation to smaller fragments that “leak” out-not completely underst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thrombotic causes of elevated tropon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464920" y="1589040"/>
            <a:ext cx="308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b0ff"/>
                </a:solidFill>
                <a:latin typeface="Arial"/>
              </a:rPr>
              <a:t>Demand Ischem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chy or bradyarrhythm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itically ill pati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ypoten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ypovolem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V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C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urns (&gt;25%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b0ff"/>
                </a:solidFill>
                <a:latin typeface="Arial"/>
              </a:rPr>
              <a:t>Nonthrombotic Myocardial Ischem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ronary vasospas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ute Stro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gestion  of Sympathomime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ortic diss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ortic valve dis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ical balloon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ndro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646600" y="1600200"/>
            <a:ext cx="3648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b0ff"/>
                </a:solidFill>
                <a:latin typeface="Arial"/>
              </a:rPr>
              <a:t>Myocardial Str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lmonary embolis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treme exer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ortic valve dis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b0ff"/>
                </a:solidFill>
                <a:latin typeface="Arial"/>
              </a:rPr>
              <a:t>Direct Myocardial Dam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filtrative disea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flammatory diseases including myocardit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ug toxic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habdomyoly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diac Trauma including surg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bril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b0ff"/>
                </a:solidFill>
                <a:latin typeface="Arial"/>
              </a:rPr>
              <a:t>Multi-factorial</a:t>
            </a:r>
            <a:r>
              <a:rPr b="0" lang="en-US" sz="1600" spc="-1" strike="noStrike">
                <a:solidFill>
                  <a:srgbClr val="d6ecf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al dis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s are a commonly ordered test in the Emergency 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ppropriate interpretation of a positive or negative troponin is important in determining correct course of intervention (namely Percutaneous Coronary Intervention/anti-thrombotic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cal correlation is still very important in determining cause of an elevated tropon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ponins in CK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I is still the most helpful in distinguishing A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T is more often elevated in asymptomatic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ed troponin associated with poorer prognosis at same GF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 of AMI in CK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because many ESRD/CKD patients have co-morbid C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I more specific as both myoglobin and CK-MB can be falsely elevated with elevated GF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dialysis patients have elevated CK but generally less than 3x nor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nd is very important in CKD patients for determining presence of new isch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 of Elevated Troponin in CK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V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thelial dys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s of membrane integ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ired renal ex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tch mediated troponin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nce demonstrating stret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284004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ft Ventricular Hypertroph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ree of troponin elevation increases as degree of LVH increase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lt subendocardial ischemia from increased oxygen demand from increased muscle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flow reserve due remodeled coronary microcirc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t Fail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20720" y="1600200"/>
            <a:ext cx="699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release via strain and cell d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e correlation between BNP and tropon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ll stress leads to subendocardial isch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death secondary to RAS, sympathetic stimulation, inflammatory medi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ions associated with advanced heart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lmonary Embo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 to acute right heart str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resolves in 40 hours (more quickly then with ischemic heart dise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lmonary Hyperten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chycar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mixed venous oxygen sat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er BNP ele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ly COPD exacerbations with elevated troponins have higher in hospital mort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cardial depression secondary to circulating factors (TNF-a, IL-6, CR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per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V dysfunction generally reversible and can be exacerbated by norepineph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ed to extent of burns rather than age or co-existing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ly seen when greater than 25-30% surface area is aff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roponi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693520" y="1599840"/>
            <a:ext cx="63262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proteins that control the calcium-mediated interaction of actin and myos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sub-units Troponin T, Troponin I and Troponin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nd in all muscle but our assays test for the cardiac specific troponins of I and 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C not clinically 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balance of autonomic nervous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sympathetic activity and cathecholamine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to interpret secondary to high degree of co-existing C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ss induced cardiomy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wise known as Takotsobu’s or Broken Heart Syndr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c apical ballooning seen on Ec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levels of circulating catechol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3" descr="takotsobu.jpg"/>
          <p:cNvPicPr/>
          <p:nvPr/>
        </p:nvPicPr>
        <p:blipFill>
          <a:blip r:embed="rId1"/>
          <a:stretch/>
        </p:blipFill>
        <p:spPr>
          <a:xfrm>
            <a:off x="4667400" y="4633920"/>
            <a:ext cx="21142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myocardial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cont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D sh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iltrative disorders (amyloidosis via compression of myocy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dose che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carditis or Myopericard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mune response after cardiac transpla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7abd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9388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ause of a positive troponin must be immediately classified for appropriate inter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ndeterminate troponin is not norm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ny causes of an indeterminate tropon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ll give an ASA if any suspic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ardless of the cause of elevation there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mortality/poor progn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7abd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udhary, Imran. ”Cardiac Syndrome X”. UTDOL updated 10/16/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ibson MD MS, C Michael. “Serum Cardiac Enzymes in patients with Renal Failure” UTDOL updated 6/13/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nrich MD MACP, William L.  “Serum cardiac enzymes in patients with renal failure” UTDOL updated 6/19/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affe MD, Allan S.  “Troponins and creatinine kinase as biomarkers of cardiac injury” UTDOL updated 6/19/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remias MD, Allen. “Narrative review:Alternative cause for elevated cardiac troponin levels when Acute Coronary Syndrome are excluded.  Annals of Internal Medicine. Vol 142. No 9. Pg786-79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nter MD MS, Shaun.  “A new, precise definition of acute myocardial infarction” Cleveland Clinic Journal of Medicine. Volume 76.  Number 3. March 2009. pg 159-16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7abd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Content Placeholder 3" descr="artichoke.gif"/>
          <p:cNvPicPr/>
          <p:nvPr/>
        </p:nvPicPr>
        <p:blipFill>
          <a:blip r:embed="rId1"/>
          <a:stretch/>
        </p:blipFill>
        <p:spPr>
          <a:xfrm>
            <a:off x="3849840" y="1420920"/>
            <a:ext cx="40208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Content Placeholder 3" descr="TnComplex.jpg"/>
          <p:cNvPicPr/>
          <p:nvPr/>
        </p:nvPicPr>
        <p:blipFill>
          <a:blip r:embed="rId1"/>
          <a:stretch/>
        </p:blipFill>
        <p:spPr>
          <a:xfrm>
            <a:off x="3062160" y="838080"/>
            <a:ext cx="488484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Content Placeholder 3" descr="ribbon troponin.jpg"/>
          <p:cNvPicPr/>
          <p:nvPr/>
        </p:nvPicPr>
        <p:blipFill>
          <a:blip r:embed="rId1"/>
          <a:stretch/>
        </p:blipFill>
        <p:spPr>
          <a:xfrm>
            <a:off x="3564000" y="701640"/>
            <a:ext cx="440856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ponin I R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T was the first troponin used but now Troponin I is considered superior and the newer assays are very sensitive (can detect &lt;1g myocardial necros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0.05 is normal (At CCRMC our cutoff is &lt;0.07)*     &gt;99% of contr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0.05 - &lt;0.5 is indetermin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5 or greater considered suggestive of acute myocardial isch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ponin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test $7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P (not just cool fish) ~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rule out ACS admits because of indeterminate troponins-pricel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ificance of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positive troponi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66520" y="155592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clear standards for the interpretation of positive (&gt;0.5) in setting of high suspicion of coronary artery disease.  This leads to a protocalized approach with the common goal being early revascular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e other hand there’s the gray area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leak-a common term oft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onymous with indeterminate troponin, or positive troponin secondary to a non coronary artery pathology cau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3:25:33Z</dcterms:created>
  <dc:creator>David</dc:creator>
  <dc:description/>
  <dc:language>en-US</dc:language>
  <cp:lastModifiedBy>HCMARTINEZ</cp:lastModifiedBy>
  <dcterms:modified xsi:type="dcterms:W3CDTF">2009-09-30T19:00:24Z</dcterms:modified>
  <cp:revision>100</cp:revision>
  <dc:subject/>
  <dc:title>What does an indeterminate troponin really mean?...other than another annoying 3am rule out  ACS admit</dc:title>
</cp:coreProperties>
</file>