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51B-D89D-49C5-AA23-A9F1CE26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D945-72BC-4BC9-BE87-F8C55752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8CF0-309B-49F6-A304-4D415F91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CF3-3C48-4AF8-8178-765EEB11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A5D00-3D9E-4A02-A2D1-8FAEF381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18BA4-1235-498F-B4BB-99AA729C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6C7B0-6484-44BE-8C83-2FAA135D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0EA75-84CB-4600-A647-F893B30C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8C70C-7C65-41D5-81DE-0C1ED3E0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F09CB-8984-492D-9592-6AC1B5C3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4E33D-4986-4179-8132-41EAD15B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FCF9-1E74-4FC7-95E1-BA6FA26B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0BB80-6D2C-4EB9-94FE-6BEFE920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AF883-7F20-4141-AC01-F07BA4C7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5D727-5061-430B-9D79-21F677F5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16F88-4902-43FE-BF25-EB43C0D4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18AC1-2672-48AF-B7B3-28BDA0B2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1A6E-1A20-4BC6-8A7F-42267AE1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F980-B41A-4A97-9DBE-F5C8B4BA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CAA5-7C5C-4802-BB2D-BF0FE4D0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9599-8513-4E07-983A-C34EC692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231-28D5-493B-953D-1395E40A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E634-04C6-48E5-8545-2F7977E3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84B-F066-49C2-8428-E9628F65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B969-A24B-47EC-B013-161A8D623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6B7E-02DF-47C9-A881-C453349614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pressive Neuropathy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f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pper Extremity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::::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diopathic 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st number of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ening of para-tendinous tissue- specially of the FDP tend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edema, fibrinoid swelling, hyaline and mucoid degeneration followed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brotic thickening, increased collagen 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uenced by hormonal factors  and repetitive occupational over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ronic non-specific tenosynoviti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edema : primary causative fa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ondi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igger fin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Quervain’s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rmonal facto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ematous thickening of paratenons: third trimester of pregnancy or shortly after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 % of all pregnant women complain of some tingling, numbness of the fingers- resolves in most cases after deliv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menopaus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eptive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ronic/Acute Specific Inflamma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eumatoid Tenosynov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berculous tenosynov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pyogen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thrombophleb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neous I.V. infu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st-traumatic 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nt trauma- edema,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pal bone dislocation- lu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l radial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normal wrist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united distal radial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teophytes from chronic arthr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ystemic diseas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xed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yloi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b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elo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romeg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Renal fail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agnosis-Histo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cturnal paresth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ness/tingling/burning or cramplike sensations-median nerve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of the resting hand-pathognom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subside with manual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nes/clum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ural aggra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agnosis-Histo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ximal pain: may radiate upto shoul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may subside in advanc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ling of cold, and swollen fingers: disturbance of autonomous function of median ner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ttenning of thenar eminen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:finding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s on st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el’s 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 se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len’s wrist flex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’s wrist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rniquet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 nerve com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cle testing: abductor pollicis brev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nsory Distrib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6" name="Picture 4" descr="nervemain"/>
          <p:cNvPicPr/>
          <p:nvPr/>
        </p:nvPicPr>
        <p:blipFill>
          <a:blip r:embed="rId1"/>
          <a:stretch/>
        </p:blipFill>
        <p:spPr>
          <a:xfrm>
            <a:off x="2819520" y="2205000"/>
            <a:ext cx="327636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view of the anatomy of Median,Ulnar, and Radial Ner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8" name="Picture 6" descr="apb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0" name="Picture 6" descr="ring_test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Picture 6" descr="ring_test2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:finding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g stud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in radiographs: cervical,chest,wrist,h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tic resonance imaging: unclear diagnosis,anatomic causes, failure of CT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trasound: space occupying le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ectrodiagnostic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 Conduction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gmental demyelination-&gt; slowed nerve conduction:conduction b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myograph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xonal loss-&gt; Wallerian degeneration; muscle den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ectrodiagnostic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rm clinic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baselin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 out proximal compression,double crush, polyneur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lectrodiagnostic testing:limitations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 large myelinated fi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normal only after Wallerian de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se negative results (1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c test- not dyna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eatment: conservati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st spl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y mod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roid inj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Vit B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tching exercises / ergonomic equipments ( preven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rpal Tunnel Release (CTR)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scop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in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lnar Ner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6" name="Picture 6" descr="ulnar1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4956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4940280" y="52941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yon’s tu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321880" y="369396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bital tu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394240" y="2971800"/>
            <a:ext cx="11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cade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t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pper Extremity Ner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5" name="Picture 3" descr="three_nerves"/>
          <p:cNvPicPr/>
          <p:nvPr/>
        </p:nvPicPr>
        <p:blipFill>
          <a:blip r:embed="rId1"/>
          <a:stretch/>
        </p:blipFill>
        <p:spPr>
          <a:xfrm>
            <a:off x="3411360" y="1600200"/>
            <a:ext cx="2319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ubital Tunnel Syndro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sthesia in ulnar dig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insic wa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bow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ubital Tunnel Syndrome:finding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nar nerve sublux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nel’s 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bow flexion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insic mus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lnar Nerve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5" name="Picture 6" descr="DSCF0043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lnar Nerve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7" name="Picture 6" descr="adm_ulnar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lnar Nerve tes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9" name="Picture 6" descr="DSCF0049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nsory Distrib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1" name="Picture 4" descr="sensory01"/>
          <p:cNvPicPr/>
          <p:nvPr/>
        </p:nvPicPr>
        <p:blipFill>
          <a:blip r:embed="rId1"/>
          <a:stretch/>
        </p:blipFill>
        <p:spPr>
          <a:xfrm>
            <a:off x="1919160" y="2187720"/>
            <a:ext cx="53056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adial Ner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3" name="Picture 6" descr="radial1"/>
          <p:cNvPicPr/>
          <p:nvPr/>
        </p:nvPicPr>
        <p:blipFill>
          <a:blip r:embed="rId1"/>
          <a:stretch/>
        </p:blipFill>
        <p:spPr>
          <a:xfrm>
            <a:off x="2859120" y="1600200"/>
            <a:ext cx="3424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adial Nerve Palsy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st drop:  weak wrist/ finger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ation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ings dependant on eti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urday night pal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cture humerus: post re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nshot w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 opera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ensory Distrib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7" name="Picture 4" descr="hand_nerve01"/>
          <p:cNvPicPr/>
          <p:nvPr/>
        </p:nvPicPr>
        <p:blipFill>
          <a:blip r:embed="rId1"/>
          <a:stretch/>
        </p:blipFill>
        <p:spPr>
          <a:xfrm>
            <a:off x="2286000" y="1903320"/>
            <a:ext cx="464832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adial Nerve T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9" name="Picture 6" descr="DSCF004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Carpal Tunnel Syndrome: Median Neuropathy at the wrist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Cubital Tunnel Syndrome: Ulnar neuropathy at the elbow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Radial Nerve Palsy at the spiral groove of the humerus.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cratch-Collapse T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ual Meeting of the American Society for Hand Surgery:   San Francisco 2009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 N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nar n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al ner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pper Extremity Ner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3" name="Picture 6" descr="three_nerves"/>
          <p:cNvPicPr/>
          <p:nvPr/>
        </p:nvPicPr>
        <p:blipFill>
          <a:blip r:embed="rId1"/>
          <a:stretch/>
        </p:blipFill>
        <p:spPr>
          <a:xfrm>
            <a:off x="3411360" y="1600200"/>
            <a:ext cx="2319480" cy="44956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6019920" y="49528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pal tunnel: MED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5700600" y="491328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779080" y="338940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- Cubital tunnel: ULN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854320" y="239868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- Spiral groove: RA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dian Ner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Picture 11" descr="median1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arpal Tunnel Syndrome :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tiolog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- a natural bottleneck in the course of median ner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roportion between available space and its contents = increased pressure within 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 nerve most delicate: mostly affected: functional disturb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arpal Tunnel Syndrome :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tiolog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roportion between Space vs. Cont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ual narrowing of the walls of the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in the volume of its 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usually multifacto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arpal Tunnel Syndrome :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tiology: nerve compr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 mm Hg healthy subje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mm Hg  decreased epineural per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 mm Hg  decreased axonal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 mm Hg   paresth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 mm Hg   epineural ed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 mm Hg   intraneural           ischemia,sensory/motor bl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ickening of the paraten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non-specific Tenosynovitis: occupational,reactive, horm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diopathic C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iopath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85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heumatoi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t-traumat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u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cases                   &lt;1%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04:49:39Z</dcterms:created>
  <dc:creator>Nanda K. Sinha</dc:creator>
  <dc:description/>
  <dc:language>en-US</dc:language>
  <cp:lastModifiedBy>HCMARTINEZ</cp:lastModifiedBy>
  <dcterms:modified xsi:type="dcterms:W3CDTF">2009-09-11T18:54:02Z</dcterms:modified>
  <cp:revision>12</cp:revision>
  <dc:subject/>
  <dc:title>Compressive Neuropathy of the  Upper Extremity :::: </dc:title>
</cp:coreProperties>
</file>