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F2F7-402D-4CA9-A26E-08BD0BF88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AFAE-7C45-44AE-8513-8FE6D0B1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0528-17FC-4908-8621-0D3767CE7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54B6-A723-4F63-AAEB-DBC64D769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21778-1193-4744-ADB3-D1E296831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A3571-2FFB-4CA3-AC3C-40F82ECE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A1A93-88E2-47F7-AB35-DD11C3F6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ECA63-FBD2-4500-BAA4-D672747D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70BF8-9FD2-4EDA-BF4A-F46F2247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421EC-D25C-41D9-8876-266C6695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97D04-AFD7-4699-A117-76777A0C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1C8A-6862-4E0C-8FE3-DCFD89B6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82761-9A46-4F34-BBB7-3A469AFD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5F99A-7307-43FA-A351-4DA448A2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52DA3-DF53-4494-ABB3-E549BC73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65829-1F2B-42AF-A401-5006F5090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E95C2-493E-4228-9A2F-BFABC27CC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1046-C045-4F37-9C54-B49BE17E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C1E9-EA3A-4832-97AD-DB7D4A88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1CBF-CA7C-41B7-B8AC-746A633F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8CF3-B424-4C5C-8E11-EC7486F9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E122-87DA-4297-B37D-47C24C08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7AAB-0C88-4B1F-A4F6-163E26A1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3BB9-073D-495E-841D-D79B1FD5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1D34-58BF-4DF7-8584-C81B2EBD7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2344-9F72-480B-B049-782B970361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544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mpressive Neuropathy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f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Upper Extremity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::::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diopathic 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st number of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ckening of para-tendinous tissue- specially of the FDP tend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nic edema, fibrinoid swelling, hyaline and mucoid degeneration followed 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brotic thickening, increased collagen 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luenced by hormonal factors  and repetitive occupational overu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hronic non-specific tenosynoviti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nic edema : primary causative fa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condi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igger fin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 Quervain’s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rmonal facto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ematous thickening of paratenons: third trimester of pregnancy or shortly after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 % of all pregnant women complain of some tingling, numbness of the fingers- resolves in most cases after delive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-menopaus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aceptive dr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hronic/Acute Specific Inflammat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heumatoid Tenosynov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berculous tenosynov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te pyogenic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te thrombophleb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roneous I.V. infus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st-traumatic 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unt trauma- edema, blee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pal bone dislocation- lu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al radial fra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tment synd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normal wrist 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united distal radial fra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teophytes from chronic arthr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ystemic diseas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xed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yloid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be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elo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romega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nic Renal fail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iagnosis-Histor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cturnal paresthe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ness/tingling/burning or cramplike sensations-median nerve distrib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n of the resting hand-pathognomo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subside with manual a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knes/clums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ural aggra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iagnosis-Histor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ximal pain: may radiate upto shoul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n may subside in advanc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eling of cold, and swollen fingers: disturbance of autonomous function of median ner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attenning of thenar eminenc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edian nerve:finding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ends on stag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nel’s 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ital sens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len’s wrist flex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’s wrist ex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urniquet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n nerve comp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cle testing: abductor pollicis brev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ensory Distribu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6" name="Picture 4" descr="nervemain"/>
          <p:cNvPicPr/>
          <p:nvPr/>
        </p:nvPicPr>
        <p:blipFill>
          <a:blip r:embed="rId1"/>
          <a:stretch/>
        </p:blipFill>
        <p:spPr>
          <a:xfrm>
            <a:off x="2819520" y="2205000"/>
            <a:ext cx="327636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view of the anatomy of Median,Ulnar, and Radial Nerv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edian Nerve tes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8" name="Picture 6" descr="apb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edian nerv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0" name="Picture 6" descr="ring_test1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edian nerv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2" name="Picture 6" descr="ring_test2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edian nerve:finding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g studi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in radiographs: cervical,chest,wrist,h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netic resonance imaging: unclear diagnosis,anatomic causes, failure of CT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ltrasound: space occupying le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ectrodiagnostic tes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rve Conduction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gmental demyelination-&gt; slowed nerve conduction:conduction b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myograph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xonal loss-&gt; Wallerian degeneration; muscle dener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ectrodiagnostic tes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rm clinic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baselin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le out proximal compression,double crush, polyneuropat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Electrodiagnostic testing:limitations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 large myelinated fi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normal only after Wallerian degen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lse negative results (10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ic test- not dyna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eatment: conservativ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st spl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y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roid inj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SA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Vit B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tching exercises / ergonomic equipments ( preven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arpal Tunnel Release (CTR)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oscop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ed inc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Ulnar Nerv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6" name="Picture 6" descr="ulnar1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4956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7"/>
          <p:cNvSpPr/>
          <p:nvPr/>
        </p:nvSpPr>
        <p:spPr>
          <a:xfrm>
            <a:off x="4940280" y="529416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uyon’s tu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321880" y="3693960"/>
            <a:ext cx="15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bital tu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5394240" y="2971800"/>
            <a:ext cx="116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cade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uth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Upper Extremity Nerv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5" name="Picture 3" descr="three_nerves"/>
          <p:cNvPicPr/>
          <p:nvPr/>
        </p:nvPicPr>
        <p:blipFill>
          <a:blip r:embed="rId1"/>
          <a:stretch/>
        </p:blipFill>
        <p:spPr>
          <a:xfrm>
            <a:off x="3411360" y="1600200"/>
            <a:ext cx="2319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ubital Tunnel Syndro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sthesia in ulnar dig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k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insic wa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bow 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ubital Tunnel Syndrome:finding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lnar nerve sublux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nel’s 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bow flexion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insic mus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s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Ulnar Nerve Tes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5" name="Picture 6" descr="DSCF0043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Ulnar Nerve tes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7" name="Picture 6" descr="adm_ulnar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Ulnar Nerve tes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9" name="Picture 6" descr="DSCF0049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ensory Distribu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1" name="Picture 4" descr="sensory01"/>
          <p:cNvPicPr/>
          <p:nvPr/>
        </p:nvPicPr>
        <p:blipFill>
          <a:blip r:embed="rId1"/>
          <a:stretch/>
        </p:blipFill>
        <p:spPr>
          <a:xfrm>
            <a:off x="1919160" y="2187720"/>
            <a:ext cx="53056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adial Nerv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3" name="Picture 6" descr="radial1"/>
          <p:cNvPicPr/>
          <p:nvPr/>
        </p:nvPicPr>
        <p:blipFill>
          <a:blip r:embed="rId1"/>
          <a:stretch/>
        </p:blipFill>
        <p:spPr>
          <a:xfrm>
            <a:off x="2859120" y="1600200"/>
            <a:ext cx="3424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Radial Nerve Palsy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st drop:  weak wrist/ finger ex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sation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ings dependant on etiolog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urday night pal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cture humerus: post re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nshot w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 operati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ensory Distribu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7" name="Picture 4" descr="hand_nerve01"/>
          <p:cNvPicPr/>
          <p:nvPr/>
        </p:nvPicPr>
        <p:blipFill>
          <a:blip r:embed="rId1"/>
          <a:stretch/>
        </p:blipFill>
        <p:spPr>
          <a:xfrm>
            <a:off x="2286000" y="1903320"/>
            <a:ext cx="464832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adial Nerve Te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9" name="Picture 6" descr="DSCF0041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Carpal Tunnel Syndrome: Median Neuropathy at the wrist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Cubital Tunnel Syndrome: Ulnar neuropathy at the elbow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Radial Nerve Palsy at the spiral groove of the humerus.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cratch-Collapse Te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nual Meeting of the American Society for Hand Surgery:   San Francisco 2009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n Ne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lnar ne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dial ner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Upper Extremity Nerv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3" name="Picture 6" descr="three_nerves"/>
          <p:cNvPicPr/>
          <p:nvPr/>
        </p:nvPicPr>
        <p:blipFill>
          <a:blip r:embed="rId1"/>
          <a:stretch/>
        </p:blipFill>
        <p:spPr>
          <a:xfrm>
            <a:off x="3411360" y="1600200"/>
            <a:ext cx="2319480" cy="44956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6019920" y="49528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pal tunnel: MED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5700600" y="491328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5779080" y="3389400"/>
            <a:ext cx="27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- Cubital tunnel: ULN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854320" y="239868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- Spiral groove: RAD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hank you!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edian Nerv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8" name="Picture 11" descr="median1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arpal Tunnel Syndrome :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Etiology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- a natural bottleneck in the course of median ner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roportion between available space and its contents = increased pressure within 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n nerve most delicate: mostly affected: functional disturb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arpal Tunnel Syndrome :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Etiology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roportion between Space vs. Conte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ual narrowing of the walls of the ca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 in the volume of its 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usually multifactor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arpal Tunnel Syndrome :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Etiology: nerve compress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5 mm Hg healthy subjec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 mm Hg  decreased epineural perf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 mm Hg  decreased axonal trans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 mm Hg   paresthe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 mm Hg   epineural ed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0 mm Hg   intraneural           ischemia,sensory/motor blo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ickening of the paraten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nic non-specific Tenosynovitis: occupational,reactive, horm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diopathic C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iopathi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85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heumatoi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9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t-traumati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3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u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3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cases                   &lt;1%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7T04:49:39Z</dcterms:created>
  <dc:creator>Nanda K. Sinha</dc:creator>
  <dc:description/>
  <dc:language>en-US</dc:language>
  <cp:lastModifiedBy>HCMARTINEZ</cp:lastModifiedBy>
  <dcterms:modified xsi:type="dcterms:W3CDTF">2009-09-11T18:54:02Z</dcterms:modified>
  <cp:revision>12</cp:revision>
  <dc:subject/>
  <dc:title>Compressive Neuropathy of the  Upper Extremity :::: </dc:title>
</cp:coreProperties>
</file>