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E74-C4DA-4FFF-8AD2-9564E409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352-144C-407F-B839-B824B77D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3F6-8F09-42C4-B766-EEFDDA6A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25D-4D9E-43C0-BCC1-B4F947AA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40F6A-EA0B-4759-8B6B-461F1898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89E5F-1A0B-4B76-853E-327D3B9F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F5867-6CFB-4435-AC41-60174AA3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0762F-2E8F-44B5-9777-6251B8D2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8C798-A7B9-4717-A0CD-E223977E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67AB9-8691-4637-9468-C2A1C6B9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E1844-3459-4698-8971-4394A64F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DFC-7341-4F7F-B09F-A31C6022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BE80-357A-4FE6-B8C2-288E2684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A095E-D6D1-41C8-B12B-F000AD7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EF588-5C7A-4176-A31D-6B437742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1083C-C3ED-4C8A-906C-C342E1DB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EE3CE-F8F8-4E64-B7FE-28F8F924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3FE-F3EA-40AE-8245-2C012E0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E25-5326-487C-8B3C-C634841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AA8-6F24-4257-9888-68F706CA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F1E-EB25-4EA7-BAA3-BA19D1B3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BDF-0F1C-49B5-BDAF-120F6E32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88E-F964-4A84-B1BD-627A688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013-C807-4CFC-8A24-D86B33C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B137-9945-4913-BC39-C3EFBAFE1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F7DF-EFB0-4DA4-B961-6D1660211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pressive Neuropath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::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diopathic 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number of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ing of para-tendinous tissue- specially of the FDP tend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edema, fibrinoid swelling, hyaline and mucoid degeneration follow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rotic thickening, increased collagen 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uenced by hormonal factors  and repetitive occupational over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 non-specific tenosynov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edema : primary causative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ondi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gger fi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Quervain’s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rmonal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ematous thickening of paratenons: third trimester of pregnancy or shortly after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 % of all pregnant women complain of some tingling, numbness of the fingers- resolves in most cases after deli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menopau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eptive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/Acute Specific Inflam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eumatoid Tenosynov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rculous tenosynov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pyogen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neous I.V. infu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st-traumatic 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nt trauma- edema,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pal bone dislocation- lu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l radial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wrist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united distal radial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teophytes from chronic arth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ystemic disea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x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yloi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el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romeg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Renal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nosis-Hist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turnal par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ness/tingling/burning or cramplike sensations-median nerv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of the resting hand-pathognom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subside with manual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/clum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ural aggra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nosis-Hist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imal pain: may radiate upto shou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ay subside in advanc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ing of cold, and swollen fingers: disturbance of autonomous function of median n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tenning of thenar eminen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:fi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s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el’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len’s wrist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’s wrist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niquet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 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le testing: abductor pollicis bre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4" descr="nervemain"/>
          <p:cNvPicPr/>
          <p:nvPr/>
        </p:nvPicPr>
        <p:blipFill>
          <a:blip r:embed="rId1"/>
          <a:stretch/>
        </p:blipFill>
        <p:spPr>
          <a:xfrm>
            <a:off x="2819520" y="2205000"/>
            <a:ext cx="32763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 of the anatomy of Median,Ulnar, and Radial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Picture 6" descr="apb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6" descr="ring_test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6" descr="ring_test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:fi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g stud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in radiographs: cervical,chest,wrist,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resonance imaging: unclear diagnosis,anatomic causes, failure of C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: space occupying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ctrodiagnostic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 Conductio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mental demyelination-&gt; slowed nerve conduction:conduction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yograph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xonal loss-&gt; Wallerian degeneration; muscle den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ctrodiagnostic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 clinic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baselin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out proximal compression,double crush, poly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ectrodiagnostic testing:limitation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large myelinated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only after Wallerian d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se negative results 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test- not dyna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ment: conserva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st spl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y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oid inj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Vit B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tching exercises / ergonomic equipments ( prev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rpal Tunnel Release (CTR)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cop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in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6" name="Picture 6" descr="ulnar1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495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940280" y="52941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yon’s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21880" y="36939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bital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394240" y="297180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ade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3" descr="three_nerves"/>
          <p:cNvPicPr/>
          <p:nvPr/>
        </p:nvPicPr>
        <p:blipFill>
          <a:blip r:embed="rId1"/>
          <a:stretch/>
        </p:blipFill>
        <p:spPr>
          <a:xfrm>
            <a:off x="3411360" y="1600200"/>
            <a:ext cx="23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bital Tunnel Syndro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sthesia in ulnar dig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w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ubital Tunnel Syndrome:finding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 nerve sublu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el’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flexio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6" descr="DSCF00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7" name="Picture 6" descr="adm_ulna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9" name="Picture 6" descr="DSCF004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sensory01"/>
          <p:cNvPicPr/>
          <p:nvPr/>
        </p:nvPicPr>
        <p:blipFill>
          <a:blip r:embed="rId1"/>
          <a:stretch/>
        </p:blipFill>
        <p:spPr>
          <a:xfrm>
            <a:off x="1919160" y="2187720"/>
            <a:ext cx="53056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dial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3" name="Picture 6" descr="radial1"/>
          <p:cNvPicPr/>
          <p:nvPr/>
        </p:nvPicPr>
        <p:blipFill>
          <a:blip r:embed="rId1"/>
          <a:stretch/>
        </p:blipFill>
        <p:spPr>
          <a:xfrm>
            <a:off x="2859120" y="1600200"/>
            <a:ext cx="342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adial Nerve Palsy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st drop:  weak wrist/ finger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ation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s dependant on et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rday night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 humerus: post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shot w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 oper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7" name="Picture 4" descr="hand_nerve01"/>
          <p:cNvPicPr/>
          <p:nvPr/>
        </p:nvPicPr>
        <p:blipFill>
          <a:blip r:embed="rId1"/>
          <a:stretch/>
        </p:blipFill>
        <p:spPr>
          <a:xfrm>
            <a:off x="2286000" y="1903320"/>
            <a:ext cx="46483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dial Nerve T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9" name="Picture 6" descr="DSCF00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arpal Tunnel Syndrome: Median Neuropathy at the wrist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ubital Tunnel Syndrome: Ulnar neuropathy at the elbow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Radial Nerve Palsy at the spiral groove of the humerus.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cratch-Collapse T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Meeting of the American Society for Hand Surgery:   San Francisco 2009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 n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l n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3" name="Picture 6" descr="three_nerves"/>
          <p:cNvPicPr/>
          <p:nvPr/>
        </p:nvPicPr>
        <p:blipFill>
          <a:blip r:embed="rId1"/>
          <a:stretch/>
        </p:blipFill>
        <p:spPr>
          <a:xfrm>
            <a:off x="3411360" y="1600200"/>
            <a:ext cx="2319480" cy="44956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6019920" y="49528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al tunnel: ME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5700600" y="4913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779080" y="33894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 Cubital tunnel: UL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854320" y="239868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 Spiral groove: RA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11" descr="median1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- a natural bottleneck in the course of median n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 between available space and its contents = increased pressure within 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 most delicate: mostly affected: functional disturb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 between Space vs. Cont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narrowing of the walls of the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 the volume of its 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usually multifacto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: nerve compr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 mm Hg healthy su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mm Hg  decreased epineural per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 mm Hg  decreased axonal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mm Hg   par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mm Hg   epineural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 mm Hg   intraneural           ischemia,sensory/motor b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ickening of the paraten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non-specific Tenosynovitis: occupational,reactive, horm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diopathic 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iopath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5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heumatoi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traum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ases                   &lt;1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04:49:39Z</dcterms:created>
  <dc:creator>Nanda K. Sinha</dc:creator>
  <dc:description/>
  <dc:language>en-US</dc:language>
  <cp:lastModifiedBy>HCMARTINEZ</cp:lastModifiedBy>
  <dcterms:modified xsi:type="dcterms:W3CDTF">2009-09-11T18:54:02Z</dcterms:modified>
  <cp:revision>12</cp:revision>
  <dc:subject/>
  <dc:title>Compressive Neuropathy of the  Upper Extremity :::: </dc:title>
</cp:coreProperties>
</file>