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6E3-9EFC-4DFA-8F6D-07CF4A0B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2CD-76F2-491B-BF0E-71FC8793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546-F0D3-4FA6-B4BC-18B70ECE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DA8-FEB5-4003-AB7E-8FFEFD5C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D2AEF-8260-45A2-8B32-9D25F812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0948A-15C3-4D83-8AAE-F96A0C9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191DA-45C1-40BB-9ACB-3579BE54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D29EA-BCF7-4BA6-A12D-95FF263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7BEE-FAB0-416E-BBF8-CBCB957C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DD93-7957-46B4-BBA2-F8C99FF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ED10E-2125-42D6-AA21-82A85B86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05E-682A-4846-AF07-F2A05A58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0B63F-2794-4A1E-9FA8-7B14CEF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B661C-D828-42F1-8F90-5B7D3E6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40DE-1D81-44B5-969A-1DE28C90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5C14-36DD-41A2-9EF0-BC06649D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7CDD-CA2E-40AC-A6A0-CCB9056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D64-F179-42BB-905A-A469D8F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DA3-98CE-4F7A-9307-C0E3396F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6FE-15A7-4494-B21F-7AEC348D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401-92D7-4392-B90D-9F146AF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060-8E11-44BD-ACC2-FE8F0B6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027-4284-46DC-8EF0-BD2817D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7BB2-06C1-4E19-8FB9-ECE877E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B94-9C7E-4D2C-88C3-35B8812E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63D-2BCF-424B-99AF-FAFD76F48A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ressive Neuropath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::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iopath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umber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ing of para-tendinous tissue- specially of the FDP tend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, fibrinoid swelling, hyaline and mucoid degeneration follow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tic thickening, increased collagen 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d by hormonal factors  and repetitive occupational over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non-specific tenosynov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 : primary causative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fi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Quervain’s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monal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ematous thickening of paratenons: third trimester of pregnancy or shortly after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 % of all pregnant women complain of some tingling, numbness of the fingers- resolves in most cases after deli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menopau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eptive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/Acute Specific Inflam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us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pyogen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neous I.V. infu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st-traumat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- edema,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al bone dislocation- lu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wrist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united 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phytes from chronic arth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ystemic dise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x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ylo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romeg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ness/tingling/burning or cramplike sensations-median nerv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of the resting hand-pathognom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subside with manual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/clum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ural aggra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pain: may radiate upto shou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y subside in advanc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ing of cold, and swollen fingers: disturbance of autonomous function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tenning of thenar emine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len’s wrist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’s wris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nique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le testing: abductor pollicis bre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4" descr="nervemain"/>
          <p:cNvPicPr/>
          <p:nvPr/>
        </p:nvPicPr>
        <p:blipFill>
          <a:blip r:embed="rId1"/>
          <a:stretch/>
        </p:blipFill>
        <p:spPr>
          <a:xfrm>
            <a:off x="2819520" y="2205000"/>
            <a:ext cx="3276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of the anatomy of Median,Ulnar, and Radial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6" descr="apb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6" descr="ring_test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6" descr="ring_test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 stu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 radiographs: cervical,chest,wrist,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resonance imaging: unclear diagnosis,anatomic causes, failure of C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: space occupying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Conductio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l demyelination-&gt; slowed nerve conduction:conduction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yograp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xonal loss-&gt; Wallerian degeneration; muscle den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out proximal compression,double crush, poly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ectrodiagnostic testing:limitation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large myelinated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only after Wallerian d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negative results 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test- not 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: conserva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spl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oid inj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Vit B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tching exercises / ergonomic equipments ( pre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pal Tunnel Release (CTR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cop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in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6" descr="ulnar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940280" y="5294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yon’s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21880" y="36939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bital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4240" y="29718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ad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3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bital Tunnel Syndro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sthesia in ulnar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w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ubital Tunnel Syndrome:finding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 sublu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flex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6" descr="DSCF00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6" descr="adm_ulna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Picture 6" descr="DSCF004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sensory01"/>
          <p:cNvPicPr/>
          <p:nvPr/>
        </p:nvPicPr>
        <p:blipFill>
          <a:blip r:embed="rId1"/>
          <a:stretch/>
        </p:blipFill>
        <p:spPr>
          <a:xfrm>
            <a:off x="1919160" y="2187720"/>
            <a:ext cx="5305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Picture 6" descr="radial1"/>
          <p:cNvPicPr/>
          <p:nvPr/>
        </p:nvPicPr>
        <p:blipFill>
          <a:blip r:embed="rId1"/>
          <a:stretch/>
        </p:blipFill>
        <p:spPr>
          <a:xfrm>
            <a:off x="2859120" y="1600200"/>
            <a:ext cx="342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adial Nerve Palsy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drop:  weak wrist/ finger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s dependant on et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day night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humerus: post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shot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per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7" name="Picture 4" descr="hand_nerve01"/>
          <p:cNvPicPr/>
          <p:nvPr/>
        </p:nvPicPr>
        <p:blipFill>
          <a:blip r:embed="rId1"/>
          <a:stretch/>
        </p:blipFill>
        <p:spPr>
          <a:xfrm>
            <a:off x="2286000" y="1903320"/>
            <a:ext cx="4648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Picture 6" descr="DSCF00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rpal Tunnel Syndrome: Median Neuropathy at the wrist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ubital Tunnel Syndrome: Ulnar neuropathy at the elbow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Radial Nerve Palsy at the spiral groove of the humerus.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cratch-Collaps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 of the American Society for Hand Surgery:   San Francisco 200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6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6019920" y="49528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al tunnel: ME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700600" y="491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779080" y="33894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Cubital tunnel: UL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854320" y="2398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Spiral groove: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11" descr="median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- a natural bottleneck in the course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available space and its contents = increased pressure within 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most delicate: mostly affected: functional disturb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Space vs. Cont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narrowing of the walls of the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the volume of its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sually multifacto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: nerve compr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 mm Hg healthy su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mm Hg  decreased epineural per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m Hg  decreased axonal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mm Hg  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mm Hg   epineural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mm Hg   intraneural           ischemia,sensory/motor b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ckening of the paraten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non-specific Tenosynovitis: occupational,reactive, horm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iopathic 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opath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5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traum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ases                   &lt;1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4:49:39Z</dcterms:created>
  <dc:creator>Nanda K. Sinha</dc:creator>
  <dc:description/>
  <dc:language>en-US</dc:language>
  <cp:lastModifiedBy>HCMARTINEZ</cp:lastModifiedBy>
  <dcterms:modified xsi:type="dcterms:W3CDTF">2009-09-11T18:54:02Z</dcterms:modified>
  <cp:revision>12</cp:revision>
  <dc:subject/>
  <dc:title>Compressive Neuropathy of the  Upper Extremity :::: </dc:title>
</cp:coreProperties>
</file>