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DC8-07F2-41F3-A8DC-28B32CB6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474-277E-4282-9C64-CA23235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66F-95CA-4A4D-ACD3-99D368E6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4CE-84BF-4708-96B6-4F74F105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1B6-CD9B-4C8E-A85A-823C46AD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115-7BD0-42E5-84D1-E18654F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24D-066D-459B-9B88-0857A511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E8D-44F0-4416-AC42-3FD06FC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B45-AF43-4A81-8E4D-D5AD3F2C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359-E244-4706-8941-66AED3B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2FC-C907-4735-8F06-3DD1B65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F8E-3431-4293-BEC9-1EB835F1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ADF-7765-4D7C-B78F-FB4152B14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EINU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HILDR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Botelho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Hospital &amp; Research Center Oak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NG THE FIRST AM 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shows normal protein excretion, no further work-up i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is abnormal (urine pro/cr ratio &gt;0.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roteinuria is persistent and not orthosta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 NEPHROLOGIST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ux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o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ic Lupus Erythem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:  WHAT IT IS NO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bsolutely not Minimal Change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indication for a steroid 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YMPTOMATIC PROTEINURIA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Albumin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onephritis work-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3, C4, CH5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, ds DNA, ?AN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ORTHOSTATIC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make a definitiv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Biopsy may be indi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arts of some glomeruli have s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presents as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en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le Cell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: 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med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scarring related to UTIs in association with vesicoureteral refl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ilateral, may cause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ilateral may cause asymptomatic proteinuria and hyper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year old girl presents for a sports 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 to have a U/A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5/5/no blood/no sugar/no LE/no nit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00 mg/dL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even if there is not a clear history of U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scarring may result in asymmetry of  renal lengths on 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ING U/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ly way to detect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een first AM v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avoid unnecessary testing or referr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/signs of glomerulonep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will focus on Nephrotic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dro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year old boy with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 2-3 week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periorbital swelling one week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x:  Aller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CONTIN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lling worsens and now involves his entir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EX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= 100/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periorbi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th sounds clear but decreased at the 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tes, but nontender abd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 pitting edema to t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cro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g.= 10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20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W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t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5 Granular 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d=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trites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WORK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=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=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=0.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l=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=1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=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3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=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arb=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PROTEINURI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VER/EXERCISE/ORTHO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A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MW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BULOINTERSTITI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CONI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URIN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 pro/cr ratio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0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onsider a 24 hour urine collection but decide again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er than 1000 mg/M2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consider in child with anasar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ly unusual to see pulmonary edema with nephrotic syndrome,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aggressive management with 25% albu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diagn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album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YOU COULD BE FOO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albuminemia without significant proteinu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losing ente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album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GIVES YOU NEPHROTIC SYNDROME IN A TODDL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proliferative 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BE EVEN MORE SURE THAT THIS IS M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dden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uria in 25% with MC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reati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BLOOD WORK TO BE DONE AT 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on varicella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IS NOT MINIMAL CHANGE DISEASE WHE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as an 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spicious in tee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 WHAT IS MC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ltered glomerula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of pod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ound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psing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outg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 IN CHILDREN IS CHAN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FSGS is on the 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increase of around 300% since the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GS is much more prevalent in African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MPTOMATIC OR ASYMPTOMATIC PROTEINURIA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, 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s, ra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U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logic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be steroid 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ha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CIDENCE OF 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?Related to the obesity epidemic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ssume our patient has minimal change disea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for a renal bio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hat do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 OF 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the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medication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YOU GET EDEMAT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lin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ncotic pressure is due to albu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bumin less than 2.5 mg/dL edema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umin infusions as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MEA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:  Low sa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re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ur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UTRITIONAL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dded sa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st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od in little plastic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milk and che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gm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UR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tempting but potentially 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tes intravascular de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ED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INTRAVASCULAR DEPLE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renal azot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ubular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mb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: entirely asymptomatic with a benign exam.  She has never had a UT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with skin breakdown/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NOT TO GIVE AL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 Albumin 1 gm/kg over 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ix at hour #2 and upon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hypertension and pulmonary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P THE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ne 2 mg/kg/day (Max 80 mg/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WILL RESPOND WITHIN 2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edictor of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NEWS AND BAD NE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S will likely get better with 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come back again and again an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 risk with intercurrent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TO PREVENT RELAP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 initial Prednisone therapy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g/kg/day for 6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r off Prednisone over a 6 week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 re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r more relapses within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relapses consecutively on steroids or shortly after sto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sponse to steroids after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RE RELAPSES TH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STER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TIMES STEROIDS AREN’T SO GR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of chronic steroid therap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GOOD STEROIDS GO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excessive steroids are required to control nephrosis, consider a steroid sparing a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wait for development of steroid side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MMON IS PROTEINURI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% OF CHILDREN WILL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+ OR GRE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1% WILL HAVE PERSISTENT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OID SPARING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spo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ICE OF STEROID SPARING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specific tissu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 RENAL BIOP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a steroid sparing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L CHANG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sparing agent of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g/kg/day over 8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carefully for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DE EFFECT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ic Cys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good intake of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urine specific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 blood draws to follow A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ticipate a prolonged (one year or more) medication free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care of patients with Nephrotic Syndrome is interesting and rewar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oo late to do a nephrology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R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the urine dipsticks only measure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urine protein/Cr ratio on a spot urine sample (normal &lt;0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our urin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roteinuria is transient or orthostatic, it is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E FOR ORTHOSTATIC PROTEINU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Give patient urine collection cup to take home.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 before 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awakening:  quick sitz b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mid void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igerate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for U/A and urine pro/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2:19:15Z</dcterms:created>
  <dc:creator>cho</dc:creator>
  <dc:description/>
  <dc:language>en-US</dc:language>
  <cp:lastModifiedBy>cho</cp:lastModifiedBy>
  <dcterms:modified xsi:type="dcterms:W3CDTF">2010-05-26T18:14:10Z</dcterms:modified>
  <cp:revision>8</cp:revision>
  <dc:subject/>
  <dc:title>MECHANISMS OF PROTEINURIA </dc:title>
</cp:coreProperties>
</file>