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F4FA-9DE5-4E2B-B263-3F604B9F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FBFD-79A0-4198-8021-6A2B8E69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9C3E-1EDC-4A62-880D-A8848D16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BA72-92D7-46FF-856F-F15102EF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3564-A550-48C9-907E-ADAA7BDB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9700-967E-4CB6-BA67-A66AE5DD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D9BE-069B-46A5-AB1A-761CDECB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2907-2F2C-4011-857D-023D09C8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8189-7C4D-4812-BCC9-024EA346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884D-F650-4F84-A1E0-1FEC95E7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C8B-D4C3-4D73-9223-3C4D1886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7DA5-FA47-447B-B61D-431CA355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E942-346C-4001-A2AF-42F9B5CB0D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TEINURIA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CHILDRE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bara Botelho M.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’s Hospital &amp; Research Center Oak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PRETING THE FIRST AM VOI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first AM void shows normal protein excretion, no further work-up is nee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first AM void is abnormal (urine pro/cr ratio &gt;0.2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eat dir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eat s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YMPTOMATIC PROTEINU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proteinuria is persistent and not orthostatic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 TO A NEPHROLOGIST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FFERENTIAL DIAGNOSIS OF ASYMPTOMATIC PROTEINU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3123720"/>
            <a:ext cx="79250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al Segmental Glomeruloscler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S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ux Nephropat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merulonephri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ic Lupus Erythemat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YMPTOMATIC PROTEINURIA:  WHAT IT IS NO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297180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bsolutely not Minimal Change Nephrotic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is no indication for a steroid t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SYMPTOMATIC PROTEINURIA: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K-UP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120" y="2361960"/>
            <a:ext cx="6705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**Albumin**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omerulonephritis work-u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3, C4, CH50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patitis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A, ds DNA, ?ANC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ultras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DMSA sc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NORTHOSTATIC ASYMPTOMATIC PROTEINU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t to make a definitive diagn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Biopsy may be indica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CAL SEGMENTAL GLOMERULOSCLER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parts of some glomeruli have sc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tly presents as nephrotic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present as asymptomatic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incidence of progression to renal fail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S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er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d renal m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t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betes Melli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ckle Cell Nephropat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mune medi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SGS:  TREAT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76520" y="220932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er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 inhibi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mune medi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medro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cineurin inhibi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copheny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FLUX NEPHROPATH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scarring related to UTIs in association with vesicoureteral reflu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bilateral, may cause renal fail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unilateral may cause asymptomatic proteinuria and hyperten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C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 year old girl presents for a sports phys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nd to have a U/A wit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15/5/no blood/no sugar/no LE/no nitr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100 mg/dL prote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FLUX NEPHROPATHY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AGN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MSA Sc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 even if there is not a clear history of U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lateral scarring may result in asymmetry of  renal lengths on renal ultras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REENING U/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nly way to detect asymptomatic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 effectivenes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reen first AM vo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 to avoid unnecessary testing or referr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MPTOMATIC PROTEINU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mptoms/signs of glomerulonephr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ss hemat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t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nal insuf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hrotic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 will focus on Nephrotic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ndrome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C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e year old boy with sw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iously heal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I 2-3 weeks 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d periorbital swelling one week 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x:  Aller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ASE CONTIN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welling worsens and now involves his entire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AL EX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P= 100/5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ed periorbital ed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eath sounds clear but decreased at the 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cites, but nontender abdo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+ pitting edema to thi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rate scrotal ed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K-UP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inaly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ll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.g.= 10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-20 RB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u=ne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WB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t=ne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-5 Granular ca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d=sm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in=n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trites=n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WORK-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N=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b=1.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=0.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l=3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=13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ig=3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=3.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=1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carb=2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CHANISMS OF PROTEINURIA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OMER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VER/EXERCISE/ORTHOSTA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MERULAR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B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MW PROTE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UBULOINTERSTITIAL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NCONI’S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FLOW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URINE STUD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ine pro/cr ratio=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10 is considered nephrotic range protein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onsider a 24 hour urine collection but decide against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ater than 1000 mg/M2 is considered nephrotic range protein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X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t to consider in child with anasar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sk of pleural eff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remely unusual to see pulmonary edema with nephrotic syndrome, unles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nal insuf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ly aggressive management with 25% album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HROTIC SYNDRO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eria for diagno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d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phrotic Range Protein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albumin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lipid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YOU COULD BE FOOL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albuminemia without significant proteinur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in losing enteropat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eased albumin syn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ymphed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GIVES YOU NEPHROTIC SYNDROME IN A TODDL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 Change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 Change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 Change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al Segmental Glomeruloscler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ran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ranoproliferative 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BE EVEN MORE SURE THAT THIS IS MC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dden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blood pres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hemat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maturia in 25% with MC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Creatin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Complement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responsiv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 BLOOD WORK TO BE DONE AT PRES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ment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ck on varicella stat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 IS NOT MINIMAL CHANGE DISEASE WHEN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ation as an inf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ymptomatic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complement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suspicious in teena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 WHAT IS MC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ly altered glomerular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sion of podoc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ound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responsiv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psing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outgr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HROTIC SYNDROME IN CHILDREN IS CHANG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idence of FSGS is on the r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matic increase of around 300% since the 1960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SGS is much more prevalent in African Americ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YMPTOMATIC OR ASYMPTOMATIC PROTEINURIA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elling, gross hemat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int pains, ras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ious U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w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od pres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d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CAL SEGMENTAL GLOMERULOSCLER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20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logic Diagn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likely to be steroid resis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present as asymptomatic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er chance of progression to renal fail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CREASED INCIDENCE OF FS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?Related to the obesity epidemic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esity induced FS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tension induced FS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C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assume our patient has minimal change disease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need for a renal biop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what do we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MENT OF NEPHROTIC SYNDRO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25146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the ed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 com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p the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ize medication side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O YOU GET EDEMATO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696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lin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0% of oncotic pressure is due to albu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albumin less than 2.5 mg/dL edema 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bumin infusions as 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MEAS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7315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et:  Low sa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 restr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uretic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UTRITIONAL ADV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added sa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fast f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food in little plastic pack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 milk and che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gm/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URE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3915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y tempting but potentially danger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tes intravascular deple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risk of AT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risk of thromb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LICATIONS FROM EDE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4920" y="26665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ntaneous Periton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llul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ural Eff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LICATIONS FROM INTRAVASCULAR DEPLE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4920" y="2895480"/>
            <a:ext cx="7162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renal azot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 tubular necr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mb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case: entirely asymptomatic with a benign exam.  She has never had a UTI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TO GIVE ALBUMIN AND LASI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240" y="274284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ton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ural eff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edema with skin breakdown/cellul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NOT TO GIVE ALUMIN AND LASI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266652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ESTHETIC PURPO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GIVE ALBUMIN AND LASI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% Albumin 1 gm/kg over 4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six at hour #2 and upon comple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ch for hypertension and pulmonary ed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P THE PROTEINU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dnisone 2 mg/kg/day (Max 80 mg/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0% WILL RESPOND WITHIN 2 W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t predictor of MC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OD NEWS AND BAD NEW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CNS will likely get better with stero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ill come back again and again and ag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ecially a risk with intercurrent ill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IES TO PREVENT RELAP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ng initial Prednisone therapy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mg/kg/day for 6 w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per off Prednisone over a 6 week inte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ME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t relap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or more relapses within a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depen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relapses consecutively on steroids or shortly after sto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re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sponse to steroids after 4 wee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ORE RELAPSES THE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STEROI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METIMES STEROIDS AREN’T SO GRE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de effects of chronic steroid therap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e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grow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steopor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tar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ia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be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GOOD STEROIDS GO B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excessive steroids are required to control nephrosis, consider a steroid sparing ag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need to wait for development of steroid side eff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COMMON IS PROTEINURIA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696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-10% OF CHILDREN WILL HA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+ OR GRE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1% WILL HAVE PERSISTENT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ROID SPARING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2590920"/>
            <a:ext cx="7238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yclophospham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copheny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ineurin inhibi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yclospor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crolim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OICE OF STEROID SPARING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2742840"/>
            <a:ext cx="7238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ends on specific tissue diagn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DICATIONS FOR A RENAL BIOPS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238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re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for a steroid sparing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lesc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NIMAL CHANGE DISE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251460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sparing agent of choi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yclophospham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mg/kg/day over 8 wee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itor carefully for side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DE EFFECTS OF CYTOX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morrhagic Cyst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ourage good intake of flu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itor urine specific gra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trop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quent blood draws to follow AN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rt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ir lo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VANTAGES OF CYTOX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anticipate a prolonged (one year or more) medication free rem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KE HOME MESS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ing care of patients with Nephrotic Syndrome is interesting and rewar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not too late to do a nephrology fellow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THE PROTEINURIA REAL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at the urine dipsticks only measure concent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uate urine protein/Cr ratio on a spot urine sample (normal &lt;0.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4 hour urine coll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THE PROTEINURIA DANGERO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2590920"/>
            <a:ext cx="76201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proteinuria is transient or orthostatic, it is benig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VALUATE FOR ORTHOSTATIC PROTEINURI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*Give patient urine collection cup to take home.**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id before b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on awakening:  quick sitz b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lect mid void s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rigerate s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d for U/A and urine pro/c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22:19:15Z</dcterms:created>
  <dc:creator>cho</dc:creator>
  <dc:description/>
  <dc:language>en-US</dc:language>
  <cp:lastModifiedBy>cho</cp:lastModifiedBy>
  <dcterms:modified xsi:type="dcterms:W3CDTF">2010-05-26T18:14:10Z</dcterms:modified>
  <cp:revision>8</cp:revision>
  <dc:subject/>
  <dc:title>MECHANISMS OF PROTEINURIA </dc:title>
</cp:coreProperties>
</file>