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4B1F-030A-4853-BE97-B079A13C7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F528-B1A7-4419-A895-904135979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FFE3-2C5F-42E2-9465-97D4E3ABD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ADDD-6628-45AF-BFB4-5A12FA11D9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F37B-A4C1-4427-A099-1EC6040C02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United States with Judeo-Christia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131F-3478-4E44-ABDA-F2DFB2DC0D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9E22-494A-4C26-9CDE-4622AE463F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B6A0-BB00-48F9-9698-110B0322B2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46BB-E699-4595-852C-E732B160F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92E-D3EC-4BA3-A8F2-4CDFFDC66B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FA9-E829-46A7-B589-69B7C9DE1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2000 PATIENTS IN RCT IN SEVERAL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A9FC-EBD9-4F20-A3CE-8B05A901ED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telling--care with some ethnic and religious groups; some Northern european  and asian cultures feel that saying the prognosis out loud will make it come true; others want no “negaive” news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4B1F-918B-4C31-80C2-25B513D965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36CC-5BBA-4BDC-86A0-C10B8D0D2E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4577-ADE1-4225-B4F2-072985757F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5E60-A795-4246-A884-ACF55709A7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58E2-381D-4151-A63B-DE3D796BBE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FF5-20F4-45B1-97F7-911ED122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9EE-6440-4F5E-AB00-275AA30E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811BE-D43E-4FBA-8120-AD3CD478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8A26A-E04E-4419-A956-48E3D33D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23DFD-2AF3-425C-A968-6592DD8D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82FAA-E862-4269-BE07-8285DFA5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EACC1-1A47-4307-A60F-AAE1EAB9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5761A-8EFD-4554-BE7B-CF09541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6BF4B-F767-411F-B91C-C3A61CBB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CA9A3-DDFA-4192-9C55-838596AD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2B0E1-9330-41C2-AFCA-334A2AD7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FB65B-A786-4329-8FAF-1009B07D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862-A466-4941-8368-4D4495FE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7C42B-E641-46F0-8675-DAB4B016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538C4-727A-4844-A0D8-7B22E60B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14FE3-71A3-40CA-A767-1C1BC6E8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9166-4CE2-4CC5-93AB-200A124B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60411-DF37-43E9-8CF9-B528219B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5D4C4-0658-46CB-AEBA-A91894EB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0CB71-9D64-41C6-BCDF-56763D5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C96E4-B0BE-4B3A-B600-488207A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4F525-4A21-4420-95BA-EF8FC870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4A236-FBC7-4544-AE89-42A0C419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11B-AF9E-42CB-8FB3-895AF307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A3BA4-8757-4438-81FD-3872A793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A50FA-5F28-4393-AD36-03390E12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D7A40-6BA6-49ED-B361-24751B45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462C8-4C95-4ACF-B0A9-C2EAE88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9DDE2-35B6-4D06-ABF9-18EDDF20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0F138-BB8F-4EB8-9B5E-4E17406F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E7C6D-C181-4A2E-88A6-5A824BB4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ACA4D-6819-4EFB-8245-7B0B9C58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3CE2-0BAB-4AF0-936F-0D852CB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BC8A4-39BA-45E9-A076-EDB13CE0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ACD39-ED65-43E6-B0C9-BA860C43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B3FE8-3EFB-4EC8-BDBA-28A81B50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F0C7F-AC00-42E7-8F0B-757872C2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DE3CA-5592-4FAC-B890-4175F373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D796D-29A4-48B7-B547-E7CFD6AA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0016B-2728-48AD-9B1E-04C09042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56C77-4AAF-4425-9E3F-A431887C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8F56C-7E92-443B-9822-57284165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44657-F43B-44A0-800E-674E5625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8F5AF-AEC4-41E8-87E0-B4783679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5578C-BD16-4393-8274-1FF8E37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9D1ED-AAEB-4C16-A325-8023CF25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3965A-E600-4F71-9C6C-52D46BD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BE83A-337D-4A02-9422-20930D1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278E1-6280-4C95-81BE-737C204F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1C87F-D271-4373-8ABC-677DCE32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E6669-0BE6-4E1A-9EEF-D3BB5F63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3D5CA-F34E-461F-B83F-5F2743CE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8C42B-6617-472A-B94C-575275D6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8DEB-6FBA-4D23-B832-D398F1D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77A2D-DDC8-4039-B440-5CC5DF8B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75C7B-1D1E-4DE2-B347-AB3D55A3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65F-0E1D-4011-B10D-F974D07E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B9918-6721-4481-97F2-BEA2EB35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AB2F1-45B6-49F9-B3A8-263BDEA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6F2EC-4A2E-45C2-B6FB-A0BC2E95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0B57A-924F-4B6E-AFF0-BB9E6F78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DA67F-FD0F-4F46-9F86-3D434DAE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B343B-FA44-4140-9372-D5AFD24C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A71B-224B-4F3B-B3C1-04CC02A8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7173A-08E5-4332-9497-9C9B7055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9492-AE41-48D1-8C37-214741CF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352D-44A1-471F-975D-E3850EC9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3F0-14D2-49DA-AA09-B725E470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1D34-7018-4AE9-986B-B8F9FD57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8154-FB1D-4781-A8BA-0010405A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939F-E00A-4D39-94CC-AB2BA67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5A2C-1445-4DF9-B8A3-A8EA1C4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90EA-DD57-4607-913F-7012A3C0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F8691-F33E-4455-B540-60EE704C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F383-57DC-43CC-9DCC-77B2F30F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09B3-5F6B-4352-9646-06E49DB8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84A5-0E6F-484A-8A12-8451E316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5E91B-1C4E-4228-8927-4A9B13D0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70C-7A0C-430E-B232-D9D39B65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0196-0E10-4A14-8EA3-F5075FA1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3139-B599-4EA2-A105-B64061C4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7AB0-38BB-45BB-9461-8D8CA9E6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6F2CB-B543-4E82-8483-2086008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A3FD-136D-468E-BA7A-16D12ECE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1E34-722C-4EB9-A6D4-D6C9143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4C849-87F7-489B-AA3F-67EA8B47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2DF54-519A-4F67-8CEF-24BE57A8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18889-DAC6-4FBD-898D-AD8C54B5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64F5-0812-4175-B693-145ABE7B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689-9934-4F69-A1FF-D76426BB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A7B0-E366-46DC-B02B-71DCD138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E5BA6-61D3-4329-82EC-550320A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49B4E-8BA9-4647-9B52-F2E9AEDC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075F-18CD-40AC-8736-A30CC65D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9175D-926F-4242-B542-C593918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8C00-4136-48CA-BD0F-42AA4CD1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9033F-1F11-456D-863D-C8FB203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5A7F1-398D-48C2-9157-3A6C5753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D8331-8444-4C18-947F-3BF06D0A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2A895-E786-49F0-B3B5-8FD2EAE3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4CF-4D6E-4EC7-BE8F-4978C6A1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41CA5-D2BD-4990-9EED-342F1B91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B976-43A0-473E-B7BD-CFA5510F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DB308-2145-4EBF-89EB-A0AC8B82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97807-A919-497C-ABD9-4C4B31E3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78C76-9AAA-4455-B024-44409628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6BB98-7D12-4575-80DF-2DCDBF5A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F8806-6A5E-4334-B30A-C52EA14D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CE341-5930-4DF1-861E-C9E7A5FF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049F9-4BF5-474C-97B2-508CFD09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BED50-9660-49F7-82FD-4B897EB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653-993C-4402-86B1-E212AB8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4707-AC3F-435F-8BCD-6CAFB72B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4854-A1C3-49B4-8138-95125729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BE826-647C-4935-8C0D-918A34A2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06C09-BE9B-4124-9D63-A43B03B5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70DBA-846A-490A-9A3B-873A9BB2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92C9C-4E0A-4CAC-AE42-E4BC6DE3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5FA79-3430-4D3B-9B53-53FDF2D0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14691-67E7-4E49-825E-05BEF50C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A77C1-5264-4ABB-8A9C-74D07050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04DA8-7CD0-4F5D-88AA-343D8C6F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676-7236-4BA8-B00F-2FD32BF5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140B6-15B3-43D2-BD4B-B2FC473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15841-DB39-4CC6-8930-87264DB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6486-7D5D-4C8B-A8E0-32DAA265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B9EB1-CAB2-465F-B709-A1422ABA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EA550-9E8D-43A4-AAE7-17A0D162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FBB11-F2AE-4264-B733-0004F461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7D0A2-AC44-415A-8218-4B97CED4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84F1E-DDDB-4B6A-8C5F-DF34E886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C81B5-A085-49DD-B2E6-8793A526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6883-B383-40D4-887C-1468D255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E34-653C-47DA-9ADE-348C03F7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79223-F25B-495B-9209-FA9257E5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B889A-7674-4ACE-A2E4-79A8F4FF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7BC90-7D70-4BBF-A2F6-61F4B5F3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4FA2A-4F9C-42FD-86D1-D5452CE1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5C3CF-2266-4D45-BE77-7AB0D418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454F2-844C-4D65-A49E-5B743D12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EE75F-6118-4942-B3B8-AC7F3117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09DFF-6BD3-461E-9FD9-7BA53FBA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C6A9B-1ABD-46A8-86B4-F6C347D3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D79D4-BFBC-4714-BDC2-4D09E179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3094-E539-475C-AAD0-7CBC67F28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3DFD-03CE-42C3-ADF7-03423B625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FE99-5E6D-4B82-BE1B-0B884A0A0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CBAD-22D9-4363-AA15-444682E74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D5D1-A153-4EA0-B1FC-31BAD5901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4F8F-1409-46B5-B27E-3087C5E02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BAF-F9AB-4FEB-BA3E-06E11F763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96F6-815A-43DF-8602-8E71B6D38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B0C9-FF3B-4616-968A-162E98FEF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C86A-75A9-4756-B5FE-69E6E9D6F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F85B-0E51-4443-AD8F-DF81A992E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C1AE-32D6-4B2F-92F0-004CFB978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Arrow" TargetMode="External"/><Relationship Id="rId2" Type="http://schemas.microsoft.com/office/2007/relationships/media" Target="file:///tmp/home/.config/libreoffice/4/user/gallery/Arro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2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:  OLDEST FORM OF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EST SUBSPECI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th century and bef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to illness involved family, churc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few life prolonging treat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t death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was part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th century and 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Provider Ro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and Pro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the patient would succu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War changed nature of death and dying--no longer family at death b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is Republic of Suffe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By Drew Gilpin Fa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---life prolonging R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gave way to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 in 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stomy t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fe sustaining/prolonging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 took lesser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of the terminally ill given less importance in medical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 became socially unacceptable and seen as medical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412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WE TO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T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4" descr="cartoon"/>
          <p:cNvPicPr/>
          <p:nvPr/>
        </p:nvPicPr>
        <p:blipFill>
          <a:blip r:embed="rId1"/>
          <a:stretch/>
        </p:blipFill>
        <p:spPr>
          <a:xfrm>
            <a:off x="-430200" y="-457200"/>
            <a:ext cx="10005840" cy="7773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MiniMe:Users:sally:Desktop:SafariScreenSnapz001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1600200"/>
            <a:ext cx="8142120" cy="461016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457200" y="22860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IS S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27-30% Medicare dollars spent last year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alliative care services in hospitals save mone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Hospice referrals sav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for Advancement of Palliative Care Website:CAPC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VIATE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of death and dying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ral to palliative care and hospice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death traj cancer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death traj chronic illness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death traj dwindling"/>
          <p:cNvPicPr/>
          <p:nvPr/>
        </p:nvPicPr>
        <p:blipFill>
          <a:blip r:embed="rId1"/>
          <a:stretch/>
        </p:blipFill>
        <p:spPr>
          <a:xfrm>
            <a:off x="609480" y="1828800"/>
            <a:ext cx="773460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dwindling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Picture 20"/>
          <p:cNvPicPr/>
          <p:nvPr/>
        </p:nvPicPr>
        <p:blipFill>
          <a:blip r:embed="rId1"/>
          <a:stretch/>
        </p:blipFill>
        <p:spPr>
          <a:xfrm>
            <a:off x="1905120" y="1881360"/>
            <a:ext cx="5041800" cy="3900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4" descr="Picture 26"/>
          <p:cNvPicPr/>
          <p:nvPr/>
        </p:nvPicPr>
        <p:blipFill>
          <a:blip r:embed="rId1"/>
          <a:stretch/>
        </p:blipFill>
        <p:spPr>
          <a:xfrm>
            <a:off x="1828800" y="1967040"/>
            <a:ext cx="5257800" cy="4071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oyment Affil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s Innovative Hosp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cramento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of-life pilot for Medi-Cal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ministered b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S Healthcare starting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land Memorial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at best--little or no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seeing and Foret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tors are overly optim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akis, N.A. and Lamont, E.B. (2000).Extent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ants of error in doctor’s prognoses in terminally ill patients: prospective cohort study; BMJ 320, 469-7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patients cho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ST--Cal Legislation AB 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January 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4" descr="polst map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786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 “Patient Self Determination Act” of 1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inpatients be asked about advance care dir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law “Right to Know End-of-Life Options” Act AB 27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cted 5/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hat have a terminal illness have to be given accurate info about treatment options and 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YEAR in Contra Costa Cou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lot program for Medi-Cal and End-of-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ed by APS Healthcare--more nex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it so hard for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--My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ard conversation will depress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ll lose 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ing it will make it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4" descr="Picture 19"/>
          <p:cNvPicPr/>
          <p:nvPr/>
        </p:nvPicPr>
        <p:blipFill>
          <a:blip r:embed="rId1"/>
          <a:stretch/>
        </p:blipFill>
        <p:spPr>
          <a:xfrm>
            <a:off x="2057400" y="1698480"/>
            <a:ext cx="4724280" cy="3699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NCIAL DIS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no financial gains or incentives for this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4" descr="Picture 32"/>
          <p:cNvPicPr/>
          <p:nvPr/>
        </p:nvPicPr>
        <p:blipFill>
          <a:blip r:embed="rId1"/>
          <a:stretch/>
        </p:blipFill>
        <p:spPr>
          <a:xfrm>
            <a:off x="2133720" y="1752480"/>
            <a:ext cx="5029200" cy="4021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4" descr="Picture 33"/>
          <p:cNvPicPr/>
          <p:nvPr/>
        </p:nvPicPr>
        <p:blipFill>
          <a:blip r:embed="rId1"/>
          <a:stretch/>
        </p:blipFill>
        <p:spPr>
          <a:xfrm>
            <a:off x="2362320" y="18288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Picture 31"/>
          <p:cNvPicPr/>
          <p:nvPr/>
        </p:nvPicPr>
        <p:blipFill>
          <a:blip r:embed="rId1"/>
          <a:stretch/>
        </p:blipFill>
        <p:spPr>
          <a:xfrm>
            <a:off x="2362320" y="1625760"/>
            <a:ext cx="5181480" cy="4228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and death are inevi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or hospice--can alleviat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s--we have them--think about them; discuss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life-limiting ill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essive disease modifying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sasample@comcast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ave everyone thinking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when dealing with their chronically i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courage discussions with thos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alize that just because we CAN do a treatment doesn’t mean we SH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me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dies--it is not a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stigma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 Today and the HCP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levant references to the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Care of the entire person and family--physical, psychological, social and spiri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to minimiz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sell,E.J.(1982).The nature of suffering and the goals of medicine. NEJM 306(11),639-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NEW CMS DEF PC 2"/>
          <p:cNvPicPr/>
          <p:nvPr/>
        </p:nvPicPr>
        <p:blipFill>
          <a:blip r:embed="rId1"/>
          <a:stretch/>
        </p:blipFill>
        <p:spPr>
          <a:xfrm>
            <a:off x="1219320" y="190512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graph"/>
          <p:cNvPicPr/>
          <p:nvPr/>
        </p:nvPicPr>
        <p:blipFill>
          <a:blip r:embed="rId1"/>
          <a:stretch/>
        </p:blipFill>
        <p:spPr>
          <a:xfrm>
            <a:off x="-152280" y="-3048120"/>
            <a:ext cx="9534240" cy="1043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23:40:13Z</dcterms:created>
  <dc:creator>Super User</dc:creator>
  <dc:description/>
  <dc:language>en-US</dc:language>
  <cp:lastModifiedBy>HCMARTINEZ</cp:lastModifiedBy>
  <dcterms:modified xsi:type="dcterms:W3CDTF">2009-10-26T18:50:14Z</dcterms:modified>
  <cp:revision>38</cp:revision>
  <dc:subject/>
  <dc:title>PALLIATIVE CARE AND HOSPICE Basics</dc:title>
</cp:coreProperties>
</file>