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DC35-E881-4CDA-93EF-4469F7EF3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6E26-2937-4F97-AF16-C168CCAA96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AD7E-5211-42DB-B352-F94C3BC3D6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5594-F48C-41A0-A3AA-8E2291904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8A04-2C37-4106-A4D1-71E272754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United States with Judeo-Christia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66C-D26E-4FE6-A780-0E5DDD9640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591-9E1E-43A0-8C7F-79C7F644B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E2D-87E2-4A71-9161-F8169EBA5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3F32-43E3-4FCF-B58B-6761268398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2E4A-FC57-4EED-8AF4-DBC068EAD9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F2B2-2BA1-4F52-8AD4-E87B0410FF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00 PATIENTS IN RCT IN SEVERA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A194-1778-473E-BB76-62F27902F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telling--care with some ethnic and religious groups; some Northern european  and asian cultures feel that saying the prognosis out loud will make it come true; others want no “negaive” news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D891-8C92-4EFE-B772-37776C841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A152-CC89-4B16-B196-F7A73B2616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49C-DC8B-4F05-A8F2-DA4E0DD46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2BD3-AD0A-4DA0-A36C-8528F827B7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5900-4E64-4E8B-80EF-6CC6A91415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459-7CA3-454B-BF59-CF60A6B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25F-C26C-4447-88D0-0B77D451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FC6F8-F89E-4BC9-96FF-D75E8FB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7BFCF-9668-4F37-A370-08C47CE7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F00E-4783-4FAB-8CEF-DDC0F8C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8B31-5966-4A96-85D6-1F44518E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FA7A-131A-4804-809F-1605FD4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DE26F-9668-421D-BCDC-6D58E87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87AD2-0D10-49E1-A8EA-66C7746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5FB84-3BBF-4EEA-9338-DE7BF1ED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BFD0-FD7B-4BF2-B97D-5B717848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B650E-5722-401E-A7CA-72E5FBC6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DE7-3ECA-414A-81CE-4BD47602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9592F-BE28-46DB-9019-78C4B60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FCFE7-D102-4355-81A2-A31D278F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5084C-29E5-4FDA-AF63-5D64B76F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9CC8D-7334-4AF4-A5DC-28A68D3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4FC64-6A55-49D8-BF8E-DF3AA532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966E-CCBA-4406-B11C-DD92D0E2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43693-01A4-418F-8CC9-3BB078F7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0AE66-1B59-41F8-BFC6-7A69CEB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72E38-89A5-4192-8653-7E89491D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316D5-6715-48E7-AE37-2DD0BB70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65E-BDB7-4B7B-9799-2047CBDF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50A25-6BE4-45CF-AB5A-64088D8F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1CC10-2287-4FA2-A9F6-DA7D58F4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DA324-EFDB-4225-BF66-2B4ED9D3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9872C-3A50-4228-B2DE-873134BC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D5642-10EC-4B21-9CAB-8A8DBA20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0014D-6C5A-4762-ADF9-B870F7BF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DEE5D-C902-4AB5-8421-C2AFF88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AC7CE-5AC8-4C1C-A7C6-CE4F90C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B8225-1FFD-45C9-A136-1D36242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42241-7B44-4910-9FF5-C694DBE1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F581A-E930-45F3-81BE-D2D5C276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F7ECC-9EBC-4582-8CA7-2B6069CF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F5C6A-F0ED-415B-AD15-69F8E2AB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72C4A-FB17-49B4-B00F-46F4F4BE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1A8F0-3CE6-4B66-8BA6-CF1570F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694A0-A6A7-4888-8D66-6FD264D8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F43A3-292D-444C-B838-4D727DBF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B719E-9DB3-4A14-8F68-E3AB7CCB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B3739-4CB5-4925-8599-78019B6E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67DC9-6C22-4D89-9528-6277D131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07CD7-D953-478A-8460-A1EE3C9F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565ED-19C2-4D1D-9F72-69C69198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52937-0B5B-4B47-ABA4-853A9D2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AAD1D-4D88-4855-A24C-0969882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FE3E4-A89A-400C-A8D9-2F28485F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74ABE-6FC4-4A77-A6B1-54595D4B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FF148-4CA0-4EAC-AA3E-33B5DC0A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9CAA3-23DA-4AA7-9A32-5215D039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D236E-B628-4CFE-8469-F6670B2A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9E88E-DE39-455E-8CA3-10FDC681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BD214-4B75-4834-8146-53E865AF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7FA66-80AF-42B9-8520-CC8DA8A0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0AB-E9BB-43D6-B959-397F644F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20BF3-4315-4516-BDBF-92458484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2BB06-D7BB-4140-81EA-6A4C6E9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4CFF-D634-43FE-9F59-B97C6DD2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BAD21-C4D2-48F3-AEC0-451ECE49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FA0AA-0079-4D62-BE6E-995D0F34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C9E9-A0D3-4359-B728-546FBDBE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3EB0-017C-454C-9AB0-331E984F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53CD-3619-49D3-95DB-71373467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68D0-D606-48C6-B056-71376E5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C901-B21D-48A2-92B5-69D03731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413-92A0-4251-816E-4E05BA6E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FD65-9C64-4838-83C0-0D86BA7C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541A-7854-4016-ACB0-3C504847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422C-E380-4DEF-896F-BAF516B6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82DF7-4DF4-47F0-BF89-943D7D05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ABA6-9CAB-423D-884A-3B13B40A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FD2B-1057-4668-906D-F7E42EBE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709E-4CB0-44A2-ACD9-DCF517B2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DDAA-B900-4FC1-9DC9-4AC19BA3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FD793-4283-47E2-9801-4A956B2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B8B6-10BB-409D-B6B1-5981B5F4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ED0-4D1A-4B41-B07D-2FC3662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795E-D639-41AB-A368-B0CC0FD2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8445-8BA6-464B-BDCC-E7B4781F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2CE77-B28B-432F-937D-6C16424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5C50-A521-4B6F-B548-6551131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86FA-EEAD-43DB-9CBE-BB00AE7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2AB71-5A46-4BB9-B943-2E128C2E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ABDF-04B2-47B7-BCED-7C5FC9D8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B833-29D0-4A28-A876-517E5B50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33D1-650E-4794-B8B4-0099ADBF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3FBED-3462-4BFE-B2B8-1974C9EE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D18-EC12-420E-AD72-56AFA4A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6340-6F37-4D18-A41C-B250F335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3FB21-38A3-43D7-B8CF-3145F3AE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20763-EDEB-4424-8864-1BF16143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3A995-CB88-4D51-AB66-10ACC03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7C16-1404-4F68-B8E1-8BB8EFA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E404A-3213-43C3-A3B1-EF1F6B5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B6BAA-B242-43E5-B50A-D473BA95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CD6C5-B2A9-4338-8BE2-4077F33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3135-7FB7-4AFC-94A9-244BA2D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B439F-F0B5-4C62-AAB3-6B7DB57E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631-9010-4ABB-80B0-CBA9AF6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060D-BAF8-45CF-B0C1-DA88CBE7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32B2-7B28-4C19-9177-331192F3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850EC-DD0E-4876-8E13-E6350093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8D89-3337-49D6-930C-C0CE60FC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6C954-31BB-46BD-B934-90B07119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73C3A-B3CF-4F7C-811B-C33AA798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4B57-B140-483F-AEBE-F37D3FBF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BDBEE-0329-4E42-998C-73E5F80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E00EF-3111-4009-BC5C-EA545C30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4BAA-CC15-4709-A452-1CBAA48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5AF-1B4F-4C32-8715-E6B1AF58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A6AB-6FF2-40D5-86BD-A52A3AB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C651-C52E-4CE6-8C1A-B362D3FF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28F2-B057-4280-9F27-A5A34D44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B453D-43EB-4FCF-BD33-2A76215D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CF7AC-2070-4291-B32C-06AB158E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273A-E8E6-4744-AF67-722A81D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A450C-952F-40CD-AB7A-710A6216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2921-671B-488A-B7A8-EF737636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5BCE5-44A5-402B-AADC-2B077E28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A9E2-EDAC-4479-97D4-5D03DEEA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B9E-308F-4413-A951-3FC07D9A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4185B-13C2-49DA-85DD-700AD92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6A97D-CC41-4CA0-BA06-78D11365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94B73-C836-4AB4-B20D-10E381B8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88A9F-ED44-4A7C-9F0C-4C0D396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B325B-0E8A-4B33-8E13-B00A138E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16B88-89A2-4CBB-9F01-58E818B6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B18B-E6F7-45E1-8374-3F4627CE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900B7-450E-46AE-A006-FB57CED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ECEAF-91BC-411A-AB21-AB8A4E58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C1786-85DF-4436-8729-16E0E0B4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2A8-2C4A-4CCC-A64D-8847CEC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C4C0E-58CC-43D7-A2F2-F68E750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B2269-27B9-4758-97A8-D997860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9E41F-E083-4F26-8642-BC5032A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51204-385B-42FC-A43A-EA2FCD6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1D1CF-FF3C-4548-965A-3C27FAA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B1F85-BB6C-4B33-B7FC-DD134C33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03273-C890-442C-A658-4C1624BF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C3695-E1D5-419A-B129-7B229528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B574D-C0AB-4473-B5CA-5470143C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64FC7-F3F3-4D0A-BF08-568BE33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7FA-5D75-45D5-9294-ABB310BA7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ED59-4397-4FFF-964C-9166AAD41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8E5-D67F-4D40-ADEE-C19F3BEFB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A9B-5D36-4716-A415-9F2B7BD99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5FAA-C01B-4AA1-A33F-F2A7FE76C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A75-D450-4CB3-A7B5-09D6B3FD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DFA-2DF8-440E-85A2-144A23F89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B2F-AFFC-4E7C-871A-B927B1C2B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E2E1-1D57-4111-B2C8-DEAB875B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45FB-20E3-41A0-9E8F-F7190E767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215F-FA81-479E-88D7-5F5AD9C1E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869-0C1B-4F0B-8F14-1EBBB4297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Arrow" TargetMode="External"/><Relationship Id="rId2" Type="http://schemas.microsoft.com/office/2007/relationships/media" Target="file:///tmp/home/.config/libreoffice/4/user/gallery/Arro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:  OLDEST FORM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EST SUB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th century and bef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illness involved family, churc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ew life prolonging trea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t death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was part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th century and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Provider Ro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the patient would succ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War changed nature of death and dying--no longer family at death b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is Republic of Suffe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y Drew Gilpin Fa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---life prolonging 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gave way to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in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stomy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fe sustaining/prolonging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took lesser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of the terminally ill given less importance in medical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 became socially unacceptable and seen as medical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WE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T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4" descr="cartoon"/>
          <p:cNvPicPr/>
          <p:nvPr/>
        </p:nvPicPr>
        <p:blipFill>
          <a:blip r:embed="rId1"/>
          <a:stretch/>
        </p:blipFill>
        <p:spPr>
          <a:xfrm>
            <a:off x="-430200" y="-457200"/>
            <a:ext cx="10005840" cy="7773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MiniMe:Users:sally:Desktop:SafariScreenSnapz001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1600200"/>
            <a:ext cx="8142120" cy="4610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457200" y="22860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IS S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27-30% Medicare dollars spent last year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alliative care services in hospitals save mone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ospice referrals sav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for Advancement of Palliative Care Website:CAPC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VIAT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of death and dying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ral to palliative care and hospice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death traj cancer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death traj chronic illness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death traj dwindling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dwindling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Picture 20"/>
          <p:cNvPicPr/>
          <p:nvPr/>
        </p:nvPicPr>
        <p:blipFill>
          <a:blip r:embed="rId1"/>
          <a:stretch/>
        </p:blipFill>
        <p:spPr>
          <a:xfrm>
            <a:off x="1905120" y="1881360"/>
            <a:ext cx="5041800" cy="3900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Picture 26"/>
          <p:cNvPicPr/>
          <p:nvPr/>
        </p:nvPicPr>
        <p:blipFill>
          <a:blip r:embed="rId1"/>
          <a:stretch/>
        </p:blipFill>
        <p:spPr>
          <a:xfrm>
            <a:off x="1828800" y="1967040"/>
            <a:ext cx="5257800" cy="4071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oyment Affil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s Innovative Hosp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ramento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of-life pilot for Medi-Cal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ministered b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S Healthcare starting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land Memorial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at best--little or no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eeing and Fore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tors are overly 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akis, N.A. and Lamont, E.B. (2000).Exten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nts of error in doctor’s prognoses in terminally ill patients: prospective cohort study; BMJ 320, 469-7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patients cho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ST--Cal Legislation AB 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January 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4" descr="polst map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 “Patient Self Determination Act” of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patients be asked about advance care dir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law “Right to Know End-of-Life Options” Act AB 27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cted 5/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hat have a terminal illness have to be given accurate info about treatment options and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YEAR in Contra Costa Cou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lot program for Medi-Cal and End-of-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ed by APS Healthcare--more nex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so hard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--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rd conversation will depress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ll lose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ing it will make it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4" descr="Picture 19"/>
          <p:cNvPicPr/>
          <p:nvPr/>
        </p:nvPicPr>
        <p:blipFill>
          <a:blip r:embed="rId1"/>
          <a:stretch/>
        </p:blipFill>
        <p:spPr>
          <a:xfrm>
            <a:off x="2057400" y="1698480"/>
            <a:ext cx="4724280" cy="3699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DIS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no financial gains or incentives for this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4" descr="Picture 32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021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4" descr="Picture 33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Picture 31"/>
          <p:cNvPicPr/>
          <p:nvPr/>
        </p:nvPicPr>
        <p:blipFill>
          <a:blip r:embed="rId1"/>
          <a:stretch/>
        </p:blipFill>
        <p:spPr>
          <a:xfrm>
            <a:off x="2362320" y="1625760"/>
            <a:ext cx="5181480" cy="422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and death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or hospice--can alleviat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s--we have them--think about them; discuss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life-limiting ill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ssive disease modifying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sasample@comcast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everyone thinking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when dealing with their chronically i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courage discussions with thos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alize that just because we CAN do a treatment doesn’t mean we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dies--it is not a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stigma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 Today and the HC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levant references to the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Care of the entire person and family--physical, psychological, social and 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to minimiz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sell,E.J.(1982).The nature of suffering and the goals of medicine. NEJM 306(11),639-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NEW CMS DEF PC 2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graph"/>
          <p:cNvPicPr/>
          <p:nvPr/>
        </p:nvPicPr>
        <p:blipFill>
          <a:blip r:embed="rId1"/>
          <a:stretch/>
        </p:blipFill>
        <p:spPr>
          <a:xfrm>
            <a:off x="-152280" y="-3048120"/>
            <a:ext cx="9534240" cy="1043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23:40:13Z</dcterms:created>
  <dc:creator>Super User</dc:creator>
  <dc:description/>
  <dc:language>en-US</dc:language>
  <cp:lastModifiedBy>HCMARTINEZ</cp:lastModifiedBy>
  <dcterms:modified xsi:type="dcterms:W3CDTF">2009-10-26T18:50:14Z</dcterms:modified>
  <cp:revision>38</cp:revision>
  <dc:subject/>
  <dc:title>PALLIATIVE CARE AND HOSPICE Basics</dc:title>
</cp:coreProperties>
</file>