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2323-BF48-4709-AF32-00CD87C41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C526-0872-4FB1-9744-D52A3B2BE6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678A-36C9-4832-97ED-AF4A5BE2DD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FDB5-3933-41D3-902A-ABA8EC9E87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E1F1-B0D3-4981-B417-9463F8E7EE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United States with Judeo-Christia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83C6-F671-4FFA-8D5C-E324628390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E71B-CDF0-467D-B77C-EA59EEE3CD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6D6C-F09F-406A-AE8D-9D400719AA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46AD-FFC8-4ABC-995E-7A30F7B2FF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BF5A-F2FC-462F-8607-DCEDCC29DB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32A4-740A-4CF2-AB5F-008C2A4B29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2000 PATIENTS IN RCT IN SEVERAL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3E6B-5CED-4934-8DF3-48AC384831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telling--care with some ethnic and religious groups; some Northern european  and asian cultures feel that saying the prognosis out loud will make it come true; others want no “negaive” news a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070D-211B-4614-9A03-B086D1CA7D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140D-5ABE-452A-8D93-F225867847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E412-D8CD-4821-8DD2-6BEFA4A0C7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C242-1439-45E0-8FAA-1449E139FE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03B8-B82B-4252-A87B-3B45539D7A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788-9DD2-443D-B6FC-415FD229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F67-E881-446A-9112-F8E5811C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5A49D-BA43-4715-880C-2018CE84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5DFFF-5A57-4579-8CEE-B0C7E193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C66CE-4CCB-4DA9-BC62-FEB26E24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8044D-F345-4C36-B21B-D6C36AC1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A582C-8CF6-4642-9ED8-5780A4B1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B8168-D68A-4386-9E7F-66A8AE95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A749B-DBF6-4664-AAEE-8E4703ED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0C9AB-AFBF-4A71-A12D-AD588915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A25F2-F340-4CD9-8A9C-073313C7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F9761-33FB-4E27-9118-48238E33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993-8F9C-4279-9A11-38160A93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48C88-9822-4F9E-93F7-24E249CD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ED096-7E50-4430-8613-8533391A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F323B-926E-4DAE-93FF-3B52E872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062D0-9648-490F-B1C9-097C4C9B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DB2A5-1A4C-449F-8421-2EF59D70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AA4CC-1C3D-4C56-9263-8BBC6E9A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14E54-CD28-4ADF-9F52-3645EE13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225D6-7F9A-4E58-BA13-A593850A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8CA24-1768-4D9A-AF33-D7C24D4F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9FA57-E8BC-41E0-B408-290A80D2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2983-04F3-4E7F-A6C9-854E8DF1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31BD1-7269-4630-930E-D04C6DC3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41E3F-5718-465A-A637-CD70D1CC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E1FED-189E-4F81-8D50-44D33CDA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C5B31-DB56-4DCB-B526-7A170D47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10E95-A462-488C-A498-66043F52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59CE8-2DA4-49B1-9EEC-61571678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0A7F5-738D-4BE5-B1CC-D386C2A6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39A9A-102C-419B-9314-FC6C26E1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8F197-1DFB-42AA-934C-EE89FE95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37282-221E-48DB-B976-49509403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24C1A-2E92-461C-B763-FE85F603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EE8DD-D752-40DF-9D01-1B153BD2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9F3DF-F4FB-49FF-A10E-487652B3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F5090-4D45-40E4-B82F-295C4A1D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1135B-F2AA-4FDD-8B0B-B4B1CCA6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E98E4-D607-48B5-9938-CC90B518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012D1-47F7-4CA0-891E-AA7FB2B8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AE955-4F47-4093-8044-4674F4C2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08D7B-DB01-440D-BD45-2026CB6F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60502-7442-426C-A362-75C51DB1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BAFC9-6202-46A5-8A39-64B76B11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46946-4BD6-42EB-8EC7-447F75A1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D28F2-D78C-4B71-89ED-485E7EA2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41B15-ACCC-40E7-BE82-B57B2FB0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BCC41-4F96-4497-820B-C473339D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C74B5-D543-4D29-A63B-E8AA86B9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EF9A7-36AB-4700-AF69-FFDBF6D6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0D2E7-7A5C-4B58-B7E3-D9138DD2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09A5B-B24D-4DB8-8620-304B1831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A2C0A-5BA7-4F4F-9AC9-B11CC657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70748-7450-4C49-B47D-BA75A445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BF1C7-84D9-4595-AD6B-63123E08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75A1-2188-4CDB-AAD8-92A84D57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0B6BB-F329-42EB-B3D7-D8F5826C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DFF18-4ACB-4446-B4DC-91C60BFC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A2F8B-B3FC-428B-8791-5EA37A59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6E66D-5AA0-497E-A70C-5F6C2889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7DDF8-F525-45CE-954F-E46A0FFE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C25AD-0EDE-4876-9669-11674DC4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DD076-CD77-4298-8D34-C368CC43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4D0D2-816D-42E1-B8DA-97857CF7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DF5DE-D1E1-4135-96B0-A8970146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8D144-64B7-4C82-9952-E6F6C013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5320-DD14-465D-AA30-CCF214C4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77EC1-06E8-4B4A-8B4D-589463AA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7766D-5739-4225-9AA6-9C5D855C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52087-D165-4AD8-8711-5FD1F760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6652C-FE81-4F9C-B15F-F20C256A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82984-1FEE-40E4-BEA6-6E0C070D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21CF5-ECCF-441A-A0C6-2D520D19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0FA01-18D3-452B-ABF1-2585ACFB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25DCD-3CDD-49B0-8459-A9BB656F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E95B1-DC28-41AE-A9D4-3A916313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AC7D9-173C-4027-AFD3-4CA33CD5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1858-DBD6-4454-8CBF-AE6FAEFF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F465E-9D0B-48BF-80C5-DA96D3D2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D62E9-6BD5-4E1B-9493-0221FD93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5AE0C-F55A-4DE3-89E6-8E38118F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039C9-134E-4DE5-A8C8-0429539C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04FB5-ABF0-48D3-9E51-17B49CCF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BA2ED-9369-4264-919F-12F939C1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DB625-3090-45C5-BCDF-6FB29A6E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CB82B-1776-4763-ADC9-A7B002CA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4A347-585A-4812-8337-2A747251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39828-A48B-4C73-895C-82D2055C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19F-E39D-4885-8085-C544EB03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5D9B3-159F-452F-B1C7-9B0DFF9F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9559B-E018-4DE5-B834-9B6DD51F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8DF6B-07F9-4FC4-8469-84DD2D20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D4FD4-306C-46A6-A2E5-7796963B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76B30-AF3C-4B67-9A24-A6A17FBC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F6DD4-7027-479D-9860-000ECFF2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B938B-C2F9-4332-922B-1083079A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4B51F-10F0-41BE-BB1B-07DE86E7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01716-C42D-4911-9220-093EB8AC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7EBA6-8B15-4C03-95BA-11309616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0E8-B742-4281-BF2D-1E06B56C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8B590-A99F-494A-90F9-8E7B69E1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2085F-4C17-4669-9AA2-28C81FAF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AD698-2BAA-4752-BCEA-3DAAB6DE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E54C3-5A34-4666-BE0F-8B3F7286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A500E-C683-4D02-BE56-073EC264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13F09-180C-43D6-B42F-F61CB0D6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C8176-E37E-475A-9278-D25E0C57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01CA8-6191-4BA8-BD19-63122AD5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CD8A3-AF08-49C1-9EF1-2B470394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E7E19-DE10-456C-83E2-82BAFE0D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303-3152-4C61-87EA-1024146C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17E76-BE9F-4DC9-B591-A910420D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B0976-8665-4CB7-B058-1C2B179D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502F5-4587-4852-B064-EBE9033C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29A53-51EB-4B25-A9CD-8866D72F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64A2E-51B7-4662-AAB5-ADC7EF27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E9C56-35D1-478F-8B20-504DC085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834EA-DEC7-4442-BA56-96E0E248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5565B-9F56-436F-8340-ECDA964F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269A2-A63F-4A5D-A202-57EF7EA7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EF8C8-DACE-49FA-A517-4B1F4FCC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355C-623B-493F-94F8-2605C25D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10065-AD40-4CA2-B9B8-A4E75FA9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B8D92-CF6A-458E-8D79-957075FE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309D4-E61B-41F7-A43B-D89554C8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E2CB6-4800-409F-9F65-CFB2A60C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B3D15-33ED-4712-8AE1-E610832D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49335-9897-414A-8849-583C5F2F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E46AF-05BF-4746-A034-17C42FE5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36399-9C40-4B98-956E-C31D620E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0E4A4-A497-4669-9810-3FC6B3FC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804B8-B60E-4086-A919-11B081C0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B22-2A8F-41FE-93C7-FC64555E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A6EBF-1562-4A6C-B40E-97EECD95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7F882-7B64-4DBB-B288-87CE9B9E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2DD52-299A-4332-A4EB-D06D20EA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3AFC1-4A1F-4E68-B2FE-F4BD8273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B57D8-EFAD-4176-87FD-15783338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F8F74-7408-4D78-9D90-0735F4DE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788C8-F092-445E-A25A-8D0D9FE8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6EC9A-F076-46AA-9311-4A2C9302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BDD32-B176-4EE3-8A0B-1126913E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1DE4C-4E0C-4188-861E-00A2EB68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B4F1-216E-44FB-AD42-512802DC8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5E2B-5C49-4132-8403-C3C0AA079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FB9D-EF15-4F90-97FF-B37E20A15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15ED-854F-4667-B77D-D9EBA50F3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D48C-569E-4DF7-991E-F504831D3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0F02-8F0C-42EF-AF52-00C290C3E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9AA8-20B9-4790-93C6-D4C3A31BF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465C-D4BF-44EF-88A9-CDDE3F31F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95A1-6F01-4E2C-9B6D-8216A28D2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115D-7BE5-4075-ABD2-734DAF1B6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018C-299E-4D90-A148-522D990FD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694C-B582-4871-A8B1-385358966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Arrow" TargetMode="External"/><Relationship Id="rId2" Type="http://schemas.microsoft.com/office/2007/relationships/media" Target="file:///tmp/home/.config/libreoffice/4/user/gallery/Arrow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127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LLY SAMPLE, M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LIATIVE CARE:  OLDEST FORM OF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EST SUBSPECIA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th century and befo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ach to illness involved family, church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few life prolonging treat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at death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ing was part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th century and bef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Care Provider Ro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 and Pro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ther the patient would succum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vil War changed nature of death and dying--no longer family at death b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his Republic of Suffer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By Drew Gilpin Fa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 20th Century---life prolonging R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nosis gave way to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tics in WW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trostomy t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U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life sustaining/prolonging trea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 20th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 took lesser r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hasis on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 20th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 of the terminally ill given less importance in medical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of death and dying became socially unacceptable and seen as medical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91960"/>
            <a:ext cx="8077320" cy="412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ARE WE TODA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T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4" descr="cartoon"/>
          <p:cNvPicPr/>
          <p:nvPr/>
        </p:nvPicPr>
        <p:blipFill>
          <a:blip r:embed="rId1"/>
          <a:stretch/>
        </p:blipFill>
        <p:spPr>
          <a:xfrm>
            <a:off x="-430200" y="-457200"/>
            <a:ext cx="10005840" cy="77738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" descr="MiniMe:Users:sally:Desktop:SafariScreenSnapz001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57200" y="1600200"/>
            <a:ext cx="8142120" cy="461016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457200" y="22860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IS SH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R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27-30% Medicare dollars spent last year of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Palliative care services in hospitals save money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Hospice referrals save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er for Advancement of Palliative Care Website:CAPC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VIATE SUFF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P’s Ro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ing patients cho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of death and dying when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ral to palliative care and hospice when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P’s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 and PRO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4" descr="death traj cancer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 and PRO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death traj chronic illness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 and PRO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4" descr="death traj dwindling"/>
          <p:cNvPicPr/>
          <p:nvPr/>
        </p:nvPicPr>
        <p:blipFill>
          <a:blip r:embed="rId1"/>
          <a:stretch/>
        </p:blipFill>
        <p:spPr>
          <a:xfrm>
            <a:off x="609480" y="1828800"/>
            <a:ext cx="773460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nosis dwindling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WINDLING PAT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4" descr="Picture 20"/>
          <p:cNvPicPr/>
          <p:nvPr/>
        </p:nvPicPr>
        <p:blipFill>
          <a:blip r:embed="rId1"/>
          <a:stretch/>
        </p:blipFill>
        <p:spPr>
          <a:xfrm>
            <a:off x="1905120" y="1881360"/>
            <a:ext cx="5041800" cy="39002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WINDLING PAT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4" descr="Picture 26"/>
          <p:cNvPicPr/>
          <p:nvPr/>
        </p:nvPicPr>
        <p:blipFill>
          <a:blip r:embed="rId1"/>
          <a:stretch/>
        </p:blipFill>
        <p:spPr>
          <a:xfrm>
            <a:off x="1828800" y="1967040"/>
            <a:ext cx="5257800" cy="40719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mployment Affili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Direct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tas Innovative Hospi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acramento Val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-of-life pilot for Medi-Cal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dministered b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S Healthcare starting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land Memorial Hosp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CP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at best--little or no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seeing and Foret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tors are overly optimis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akis, N.A. and Lamont, E.B. (2000).Extent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ants of error in doctor’s prognoses in terminally ill patients: prospective cohort study; BMJ 320, 469-7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P’s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ing patients cho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ing patients choi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ST--Cal Legislation AB 3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January 1,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2" name="Picture 4" descr="polst map"/>
          <p:cNvPicPr/>
          <p:nvPr/>
        </p:nvPicPr>
        <p:blipFill>
          <a:blip r:embed="rId1"/>
          <a:stretch/>
        </p:blipFill>
        <p:spPr>
          <a:xfrm>
            <a:off x="990720" y="1676520"/>
            <a:ext cx="7315200" cy="47862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OF DEATH AND D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lation “Patient Self Determination Act” of 19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inpatients be asked about advance care dir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OF DEATH AND D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ifornia law “Right to Know End-of-Life Options” Act AB 274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cted 5/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that have a terminal illness have to be given accurate info about treatment options and pain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YEAR in Contra Costa Coun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ilot program for Medi-Cal and End-of-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ered by APS Healthcare--more next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of Death and D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is it so hard for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of Death and Dying--My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ard conversation will depress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will lose h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ing it will make it hap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4" descr="Picture 19"/>
          <p:cNvPicPr/>
          <p:nvPr/>
        </p:nvPicPr>
        <p:blipFill>
          <a:blip r:embed="rId1"/>
          <a:stretch/>
        </p:blipFill>
        <p:spPr>
          <a:xfrm>
            <a:off x="2057400" y="1698480"/>
            <a:ext cx="4724280" cy="3699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ANCIAL DISCLO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no financial gains or incentives for this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Picture 4" descr="Picture 32"/>
          <p:cNvPicPr/>
          <p:nvPr/>
        </p:nvPicPr>
        <p:blipFill>
          <a:blip r:embed="rId1"/>
          <a:stretch/>
        </p:blipFill>
        <p:spPr>
          <a:xfrm>
            <a:off x="2133720" y="1752480"/>
            <a:ext cx="5029200" cy="40212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Picture 4" descr="Picture 33"/>
          <p:cNvPicPr/>
          <p:nvPr/>
        </p:nvPicPr>
        <p:blipFill>
          <a:blip r:embed="rId1"/>
          <a:stretch/>
        </p:blipFill>
        <p:spPr>
          <a:xfrm>
            <a:off x="2362320" y="1828800"/>
            <a:ext cx="4800600" cy="3809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8" name="Picture 4" descr="Picture 31"/>
          <p:cNvPicPr/>
          <p:nvPr/>
        </p:nvPicPr>
        <p:blipFill>
          <a:blip r:embed="rId1"/>
          <a:stretch/>
        </p:blipFill>
        <p:spPr>
          <a:xfrm>
            <a:off x="2362320" y="1625760"/>
            <a:ext cx="5181480" cy="42289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ing and death are inevi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liative care or hospice--can alleviate suff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ices--we have them--think about them; discuss th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life-limiting illn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gressive disease modifying trea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ly Sample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sasample@comcast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ave everyone thinking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liative Care when dealing with their chronically ill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ncourage discussions with those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alize that just because we CAN do a treatment doesn’t mean we SHOU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memb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 dies--it is not a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 stigma of death and d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 Today and the HCP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relevant references to the lit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and State Tr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DEFINI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Care of the entire person and family--physical, psychological, social and spiri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 to minimize Suff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ssell,E.J.(1982).The nature of suffering and the goals of medicine. NEJM 306(11),639-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DEFINI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5" descr="NEW CMS DEF PC 2"/>
          <p:cNvPicPr/>
          <p:nvPr/>
        </p:nvPicPr>
        <p:blipFill>
          <a:blip r:embed="rId1"/>
          <a:stretch/>
        </p:blipFill>
        <p:spPr>
          <a:xfrm>
            <a:off x="1219320" y="1905120"/>
            <a:ext cx="670536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4" descr="graph"/>
          <p:cNvPicPr/>
          <p:nvPr/>
        </p:nvPicPr>
        <p:blipFill>
          <a:blip r:embed="rId1"/>
          <a:stretch/>
        </p:blipFill>
        <p:spPr>
          <a:xfrm>
            <a:off x="-152280" y="-3048120"/>
            <a:ext cx="9534240" cy="10439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23:40:13Z</dcterms:created>
  <dc:creator>Super User</dc:creator>
  <dc:description/>
  <dc:language>en-US</dc:language>
  <cp:lastModifiedBy>HCMARTINEZ</cp:lastModifiedBy>
  <dcterms:modified xsi:type="dcterms:W3CDTF">2009-10-26T18:50:14Z</dcterms:modified>
  <cp:revision>38</cp:revision>
  <dc:subject/>
  <dc:title>PALLIATIVE CARE AND HOSPICE Basics</dc:title>
</cp:coreProperties>
</file>