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8AB4-93EC-4D08-BDD4-8ABBB8630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4E1-60DE-4489-9A78-3034C88DA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8CA7-E8A2-4958-BC61-56469837A4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8C2-843E-41A2-9C64-5F4836DA7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A266-49FE-4CFB-9E0A-817A71489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United States with Judeo-Christia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7FB-11E8-41A1-8169-1A8119521A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027-9E6D-4297-9E4F-ABDE9867B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606-D1D4-4642-B6B7-A33A6AAF0D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3C9F-BB9D-4EEA-8ECB-3799A3BB9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8D5-CE26-4414-8704-6809B3C714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E654-4BEA-49A2-A20F-AD7405D9F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2000 PATIENTS IN RCT IN SEVERAL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367-32D6-4581-866D-7A777DD22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telling--care with some ethnic and religious groups; some Northern european  and asian cultures feel that saying the prognosis out loud will make it come true; others want no “negaive” news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F2CE-6BF2-48E8-AC0B-DE9C9F2BD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51B-A792-4E7F-8397-7C5528E69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85D-C58F-4A26-AF1E-62EF12907A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419C-A7D9-4B83-B9DA-9C1A2901C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29C-5A69-4EA5-9D97-7462E9BCC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DEB-225B-44EB-A57C-E562038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559-E328-439C-A5D3-A82E48A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EAABC-2D6C-45AE-9C4D-CD3EAA0C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F8415-6D5F-49ED-A469-170706A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68FBA-28F2-4F99-9DF1-68C7DC1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3EF1-2BFE-4B23-B2B4-F8D9822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3016-AFBA-4585-9C3A-D46A41E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AB89-280F-408C-A465-89AF864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CA621-E4A8-40AB-92D2-3C3426D7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3E5DD-4297-494B-B36C-176D5EB8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88EE-EB18-43C6-9AC3-CCAB1F7A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F4AAF-204E-49A7-96E4-E5F19BE5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AD1-7DBA-4114-992A-02B2AE7D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FA6D5-E9F4-4F63-A19A-8928009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E4FC4-7371-4C11-B813-C16CBA43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D3E40-5982-4C87-81A4-EC12D7C2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9DF86-0F6A-4FF3-9DD4-5B4FA4B4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021B1-34E0-4B00-94AB-A70E495A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2542D-4A39-4D0B-B61E-AC6BE9E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543B-7436-4BED-88DC-ACF843F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14D1A-16EF-49C6-96C5-BD840F8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5E8AC-5CD9-42CF-925B-F57B39D2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EE519-3963-44E7-8ACE-B1BC16CA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48A-00F9-48EF-87A1-205E6047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1034-2FB4-4E2C-9A0C-6ECCECB3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29C5B-C8D4-47BE-85E2-FBE8335F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82A2-0329-4575-8E51-C5E914E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F3F9C-92C7-47E6-94C4-8A162B7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39B8E-DA51-4C64-A20E-4E0E8D9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90C36-19D7-4D18-BDEA-34EF035C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14B4B-EF84-4B11-A454-4C56946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18C1-B11B-4660-AE69-AD050448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5CB3-72ED-498F-ACF9-6D9D1769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01A33-56AE-4B0B-A03E-E3519E2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670C1-3367-415B-9BF8-0107C46E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B854-A058-4F01-913B-8C7E6FAE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BEE69-2845-47C4-ADE3-71242A79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6A0DA-12FC-4CC0-AF10-E5BC0867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E611B-D93D-4D04-AAB2-C94A46E6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D9C02-E4BA-4F6A-B444-39334DF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3977C-DA23-40CB-8BCC-62D741D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45C6E-23B8-4AAC-8981-301C02D4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3C3F5-1934-4D34-8BC7-AA011891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DCEA2-E20B-4920-B260-D68A9F5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3D427-1314-4E85-9847-AA48D00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6839A-AA21-4DF1-A179-74968AA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645AE-D659-48A1-86E3-D90A2F2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5E1D-A105-488C-93C0-1101CDC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D3A37-2F26-4E8C-96ED-6C9CD1D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2E9B5-B5C5-4961-8C97-0259A252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7EC16-E534-49F5-98C3-44159BCB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6B16-7963-4F4B-BF88-3683A727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90CA-9D2A-47B6-BBEE-30D05A4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2FB20-3DF8-4C16-998D-3046887E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86D2B-2ED3-4289-9858-EDE787F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BD4FB-38B4-420A-B559-1EE6E21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8B8-8541-4322-838A-4D99E164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4237B-75BB-4BD8-99A8-C6B27E9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55CBC-7D37-4606-A09F-88F5B79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C05C9-6544-4B17-AA12-C94F68F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8F354-74BB-4DFF-B5AD-8C6FC047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CC3E4-F751-495E-B69F-94E7276B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BA1B-3EE5-482F-AD99-49787D07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2AA6-B952-4FF8-A368-0466CFB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685D-002E-40B5-B161-A913152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1241-0E36-4A80-8BB3-6FBAADA3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6E21-42E5-4B3A-AD02-D1089F26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B2C-D049-461C-AA78-B968B09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1E33-8B86-47BE-83E4-9C8762F2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4A57-0977-413A-B074-F8CB791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562D-6CF4-4AC9-B6C1-1B0CD0A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EB93-BE9A-4BA9-AA95-18C58FD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A827-9E37-4A9D-B4F4-85DE9FDD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C431-70BF-4B82-8D86-EADDB1F1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8A6A-2E23-4C94-805E-DB1BC8CB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B273-1E55-4D8A-B30A-041E8F25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1397-823F-4F81-A7E9-AD54F54A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A660-8100-4200-B007-4BDEB1C5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492-B2BD-44DA-A4FE-080552C1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0156-0E61-4162-82C7-C131BDB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5CC7-65DD-444C-9C22-9450BEF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4051-632C-4B38-BF76-DE3D9316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99326-40EB-4481-A9E5-AA77F727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076D-28AC-485A-BDF5-0CEED13D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E76FB-D603-4BE3-A254-F685F580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D359-18A8-40B6-862A-D05BEDEC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9167-762E-4E30-A6A4-6F900F10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AD5C4-C0C7-4FDF-92A9-86D450D2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9371-B8DF-4182-8420-489BDE2C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081-8431-4C1F-A3A2-7F936524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8822-8C73-452F-A500-C59CCB97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2D58-961C-4F78-990B-679B9E1A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313D5-07C6-4C71-BC7B-8E9FBEA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55C2-096E-4633-83A7-0C089F82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CA71-D953-402E-8492-C417C41E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CC2D-801B-4C03-AB47-5BA5506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ABD9-84A5-4B0E-9099-202A459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FE120-1540-4157-9033-89B0F00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C3AB-FA32-48E5-8559-4D0CA445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2CFCA-66A1-4115-9F56-3A92B1BA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3E-15F7-4309-B8B1-B2C07908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A3BC6-E9B1-4736-A01A-92FF3B6C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EE17-DFC4-4809-A5C3-C105E91D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393D-AD64-402D-8C57-FE0A349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AD7E-F594-477C-A061-5D04BFB0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5C4F6-8E75-4531-B109-CF79CDF9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B7FEA-4A48-4C88-83A2-F47CB62F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EE34-3B6E-4D71-A7D2-022464E7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37CD-0B69-4181-96B5-1C394058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3B36-54C6-412E-BE5F-C60C4B5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77F0-C60D-4511-8995-B6F2E01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92E-2210-40CD-BAE3-000FA7B7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DBDD5-9088-4D33-A8F1-B443CEB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9861-81E4-42F8-B57E-D4ABE5FC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ED00-A2A2-457E-8DF2-8FA80293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CD495-E734-46FD-AB9A-238AB3B1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56E9-D48B-460F-9D8B-014CAADE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1305-419C-4B10-86C2-8F1B887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B9195-20AF-49B5-A740-EA62CC2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27178-6058-4075-BFEA-6297E686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6A8B9-3AC2-4AA3-87EB-654A9963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0D5EC-35FF-40CC-823D-10D215D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F18-28CB-4183-ACB7-2F0A299B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3AD0E-D328-423F-B678-61DEE6E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D1F2-F7FB-4D90-8C41-E667B75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6B56-8477-49B9-933C-10A46CDE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DEA7-80FC-4999-862E-4A3E5BC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DB47-5929-4A37-96B7-DAF789E1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2B358-AA25-4239-B914-695C6971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17413-5C5B-4C4F-88DD-7FD7DF3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EEA1D-DF96-4161-AC36-7936EF0B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2C497-B33F-480A-AC6B-6C13F8D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9CF7-AC22-42F3-9704-A424880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1F4-0B62-4FE4-B0D2-83560F3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BC99-BD97-497B-B5F4-71474F6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250C1-B7E1-4AA2-9CCE-99775CF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A7F32-7FDD-4093-820E-C2C212E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31BA-14C9-4451-9210-83BA7A85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FB87-1E5E-425F-8D4E-9B56B6AD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1203-5C58-4EE3-B32D-9769C093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E8A2C-88A3-42C9-9535-D3386412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C500C-EBE0-4877-A8D9-13DDACA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F496D-A161-4AED-96BB-0C3A82C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4EE07-A864-49BB-87E1-AEB288D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724-1078-4A6A-A5BB-6F8E6226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184-42E0-4F91-970F-7B355898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571-1E69-43ED-AD64-DD545B14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BF2-C2E4-4F49-84E7-EE10F5B2B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43C-AFED-48B7-80D4-93A2193F6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A3D-0E63-44A3-97CD-37A86B68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261-88A0-4CB5-AFC3-0DC759C3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FCED-3C55-44EE-A633-0395AF69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CBF-4AFB-4D10-BFB2-04689A8C7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125-8C9E-44A1-8F65-D018A0BBA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313D-2B1E-40DB-971B-5A24DC44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4FFF-332E-484B-86DA-168A27E8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Arrow" TargetMode="External"/><Relationship Id="rId2" Type="http://schemas.microsoft.com/office/2007/relationships/media" Target="file:///tmp/home/.config/libreoffice/4/user/gallery/Arro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7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:  OLDEST FORM OF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EST SUB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th century and befo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to illness involved family, church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few life prolonging treat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at death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was part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th century and 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Provider Ro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the patient would succ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War changed nature of death and dying--no longer family at death b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his Republic of Suffe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y Drew Gilpin Fa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---life prolonging R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gave way to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 in 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ostomy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fe sustaining/prolonging trea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 took lesser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 20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of the terminally ill given less importance in medical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 became socially unacceptable and seen as medical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ARE WE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T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4" descr="cartoon"/>
          <p:cNvPicPr/>
          <p:nvPr/>
        </p:nvPicPr>
        <p:blipFill>
          <a:blip r:embed="rId1"/>
          <a:stretch/>
        </p:blipFill>
        <p:spPr>
          <a:xfrm>
            <a:off x="-430200" y="-457200"/>
            <a:ext cx="10005840" cy="77738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MiniMe:Users:sally:Desktop:SafariScreenSnapz001.mov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1600200"/>
            <a:ext cx="8142120" cy="4610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457200" y="22860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 IS S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27-30% Medicare dollars spent last year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alliative care services in hospitals save mone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ospice referrals sav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for Advancement of Palliative Care Website:CAPC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VIATE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of death and dying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ral to palliative care and hospice whe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death traj cancer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death traj chronic illness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 and 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death traj dwindling"/>
          <p:cNvPicPr/>
          <p:nvPr/>
        </p:nvPicPr>
        <p:blipFill>
          <a:blip r:embed="rId1"/>
          <a:stretch/>
        </p:blipFill>
        <p:spPr>
          <a:xfrm>
            <a:off x="609480" y="1828800"/>
            <a:ext cx="77346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ATH TRAJE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nosis dwindling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Picture 20"/>
          <p:cNvPicPr/>
          <p:nvPr/>
        </p:nvPicPr>
        <p:blipFill>
          <a:blip r:embed="rId1"/>
          <a:stretch/>
        </p:blipFill>
        <p:spPr>
          <a:xfrm>
            <a:off x="1905120" y="1881360"/>
            <a:ext cx="5041800" cy="3900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WINDLING PAT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Picture 26"/>
          <p:cNvPicPr/>
          <p:nvPr/>
        </p:nvPicPr>
        <p:blipFill>
          <a:blip r:embed="rId1"/>
          <a:stretch/>
        </p:blipFill>
        <p:spPr>
          <a:xfrm>
            <a:off x="1828800" y="1967040"/>
            <a:ext cx="5257800" cy="4071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oyment Affil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s Innovative Hosp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ramento Va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of-life pilot for Medi-Cal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ministered b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S Healthcare starting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land Memorial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no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at best--little or no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eseeing and Foret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tors are overly optim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akis, N.A. and Lamont, E.B. (2000).Extent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ants of error in doctor’s prognoses in terminally ill patients: prospective cohort study; BMJ 320, 469-7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P’s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ing patients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LIATIVE C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patients cho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ST--Cal Legislation AB 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January 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4" descr="polst map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 “Patient Self Determination Act” of 1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patients be asked about advance care dir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law “Right to Know End-of-Life Options” Act AB 274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cted 5/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that have a terminal illness have to be given accurate info about treatment options and 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YEAR in Contra Costa Cou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ilot program for Medi-Cal and End-of-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by APS Healthcare--more next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it so hard for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of Death and Dying--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rd conversation will depress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ll lose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ing it will make it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4" descr="Picture 19"/>
          <p:cNvPicPr/>
          <p:nvPr/>
        </p:nvPicPr>
        <p:blipFill>
          <a:blip r:embed="rId1"/>
          <a:stretch/>
        </p:blipFill>
        <p:spPr>
          <a:xfrm>
            <a:off x="2057400" y="1698480"/>
            <a:ext cx="4724280" cy="3699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NCIAL DISCLOS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no financial gains or incentives for this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4" descr="Picture 32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021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4" descr="Picture 33"/>
          <p:cNvPicPr/>
          <p:nvPr/>
        </p:nvPicPr>
        <p:blipFill>
          <a:blip r:embed="rId1"/>
          <a:stretch/>
        </p:blipFill>
        <p:spPr>
          <a:xfrm>
            <a:off x="2362320" y="182880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PROVIDER’S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Picture 31"/>
          <p:cNvPicPr/>
          <p:nvPr/>
        </p:nvPicPr>
        <p:blipFill>
          <a:blip r:embed="rId1"/>
          <a:stretch/>
        </p:blipFill>
        <p:spPr>
          <a:xfrm>
            <a:off x="2362320" y="1625760"/>
            <a:ext cx="5181480" cy="422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ing and death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or hospice--can alleviat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ices--we have them--think about them; discuss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life-limiting ill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gressive disease modifying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ly Sample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sasample@comcast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everyone thinking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liative Care when dealing with their chronically i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courage discussions with thos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alize that just because we CAN do a treatment doesn’t mean we SH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me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dies--it is not a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stigma of death and d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 Today and the HC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levant references to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Care of the entire person and family--physical, psychological, social and 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to minimize Suff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sell,E.J.(1982).The nature of suffering and the goals of medicine. NEJM 306(11),639-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NEW CMS DEF PC 2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graph"/>
          <p:cNvPicPr/>
          <p:nvPr/>
        </p:nvPicPr>
        <p:blipFill>
          <a:blip r:embed="rId1"/>
          <a:stretch/>
        </p:blipFill>
        <p:spPr>
          <a:xfrm>
            <a:off x="-152280" y="-3048120"/>
            <a:ext cx="9534240" cy="1043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23:40:13Z</dcterms:created>
  <dc:creator>Super User</dc:creator>
  <dc:description/>
  <dc:language>en-US</dc:language>
  <cp:lastModifiedBy>HCMARTINEZ</cp:lastModifiedBy>
  <dcterms:modified xsi:type="dcterms:W3CDTF">2009-10-26T18:50:14Z</dcterms:modified>
  <cp:revision>38</cp:revision>
  <dc:subject/>
  <dc:title>PALLIATIVE CARE AND HOSPICE Basics</dc:title>
</cp:coreProperties>
</file>