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17F-ADAE-4B9D-ABF7-4A89630B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160-50BB-4EB6-87AF-925A8319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372-02ED-4FF2-817F-D5E31B53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922-826D-4BAA-8B22-B728C829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D0A-9228-4E42-A8BA-AECF32A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CB6-DFD2-420A-B498-524B6588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094-5793-42CF-BBA4-0E5FE82E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859-2237-46D7-9824-5C06B474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9DC-EB88-46E1-B9F4-B268967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284-FA8B-4251-978E-E86A487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3DB-DF62-4D46-B211-F49CFA39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9BD-A5A7-454A-A627-B8DDD99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6B7-AE3C-4D7D-9A41-7A116DC36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HCMARTINEZ</cp:lastModifiedBy>
  <cp:lastPrinted>2003-02-13T16:33:18Z</cp:lastPrinted>
  <dcterms:modified xsi:type="dcterms:W3CDTF">2009-08-31T19:02:11Z</dcterms:modified>
  <cp:revision>20</cp:revision>
  <dc:subject/>
  <dc:title>Primer on Opportunistic Infections</dc:title>
</cp:coreProperties>
</file>