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D9F-1B9A-4D92-9518-765F4FE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0E9-5B92-479B-B726-A3C00FC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DE1-E483-4B73-8028-D235A4C1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4BC-39A6-4C5B-829E-7813D0B5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F9E-CC74-4ECD-9B5B-6B9104C0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3E0-EF66-4427-8260-43F34D0C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F6B-1582-424D-8156-3613C687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7BD-2FFC-4781-AFC3-17D2C56B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126-6CCA-4DAB-9DCD-D0F52754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BED-6068-464C-8003-19F7EF9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8B4-7D89-4953-A0A3-1EB16E6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46C-E6C6-439F-ADAA-B0BB912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DA9C-A6D8-424C-A36F-F61B0100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08-31T19:02:11Z</dcterms:modified>
  <cp:revision>20</cp:revision>
  <dc:subject/>
  <dc:title>Primer on Opportunistic Infections</dc:title>
</cp:coreProperties>
</file>