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215-CF6D-46F2-8DD0-BB4BA20C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6A2-28DB-4882-BDA0-313B5E47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217-DBB0-45FD-9C5F-461137B8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907-1F7E-4EFC-AF9C-CA1D2891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2D2C-40E4-4BF7-AFD8-10FD57A9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5046-BB2C-451E-93D0-2DD307B3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5FCA-60DE-46DA-9BAE-9EF329FA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4CBB-3971-4291-9C80-BB422B25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C747-E842-4E5D-81BF-CD8BA093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4CA6-A11E-4C66-BBF8-63558C57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122C-2CED-4F56-9D81-780D20E4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939D-6794-40FD-92CE-65FB328A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EC1F-5A6E-40FA-84AE-922C1968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C90C-1106-400F-AECD-148091F8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1FA1-4ECD-4735-A841-2A9B5C0C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3A2E-32E0-46E0-BA6D-BFE81BDE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F166-599C-4CA6-926D-FA0157AB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76D-B3C9-4B3F-B34C-F8E79743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060C-BBAF-429C-B4E8-13B6551C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F321-865A-406A-BC36-160EE323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2DC-C052-46A6-8FAF-0FC90008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28F9-8E90-475F-B186-BA2E2996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DF3-6BBC-4A40-8D28-B4BEC117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DDA-9F12-4E7E-9719-45372DC1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ACD4-C434-4B38-AD70-DB595309FB46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2FC1-6F60-4B73-9910-FFB982FF37C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Opportunistic Infections in HIV Patients, Par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ris Farnitano, M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ursday, October 8, 20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on Confere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HAART on Opportunistic Infection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002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st OI’s have declined 80-90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I’s seen now mostly in 3 group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ndiagnosed HIV+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ot in care or not adhering to therap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ng time “battle-scarred warriors” failing after a long history of multiple regime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-200 T Cel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neumocystis Carinii Pnuemo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xoplasm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yptococcu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27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105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50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MV Reti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ycobacterium Avium Comple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yptosporidi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gressive Multifocal Leukencephalopat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51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86080" y="99036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Ockham's razor does not apply for advanced A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often multiple diagnoses present simultaneous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e PCP, CMV, KS, Cocc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2% of bacterial pneumonias also have PCP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0% of PCP pneumonia complicated by bacterial infec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arch for second etiology if patient not improv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Immune reconstitution diseases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(HAART attack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C ade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MV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C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gnosis: Immune Reconsitution MAC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FB blood culture from June grew out MAC on 8/12 (hospital day #13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rianal herp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quamous cell carcinoma-in-situ, buttock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ancomycin-resistant enterococcus, groi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Primary OI prophylax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CP -T cells &lt;200 or thrus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xo -T cells &lt;100 and +Toxo tit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C -  Tcells &lt;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B – INH x 9 months if PPD &gt;5mm or quantiferon-TB positiv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Toxo prophyl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ptra SS or DS qd or DS TI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ptra Desensitisation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cc qd x 3d, then 2cc qd x 3d, then 5ccqd x 3d, then one SS tab q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apsone 100mg qd +pyramethamine 50mg qweek + leukovorin 25mg qwee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tovaquone 1500mg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scuss most common opportunistic infections (OIs): Dx and R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scuss immune reconstitution disea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view primary OI prophylax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 prophyl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Zithromax 600mg x 2 tabs qweek reduces infection rate 59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 seems to reduce risk of PC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Who Get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are above 50 T Cel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activation disease: most HIV patients CMV IgG+ (90% of gay HIV+ men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90% of CMV disease is reti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inless, progressive visual lo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unilateral blurry vi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loat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alescing white perivascular exudates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rrounded by hemorrhag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rushfire pattern or tomato and cheese pizz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24004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you suspect it, obtain ophthalmologist confirmation within 24-48 h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algancyclovir 900mg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PO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BID x 21 days, then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dverse effects: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eutropenia ANC&lt;500 in 15%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rombocytopen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em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50%: nausea, vomiting, abdominal pain or diarrhe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ngcyclivir intraocular im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sider in addition to systemic therapy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rgically implanted depo devi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ffective for 6 month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place at 6 months if still not immune reconstitut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nsider for sight threatening lesions near the central visual fiel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Who get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&lt;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creen with blood culture for AFB x 1 q 3 months to detect subclinical disea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066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27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ever, night swea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eight lo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em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eutrope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ast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lood culture usually positive if symptomatic but takes weeks to grow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f need to know sooner then do bone marrow Bx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sitive sputum culture usually colonization, not active dise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sitive stool culture may be colonization, not active disease, mucosal bx more indicative of dise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-filled macrophages in spl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26290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arithromycin 500mg BID +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thambutol 15mg/kg/d +/-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ifabutin 300mg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eatment failure rate is high without immune reconstitu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rug toxic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velopment of resistan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fter 4 months of anti-MAC therapy + potent anti-HIV therapy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 Cells 71 viral load &lt;48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tient still hospitaliz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effusions persi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ubhoff tube required for feed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ffuse chest/abdominal adenopathy persis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C Cx’s show partial/complete resistance to all MAC drugs except clofazami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gnosi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yramid approac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phylaxis simple: Septra and Zithroma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ule out TB in pneumonia with T Cells &lt;20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void treating PCP empirical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 ounce of prevention pills is worth a pound of Treatment pil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unce of prevention pills is worth a pound of Treatment p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7 yo male seen in clinic in June 20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s: unboosted atazanavir + Truvada since 1/09; ranitidin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5; viral load 30,00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y is his anti-HIV cocktail failing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itonavir added to boost atazanavi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tient instructed to take ranitidine in AM only and antivirals in P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od Cx for AFB, HIV genotype orde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dmitted to Kaiser August, 2009 with diffuse warm, tender lymphadenopat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iopsy performed, read as suspicious for lymphom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ansferred to CCRMC after 7 days on clarithromycin, ethambutol, rifabuti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209, viral load 726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is patient’s diagnosis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most common OI’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hort Studies in pre-triple therapy era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ndid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neumocystis Carini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ytomegaloviru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ycobacterium Avium Complex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neumocystis - second episod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oxoplasmi gondi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erpes zost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death, PHC HIV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007-9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H: Crypto meningit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: street drug overdos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A: sepsis, pneumonia and massive hemopty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W: metastatic prostate c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P: CVA, laryngeal c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A: PML (progressive multifocal leukencephalopathy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M: bacterial pneumonia, ETOH cirrhosis, wast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s diagnosed, PHC HIV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005-9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CP pneumo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sophageal Candidia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erpes Simple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erpes Zost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. Kansasii immune reconstitution pneumo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ycobacterium Avium Complex (MAC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ryptococcal Fungemia, meningit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stoplasmosi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M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40:48Z</dcterms:created>
  <dc:creator>health</dc:creator>
  <dc:description/>
  <dc:language>en-US</dc:language>
  <cp:lastModifiedBy>Lydia Rodriguez</cp:lastModifiedBy>
  <cp:lastPrinted>2003-02-13T16:33:18Z</cp:lastPrinted>
  <dcterms:modified xsi:type="dcterms:W3CDTF">2009-12-04T17:07:15Z</dcterms:modified>
  <cp:revision>23</cp:revision>
  <dc:subject/>
  <dc:title>Primer on Opportunistic Infections</dc:title>
</cp:coreProperties>
</file>