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D28-6E99-4988-B467-8220D92B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3DD-36D9-4313-99EB-41F308C2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40D-3B4F-4364-BA14-7AD7C3F6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17E-43E9-415E-A798-B0EC668E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3CD3-A317-4E73-B7E0-C16968DA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B08F-FE30-40BB-BC0E-104A3AA4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BA85-B229-43BF-98A6-E58E5F0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D9A-F590-4106-B636-0CF5F492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3209-5E81-4EDF-A63C-5A65A16B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DB0-04DD-4D07-A704-064BB4BD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7DA7-C2C2-4098-AAC2-A4BF516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EA5-ADD4-42DB-AAE9-1A7CE9B3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5FCD-E8F5-4533-9A71-74FBFBD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B53A-F762-4F94-B99E-D3C79B3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AB6-9A15-4615-977B-BE5598B7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9A8-1F4C-4B8E-9BB1-9CA9B712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A4C1-9BEA-4BAA-999D-E7589714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49A-914A-4039-AED3-926701B7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81C-4853-4DB6-B519-8CCCD267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BB2-E386-4546-9128-8C7E024B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4B3-3728-43B1-BD83-1C604B1C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353-BE94-462F-95FE-47068D4A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AB9-26F1-452C-BABE-883858F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A6A-CD5D-4040-8940-0E9345D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BF9-C91C-46AA-98D0-A2C26FB88B4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08C-B8E2-42FC-863B-472C42C2AAE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12-04T17:07:15Z</dcterms:modified>
  <cp:revision>23</cp:revision>
  <dc:subject/>
  <dc:title>Primer on Opportunistic Infections</dc:title>
</cp:coreProperties>
</file>