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07B-BF5F-4058-B27D-69C0B182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FB1-E0F9-4EA0-92F0-F6DA5193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8A7-8221-4B54-9181-81AB5C45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8B0-31D6-40AE-B0B9-39203B1D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4A88-D229-4DE3-B9F8-C62CD24E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D345-4D12-4DE6-9A67-A5E2C7A9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5D55-1D26-438F-8EA8-CB99CC54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642B-E6A7-43A3-BC71-CEBF0DF8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27DF-83CF-46A1-8283-DD12392E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25AF-E0FF-4832-AD80-BF0AF0D6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7722-3D00-4C2D-AD3D-115A2E67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B53-5743-41BC-9B15-AC4A798C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C695-7C71-4377-9ABC-04C9934C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4A67-4711-4BAE-B725-BA257455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1259-A14E-4066-93DB-A7863B49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D113-AF83-41FD-9F5A-9376EF50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193F-3E58-4850-844F-3C89F59B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F785-8FBA-48E5-80D5-1ECF2F89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78E-E340-44F6-90E0-44F5EBCE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010-D0DB-4D97-9D53-EE3D995E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4C2-3001-4B9F-9871-7B75DE7E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35B-51E5-4095-8197-CEA67571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090-1BE2-44B1-8C7C-3CD9286F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221-892D-4718-B95B-0363DB14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3842-406D-4342-B412-17418139E15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3524-DB57-4F07-A3DC-FD31C072992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Opportunistic Infections in HIV Patients,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ris Farnitano, M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ursday, October 8,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on Confer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st OI’s have declined 80-90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I’s seen now mostly in 3 group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diagnosed HIV+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t in care or not adhering to therap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neumocystis Carinii Pnuemo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plasm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coccu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27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sporidi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gressive Multifocal Leukencephal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51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86080" y="99036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often multiple diagnoses present simultaneous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e PCP, CMV, KS, Cocc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2% of bacterial pneumonias also have PC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0% of PCP pneumonia complicated by bacterial infec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arch for second etiology if patient not improv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ade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gnosis: Immune Reconsitution MA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B blood culture from June grew out MAC on 8/12 (hospital day #13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ianal herp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quamous cell carcinoma-in-situ, buttoc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ancomycin-resistant enterococcus, groi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 -T cells &lt;200 or thrus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 -T cells &lt;100 and +Toxo ti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-  T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 – INH x 9 months if PPD &gt;5mm or quantiferon-TB posi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SS or DS qd or DS TI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Desensitisation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tovaquone 15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most common opportunistic infections (OIs): Dx and R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immune reconstitution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iew primary OI prophylax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Zithromax 600mg x 2 tabs qweek reduces infection rate 59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 seems to reduce risk of 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are above 50 T Ce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90% of CMV disease is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inless, progressive visual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nilateral blurry v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loat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alescing white perivascular exudate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rrounded by hemorrh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rushfire pattern or tomato and cheese pizz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4004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algancyclovir 900mg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PO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BID x 21 days, then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verse effects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utropenia ANC&lt;500 in 15%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rombocytopen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0%: nausea, vomiting, abdominal pain or diarrhe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sider in addition to systemic therapy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rgically implanted depo devi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ffective for 6 month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place at 6 months if still not immune reconstitut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27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, night swea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eight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eutrope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as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lood culture usually positive if symptomatic but takes weeks to gr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f need to know sooner then do bone marrow B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putum culture usually colonization, not active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tool culture may be colonization, not active disease, mucosal bx more indicative of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6290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arithromycin 500mg BID +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thambutol 15mg/kg/d +/-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fabutin 3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eatment failure rate is high without immune reconstitu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rug toxic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velopment of resista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ter 4 months of anti-MAC therapy + potent anti-HIV therapy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 Cells 71 viral load &lt;48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tient still hospitaliz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effusions persi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ubhoff tube required for feed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ffuse chest/abdominal adenopathy persis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C Cx’s show partial/complete resistance to all MAC drugs except clofazami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gnosi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yramid approa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phylaxis simple: Septra and Zithroma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ule out TB in pneumonia with T Cells &lt;2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void treating PCP empirical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 ounce of prevention pills is worth a pound of Treatment pi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7 yo male seen in clinic in June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s: unboosted atazanavir + Truvada since 1/09; ranitidi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5; viral load 30,0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y is his anti-HIV cocktail failing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tonavir added to boost atazanavi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tient instructed to take ranitidine in AM only and antivirals in P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od Cx for AFB, HIV genotype orde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mitted to Kaiser August, 2009 with diffuse warm, tender lymphaden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iopsy performed, read as suspicious for lymphom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ansferred to CCRMC after 7 days on clarithromycin, ethambutol, rifabuti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209, viral load 726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patient’s diagnosis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hort Studies in pre-triple therapy era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ndid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Carin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ytomegaloviru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- second episod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oxoplasmi gond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7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H: Crypto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: street drug overdos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A: sepsis, pneumonia and massive hemopty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W: metastatic prostate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P: CVA, laryngeal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A: PML (progressive multifocal leukencephalopathy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M: bacterial pneumonia, ETOH cirrhosis, was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5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CP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sophageal Candidia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Simple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. Kansasii immune reconstitution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ycobacterium Avium Complex (MAC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yptococcal Fungemia,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stoplasmosi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M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Lydia Rodriguez</cp:lastModifiedBy>
  <cp:lastPrinted>2003-02-13T16:33:18Z</cp:lastPrinted>
  <dcterms:modified xsi:type="dcterms:W3CDTF">2009-12-04T17:07:15Z</dcterms:modified>
  <cp:revision>23</cp:revision>
  <dc:subject/>
  <dc:title>Primer on Opportunistic Infections</dc:title>
</cp:coreProperties>
</file>