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E7A9-4037-4F99-9201-C6BC6A716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0078-2C2A-4F0F-AA77-CEF59AC90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4E87-9CBC-4E4B-95CB-EBA096D09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5BC1-8DD2-4B14-87FE-EDA7FE39F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18868-F9C9-417C-B26B-45ACAF7CB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8DBF8-56F4-4B89-BA65-5FB10E9D8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40A00-B46C-4064-B63B-10DF2F7C4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A87D5-93D8-4E16-8B51-9F2344BB8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1BA5D-4C1D-4D17-B790-32A87A5D4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45F83-7D2E-461A-B0B1-F357273AF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2DB80-F9B7-4E0E-A1DF-B2B50BFD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2637-84F4-475A-8AD6-1F94426C6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0C07E-9C1D-4BF7-A09D-47A1A635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2AEF2-223F-4388-BB44-1315F524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C8E2A-992A-4A0C-AF00-6309FA053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9AC3A-BEB9-4B90-97B6-07997612D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9304E-059D-4CF1-85D5-17DE9C7C1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0A12-5950-4677-AE13-60A6829BD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ED40-2704-43A7-8CC7-384C39CBD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D44F-0879-4497-85F0-44990480D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AFC4-9078-4993-9320-212A6EC29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3C4B-4406-40B4-ACD9-9E85E78A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1EB0-BBED-49A3-A370-576C1766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76AD-071E-4CCE-AAEC-378435A1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" name="Picture 4" descr="C:\My Documents\bits\Astonbnr.GIF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9CFFD-E890-4B99-A23D-FBBF46A923E8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Rectangle 16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Rectangle 3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13127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" name="Rectangle 5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5" name="Picture 6" descr="C:\My Documents\bits\Astonbnr.GIF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Rectangle 7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" name="Rectangle 8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8" name="Rectangle 9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9" name="Line 10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" name="Line 11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" name="Freeform 12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" name="Freeform 13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F1034-B0C0-4714-83C9-B1DC30D7604C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on Opportunistic Infections in HIV Patients, Part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hris Farnitano, M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ursday, October 8, 2009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Noon Conferenc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2590920" y="1523880"/>
            <a:ext cx="3962160" cy="33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5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 of HAART on Opportunistic Infection Inc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6002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ost OI’s have declined 80-90%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OI’s seen now mostly in 3 group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undiagnosed HIV+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not in care or not adhering to therapy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ong time “battle-scarred warriors” failing after a long history of multiple regimen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0-200 T Cell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neumocystis Carinii Pnuemoni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oxoplasmosi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ryptococcu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xoplasm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027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51055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lt;50 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MV Retiniti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ycobacterium Avium Complex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ryptosporidiosi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rogressive Multifocal Leukencephalopathy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M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051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572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86080" y="99036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"/>
              </a:rPr>
              <a:t>Ockham's razor does not apply for advanced AID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-often multiple diagnoses present simultaneously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e PCP, CMV, KS, Cocci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12% of bacterial pneumonias also have PCP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10% of PCP pneumonia complicated by bacterial infection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arch for second etiology if patient not improving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"/>
              </a:rPr>
              <a:t>Immune reconstitution diseases</a:t>
            </a:r>
            <a:br>
              <a:rPr sz="4400"/>
            </a:br>
            <a:r>
              <a:rPr b="0" lang="en-US" sz="4400" spc="-1" strike="noStrike">
                <a:solidFill>
                  <a:srgbClr val="333333"/>
                </a:solidFill>
                <a:latin typeface="Arial"/>
              </a:rPr>
              <a:t>(HAART attack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096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AC adeniti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MV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B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CP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Study 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iagnosis: Immune Reconsitution MAC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FB blood culture from June grew out MAC on 8/12 (hospital day #13)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lso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erianal herp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quamous cell carcinoma-in-situ, buttock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Vancomycin-resistant enterococcus, groin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"/>
              </a:rPr>
              <a:t>Primary OI prophylaxi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CP -T cells &lt;200 or thrush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oxo -T cells &lt;100 and +Toxo titer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AC -  Tcells &lt;50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B – INH x 9 months if PPD &gt;5mm or quantiferon-TB positiv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"/>
              </a:rPr>
              <a:t>Toxo prophylax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ptra SS or DS qd or DS TIW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ptra Desensitisation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1cc qd x 3d, then 2cc qd x 3d, then 5ccqd x 3d, then one SS tab qd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apsone 100mg qd +pyramethamine 50mg qweek + leukovorin 25mg qweek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tovaquone 1500mg q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iscuss most common opportunistic infections (OIs): Dx and Rx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iscuss immune reconstitution diseas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eview primary OI prophylaxi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 prophylax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Zithromax 600mg x 2 tabs qweek reduces infection rate 59%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lso seems to reduce risk of PCP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tomegalovirus Retinitis - Who Get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are above 50 T Cell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eactivation disease: most HIV patients CMV IgG+ (90% of gay HIV+ men)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90% of CMV disease is retiniti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tomegalovirus Retinitis - Sympt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ainless, progressive visual los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unilateral blurry visio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loater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tomegalovirus Retinitis -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oalescing white perivascular exudates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urrounded by hemorrhag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brushfire pattern or tomato and cheese pizz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tomegalovirus Retin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4800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tomegalovirus Retin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2400480" y="1981080"/>
            <a:ext cx="4800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tomegalovirus Retinitis - Diagn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if you suspect it, obtain ophthalmologist confirmation within 24-48 hr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tomegalovirus Retinitis - Trea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Valgancyclovir 900mg 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Arial"/>
              </a:rPr>
              <a:t>PO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BID x 21 days, then q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dverse effects: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neutropenia ANC&lt;500 in 15%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thrombocytopenia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nemia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50%: nausea, vomiting, abdominal pain or diarrhea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ngcyclivir intraocular impl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onsider in addition to systemic therapy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urgically implanted depo devic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ffective for 6 month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Replace at 6 months if still not immune reconstituted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onsider for sight threatening lesions near the central visual field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cobacterium avium Complex - Who get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 Cells &lt;50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creen with blood culture for AFB x 1 q 3 months to detect subclinical diseas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106632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27" descr=""/>
          <p:cNvPicPr/>
          <p:nvPr/>
        </p:nvPicPr>
        <p:blipFill>
          <a:blip r:embed="rId1"/>
          <a:stretch/>
        </p:blipFill>
        <p:spPr>
          <a:xfrm>
            <a:off x="3276720" y="457200"/>
            <a:ext cx="45259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cobacterium avium Complex - Sympt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ever, night sweat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weight los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iarrhe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cobacterium avium Complex -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nemi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Neutropeni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ever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iarrhe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wasting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cobacterium avium Complex - Diagn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Blood culture usually positive if symptomatic but takes weeks to grow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f need to know sooner then do bone marrow Bx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ositive sputum culture usually colonization, not active diseas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ositive stool culture may be colonization, not active disease, mucosal bx more indicative of diseas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-filled macrophages in spl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2629080" y="1981080"/>
            <a:ext cx="4800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cobacterium avium Complex - Trea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arithromycin 500mg BID +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thambutol 15mg/kg/d +/-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ifabutin 300mg q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reatment failure rate is high without immune reconstitutio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drug toxicity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development of resistanc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Study 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fter 4 months of anti-MAC therapy + potent anti-HIV therapy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 Cells 71 viral load &lt;48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atient still hospitaliz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Large effusions persis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Dubhoff tube required for feeding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Diffuse chest/abdominal adenopathy persist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AC Cx’s show partial/complete resistance to all MAC drugs except clofazami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ognosis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600" y="114264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3276720" y="457200"/>
            <a:ext cx="45259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yramid approach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rophylaxis simple: Septra and Zithromax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ule out TB in pneumonia with T Cells &lt;200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void treating PCP empirically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n ounce of prevention pills is worth a pound of Treatment pill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6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ounce of prevention pills is worth a pound of Treatment p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3" descr=""/>
          <p:cNvPicPr/>
          <p:nvPr/>
        </p:nvPicPr>
        <p:blipFill>
          <a:blip r:embed="rId1"/>
          <a:stretch/>
        </p:blipFill>
        <p:spPr>
          <a:xfrm>
            <a:off x="1905120" y="2590920"/>
            <a:ext cx="7238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Study 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27 yo male seen in clinic in June 2009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eds: unboosted atazanavir + Truvada since 1/09; ranitidin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 cells 5; viral load 30,000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Why is his anti-HIV cocktail failing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Study 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itonavir added to boost atazanavir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atient instructed to take ranitidine in AM only and antivirals in PM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Blood Cx for AFB, HIV genotype ordere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Study 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dmitted to Kaiser August, 2009 with diffuse warm, tender lymphadenopathy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Biopsy performed, read as suspicious for lymphom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ransferred to CCRMC after 7 days on clarithromycin, ethambutol, rifabuti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 Cells 209, viral load 726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What is patient’s diagnosis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he most common OI’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ohort Studies in pre-triple therapy era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andida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neumocystis Carinii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ytomegaloviru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Mycobacterium Avium Complex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neumocystis - second episod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Toxoplasmi gondii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Herpes zoster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ses of death, PHC HIV clin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2007-9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H: Crypto meningiti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: street drug overdos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A: sepsis, pneumonia and massive hemoptysi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DW: metastatic prostate c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P: CVA, laryngeal c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VA: PML (progressive multifocal leukencephalopathy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M: bacterial pneumonia, ETOH cirrhosis, wasting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Is diagnosed, PHC HIV clin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2005-9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CP pneumon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sophageal Candidiasi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erpes Simplex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erpes Zost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. Kansasii immune reconstitution pneumon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ycobacterium Avium Complex (MAC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ryptococcal Fungemia, meningiti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istoplasmosis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M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8T16:40:48Z</dcterms:created>
  <dc:creator>health</dc:creator>
  <dc:description/>
  <dc:language>en-US</dc:language>
  <cp:lastModifiedBy>Lydia Rodriguez</cp:lastModifiedBy>
  <cp:lastPrinted>2003-02-13T16:33:18Z</cp:lastPrinted>
  <dcterms:modified xsi:type="dcterms:W3CDTF">2009-12-04T17:07:15Z</dcterms:modified>
  <cp:revision>23</cp:revision>
  <dc:subject/>
  <dc:title>Primer on Opportunistic Infections</dc:title>
</cp:coreProperties>
</file>