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DF840-9BAD-4C8F-A824-BEBB8EC0E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A3C6F-50E0-4F35-9293-9813F3C74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7F4BA-AD58-49E7-9873-CD2883F0C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6A8A0-1E44-4DCB-BBE6-1D241BE6F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A22F8-D986-4B1E-81AB-44CCCC2BA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52C85-3E54-4CF9-9F08-957DFFC75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A6742-1CEF-40BA-887F-885121030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5D7BF-5044-4A17-AE94-737625447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FCDBA-CA1B-40AE-A444-FEE6F8A1A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8B4D7-6337-4A8D-BC10-E31F65678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ACB6E-A254-4718-A0A9-B054F7E2A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60CF6-0F96-477F-A0EE-81C2644E0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13EF6-175F-4593-B98C-42F78399D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1C44D-3AFB-4444-BEEA-E076BF08D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9304C-D7D2-4108-AF4C-3BC0CB57F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DDE32-4951-4A9E-A10A-898CAABA2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33E0B-0C08-42C5-8E89-F62B77F08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2A10A-790E-4DC4-8C66-34A9D6F05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57638-5D94-40F1-8502-2FE40BF9E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B43B3-E3BE-4C3A-9680-592B3FE8D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75422-282B-41FE-AF86-C817CD69A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06A79-17E0-4194-91EA-E851C6904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FB57D-E1C2-4CC2-A379-A1FFBF7AB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709A9-6E53-4974-9F17-316D0D277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69160"/>
            <a:chOff x="0" y="0"/>
            <a:chExt cx="9144000" cy="6869160"/>
          </a:xfrm>
        </p:grpSpPr>
        <p:sp>
          <p:nvSpPr>
            <p:cNvPr id="1" name="Rectangle 3"/>
            <p:cNvSpPr/>
            <p:nvPr/>
          </p:nvSpPr>
          <p:spPr>
            <a:xfrm>
              <a:off x="0" y="642960"/>
              <a:ext cx="1179360" cy="6226200"/>
            </a:xfrm>
            <a:prstGeom prst="rect">
              <a:avLst/>
            </a:prstGeom>
            <a:gradFill rotWithShape="0">
              <a:gsLst>
                <a:gs pos="0">
                  <a:srgbClr val="313127"/>
                </a:gs>
                <a:gs pos="50000">
                  <a:srgbClr val="6a6954"/>
                </a:gs>
                <a:gs pos="100000">
                  <a:srgbClr val="31312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2" name="Picture 4" descr="C:\My Documents\bits\Astonbnr.GIF"/>
            <p:cNvPicPr/>
            <p:nvPr/>
          </p:nvPicPr>
          <p:blipFill>
            <a:blip r:embed="rId2"/>
            <a:srcRect l="0" t="15176" r="0" b="0"/>
            <a:stretch/>
          </p:blipFill>
          <p:spPr>
            <a:xfrm>
              <a:off x="0" y="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Rectangle 5"/>
            <p:cNvSpPr/>
            <p:nvPr/>
          </p:nvSpPr>
          <p:spPr>
            <a:xfrm>
              <a:off x="1117440" y="287280"/>
              <a:ext cx="8026560" cy="60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1185840" y="355680"/>
              <a:ext cx="7958160" cy="64958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1116000" y="295200"/>
              <a:ext cx="73080" cy="6562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" name="Line 8"/>
            <p:cNvSpPr/>
            <p:nvPr/>
          </p:nvSpPr>
          <p:spPr>
            <a:xfrm>
              <a:off x="0" y="658800"/>
              <a:ext cx="40788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7" name="Line 9"/>
            <p:cNvSpPr/>
            <p:nvPr/>
          </p:nvSpPr>
          <p:spPr>
            <a:xfrm>
              <a:off x="668160" y="654120"/>
              <a:ext cx="44784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2840" cy="685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257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695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7124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4327B-154F-4B93-ABD0-182D86532512}" type="slidenum"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Rectangle 16"/>
          <p:cNvSpPr/>
          <p:nvPr/>
        </p:nvSpPr>
        <p:spPr>
          <a:xfrm>
            <a:off x="1117440" y="268200"/>
            <a:ext cx="8026560" cy="74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-31680" y="0"/>
            <a:ext cx="9178560" cy="6924600"/>
            <a:chOff x="-31680" y="0"/>
            <a:chExt cx="9178560" cy="6924600"/>
          </a:xfrm>
        </p:grpSpPr>
        <p:sp>
          <p:nvSpPr>
            <p:cNvPr id="52" name="Rectangle 3"/>
            <p:cNvSpPr/>
            <p:nvPr/>
          </p:nvSpPr>
          <p:spPr>
            <a:xfrm>
              <a:off x="-23760" y="7920"/>
              <a:ext cx="9167760" cy="68436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0" y="0"/>
              <a:ext cx="1179360" cy="6880320"/>
            </a:xfrm>
            <a:prstGeom prst="rect">
              <a:avLst/>
            </a:prstGeom>
            <a:gradFill rotWithShape="0">
              <a:gsLst>
                <a:gs pos="0">
                  <a:srgbClr val="6a6954"/>
                </a:gs>
                <a:gs pos="50000">
                  <a:srgbClr val="313127"/>
                </a:gs>
                <a:gs pos="100000">
                  <a:srgbClr val="6a695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4" name="Rectangle 5"/>
            <p:cNvSpPr/>
            <p:nvPr/>
          </p:nvSpPr>
          <p:spPr>
            <a:xfrm>
              <a:off x="1103400" y="0"/>
              <a:ext cx="79200" cy="692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55" name="Picture 6" descr="C:\My Documents\bits\Astonbnr.GIF"/>
            <p:cNvPicPr/>
            <p:nvPr/>
          </p:nvPicPr>
          <p:blipFill>
            <a:blip r:embed="rId3"/>
            <a:srcRect l="0" t="15176" r="0" b="0"/>
            <a:stretch/>
          </p:blipFill>
          <p:spPr>
            <a:xfrm>
              <a:off x="0" y="270684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Rectangle 7"/>
            <p:cNvSpPr/>
            <p:nvPr/>
          </p:nvSpPr>
          <p:spPr>
            <a:xfrm rot="5400000">
              <a:off x="5086080" y="-628560"/>
              <a:ext cx="74520" cy="8040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7" name="Rectangle 8"/>
            <p:cNvSpPr/>
            <p:nvPr/>
          </p:nvSpPr>
          <p:spPr>
            <a:xfrm rot="5400000">
              <a:off x="5086440" y="-1353240"/>
              <a:ext cx="74880" cy="8045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8" name="Rectangle 9"/>
            <p:cNvSpPr/>
            <p:nvPr/>
          </p:nvSpPr>
          <p:spPr>
            <a:xfrm>
              <a:off x="-31680" y="0"/>
              <a:ext cx="74520" cy="6892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9" name="Line 10"/>
            <p:cNvSpPr/>
            <p:nvPr/>
          </p:nvSpPr>
          <p:spPr>
            <a:xfrm>
              <a:off x="657360" y="3362400"/>
              <a:ext cx="446040" cy="0"/>
            </a:xfrm>
            <a:prstGeom prst="line">
              <a:avLst/>
            </a:prstGeom>
            <a:ln w="158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0" name="Line 11"/>
            <p:cNvSpPr/>
            <p:nvPr/>
          </p:nvSpPr>
          <p:spPr>
            <a:xfrm flipV="1">
              <a:off x="42840" y="3359160"/>
              <a:ext cx="365040" cy="1440"/>
            </a:xfrm>
            <a:prstGeom prst="line">
              <a:avLst/>
            </a:prstGeom>
            <a:ln w="158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1" name="Freeform 12"/>
            <p:cNvSpPr/>
            <p:nvPr/>
          </p:nvSpPr>
          <p:spPr>
            <a:xfrm>
              <a:off x="404640" y="3357720"/>
              <a:ext cx="103320" cy="136440"/>
            </a:xfrm>
            <a:custGeom>
              <a:avLst/>
              <a:gdLst>
                <a:gd name="textAreaLeft" fmla="*/ 0 w 103320"/>
                <a:gd name="textAreaRight" fmla="*/ 103680 w 10332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65" h="86">
                  <a:moveTo>
                    <a:pt x="0" y="0"/>
                  </a:moveTo>
                  <a:cubicBezTo>
                    <a:pt x="9" y="4"/>
                    <a:pt x="6" y="10"/>
                    <a:pt x="15" y="12"/>
                  </a:cubicBezTo>
                  <a:cubicBezTo>
                    <a:pt x="18" y="20"/>
                    <a:pt x="19" y="20"/>
                    <a:pt x="27" y="23"/>
                  </a:cubicBezTo>
                  <a:cubicBezTo>
                    <a:pt x="29" y="29"/>
                    <a:pt x="30" y="32"/>
                    <a:pt x="36" y="35"/>
                  </a:cubicBezTo>
                  <a:cubicBezTo>
                    <a:pt x="40" y="40"/>
                    <a:pt x="43" y="40"/>
                    <a:pt x="47" y="45"/>
                  </a:cubicBezTo>
                  <a:cubicBezTo>
                    <a:pt x="49" y="71"/>
                    <a:pt x="49" y="52"/>
                    <a:pt x="56" y="66"/>
                  </a:cubicBezTo>
                  <a:cubicBezTo>
                    <a:pt x="57" y="74"/>
                    <a:pt x="56" y="77"/>
                    <a:pt x="63" y="80"/>
                  </a:cubicBezTo>
                  <a:cubicBezTo>
                    <a:pt x="65" y="85"/>
                    <a:pt x="65" y="83"/>
                    <a:pt x="65" y="86"/>
                  </a:cubicBezTo>
                </a:path>
              </a:pathLst>
            </a:custGeom>
            <a:noFill/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2" name="Freeform 13"/>
            <p:cNvSpPr/>
            <p:nvPr/>
          </p:nvSpPr>
          <p:spPr>
            <a:xfrm>
              <a:off x="546120" y="3362400"/>
              <a:ext cx="112680" cy="13320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71" h="84">
                  <a:moveTo>
                    <a:pt x="69" y="0"/>
                  </a:moveTo>
                  <a:cubicBezTo>
                    <a:pt x="65" y="10"/>
                    <a:pt x="71" y="21"/>
                    <a:pt x="61" y="27"/>
                  </a:cubicBezTo>
                  <a:cubicBezTo>
                    <a:pt x="59" y="37"/>
                    <a:pt x="62" y="55"/>
                    <a:pt x="52" y="57"/>
                  </a:cubicBezTo>
                  <a:cubicBezTo>
                    <a:pt x="49" y="62"/>
                    <a:pt x="49" y="67"/>
                    <a:pt x="46" y="72"/>
                  </a:cubicBezTo>
                  <a:cubicBezTo>
                    <a:pt x="38" y="71"/>
                    <a:pt x="39" y="67"/>
                    <a:pt x="33" y="63"/>
                  </a:cubicBezTo>
                  <a:cubicBezTo>
                    <a:pt x="30" y="58"/>
                    <a:pt x="27" y="56"/>
                    <a:pt x="25" y="51"/>
                  </a:cubicBezTo>
                  <a:cubicBezTo>
                    <a:pt x="23" y="38"/>
                    <a:pt x="25" y="38"/>
                    <a:pt x="10" y="39"/>
                  </a:cubicBezTo>
                  <a:cubicBezTo>
                    <a:pt x="8" y="51"/>
                    <a:pt x="18" y="72"/>
                    <a:pt x="4" y="77"/>
                  </a:cubicBezTo>
                  <a:cubicBezTo>
                    <a:pt x="0" y="82"/>
                    <a:pt x="1" y="79"/>
                    <a:pt x="1" y="84"/>
                  </a:cubicBezTo>
                </a:path>
              </a:pathLst>
            </a:custGeom>
            <a:noFill/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126180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3700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7129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0D748-C94A-4023-852E-C1354A6ED261}" type="slidenum"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mmon Opportunistic Infections in HIV Patients, Part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371600" y="4876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hris Farnitano, MD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ursday, October 8, 2009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Noon Conference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06" name="Picture 4" descr=""/>
          <p:cNvPicPr/>
          <p:nvPr/>
        </p:nvPicPr>
        <p:blipFill>
          <a:blip r:embed="rId1"/>
          <a:stretch/>
        </p:blipFill>
        <p:spPr>
          <a:xfrm>
            <a:off x="2590920" y="1523880"/>
            <a:ext cx="3962160" cy="33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67652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ffect of HAART on Opportunistic Infection Incid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60020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Most OI’s have declined 80-90%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OI’s seen now mostly in 3 group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undiagnosed HIV+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not in care or not adhering to therapy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long time “battle-scarred warriors” failing after a long history of multiple regimens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0-200 T Cell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Pneumocystis Carinii Pnuemonia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oxoplasmosi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ryptococcu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xoplasmo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1027" descr=""/>
          <p:cNvPicPr/>
          <p:nvPr/>
        </p:nvPicPr>
        <p:blipFill>
          <a:blip r:embed="rId1"/>
          <a:stretch/>
        </p:blipFill>
        <p:spPr>
          <a:xfrm>
            <a:off x="2286000" y="1600200"/>
            <a:ext cx="510552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&lt;50 T Ce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MV Retiniti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Mycobacterium Avium Complex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ryptosporidiosi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Progressive Multifocal Leukencephalopathy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M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2051" descr=""/>
          <p:cNvPicPr/>
          <p:nvPr/>
        </p:nvPicPr>
        <p:blipFill>
          <a:blip r:embed="rId1"/>
          <a:stretch/>
        </p:blipFill>
        <p:spPr>
          <a:xfrm>
            <a:off x="2362320" y="1523880"/>
            <a:ext cx="45720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486080" y="99036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Arial"/>
              </a:rPr>
              <a:t>Ockham's razor does not apply for advanced AID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-often multiple diagnoses present simultaneously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ie PCP, CMV, KS, Cocci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12% of bacterial pneumonias also have PCP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10% of PCP pneumonia complicated by bacterial infection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search for second etiology if patient not improving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Arial"/>
              </a:rPr>
              <a:t>Immune reconstitution diseases</a:t>
            </a:r>
            <a:br>
              <a:rPr sz="4400"/>
            </a:br>
            <a:r>
              <a:rPr b="0" lang="en-US" sz="4400" spc="-1" strike="noStrike">
                <a:solidFill>
                  <a:srgbClr val="333333"/>
                </a:solidFill>
                <a:latin typeface="Arial"/>
              </a:rPr>
              <a:t>(HAART attack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209680" y="2514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MAC adeniti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MV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B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PCP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se Study S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Diagnosis: Immune Reconsitution MAC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AFB blood culture from June grew out MAC on 8/12 (hospital day #13)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Also: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Perianal herpes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Squamous cell carcinoma-in-situ, buttock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Vancomycin-resistant enterococcus, groin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Arial"/>
              </a:rPr>
              <a:t>Primary OI prophylaxi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PCP -T cells &lt;200 or thrush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oxo -T cells &lt;100 and +Toxo titer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MAC -  Tcells &lt;50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B – INH x 9 months if PPD &gt;5mm or quantiferon-TB positive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Arial"/>
              </a:rPr>
              <a:t>Toxo prophylax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ptra SS or DS qd or DS TIW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ptra Desensitisation: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1cc qd x 3d, then 2cc qd x 3d, then 5ccqd x 3d, then one SS tab qd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Dapsone 100mg qd +pyramethamine 50mg qweek + leukovorin 25mg qweek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Atovaquone 1500mg qd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Discuss most common opportunistic infections (OIs): Dx and Rx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Discuss immune reconstitution disease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Review primary OI prophylaxi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C prophylax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Zithromax 600mg x 2 tabs qweek reduces infection rate 59%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Also seems to reduce risk of PCP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ytomegalovirus Retinitis - Who Gets I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Rare above 50 T Cell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Reactivation disease: most HIV patients CMV IgG+ (90% of gay HIV+ men)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90% of CMV disease is retiniti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ytomegalovirus Retinitis - Sympto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painless, progressive visual los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unilateral blurry vision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loater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ytomegalovirus Retinitis -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oalescing white perivascular exudates 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urrounded by hemorrhage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brushfire pattern or tomato and cheese pizza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5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ytomegalovirus Retinit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3" descr=""/>
          <p:cNvPicPr/>
          <p:nvPr/>
        </p:nvPicPr>
        <p:blipFill>
          <a:blip r:embed="rId1"/>
          <a:stretch/>
        </p:blipFill>
        <p:spPr>
          <a:xfrm>
            <a:off x="2057400" y="1828800"/>
            <a:ext cx="48006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ytomegalovirus Retinit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3" descr=""/>
          <p:cNvPicPr/>
          <p:nvPr/>
        </p:nvPicPr>
        <p:blipFill>
          <a:blip r:embed="rId1"/>
          <a:stretch/>
        </p:blipFill>
        <p:spPr>
          <a:xfrm>
            <a:off x="2400480" y="1981080"/>
            <a:ext cx="48006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ytomegalovirus Retinitis - Diagno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if you suspect it, obtain ophthalmologist confirmation within 24-48 hrs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ytomegalovirus Retinitis - Treat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Valgancyclovir 900mg </a:t>
            </a:r>
            <a:r>
              <a:rPr b="1" lang="en-US" sz="3200" spc="-1" strike="noStrike" u="sng">
                <a:solidFill>
                  <a:srgbClr val="333333"/>
                </a:solidFill>
                <a:uFillTx/>
                <a:latin typeface="Arial"/>
              </a:rPr>
              <a:t>PO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 BID x 21 days, then qd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Adverse effects: 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neutropenia ANC&lt;500 in 15%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thrombocytopenia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anemia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50%: nausea, vomiting, abdominal pain or diarrhea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5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" dur="500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angcyclivir intraocular impla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onsider in addition to systemic therapy: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Surgically implanted depo device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Effective for 6 months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Replace at 6 months if still not immune reconstituted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Consider for sight threatening lesions near the central visual field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" dur="5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ycobacterium avium Complex - Who gets i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 Cells &lt;50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creen with blood culture for AFB x 1 q 3 months to detect subclinical disease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3" dur="5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3880" y="1066320"/>
            <a:ext cx="2743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027" descr=""/>
          <p:cNvPicPr/>
          <p:nvPr/>
        </p:nvPicPr>
        <p:blipFill>
          <a:blip r:embed="rId1"/>
          <a:stretch/>
        </p:blipFill>
        <p:spPr>
          <a:xfrm>
            <a:off x="3276720" y="457200"/>
            <a:ext cx="452592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ycobacterium avium Complex - Sympto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ever, night sweat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weight los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diarrhea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5" dur="5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0" dur="5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ycobacterium avium Complex -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anemia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Neutropenia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ever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Diarrhea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wasting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7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" dur="5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7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2" dur="5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" dur="500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ycobacterium avium Complex - Diagno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Blood culture usually positive if symptomatic but takes weeks to grow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If need to know sooner then do bone marrow Bx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Positive sputum culture usually colonization, not active disease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Positive stool culture may be colonization, not active disease, mucosal bx more indicative of disease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4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9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4" dur="5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9" dur="5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C-filled macrophages in sple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3" descr=""/>
          <p:cNvPicPr/>
          <p:nvPr/>
        </p:nvPicPr>
        <p:blipFill>
          <a:blip r:embed="rId1"/>
          <a:stretch/>
        </p:blipFill>
        <p:spPr>
          <a:xfrm>
            <a:off x="2629080" y="1981080"/>
            <a:ext cx="48006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ycobacterium avium Complex - Treat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arithromycin 500mg BID +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Ethambutol 15mg/kg/d +/-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Rifabutin 300mg qd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reatment failure rate is high without immune reconstitution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drug toxicity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development of resistance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6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1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6" dur="5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1" dur="5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4" dur="500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7" dur="500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se Study S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After 4 months of anti-MAC therapy + potent anti-HIV therapy: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 Cells 71 viral load &lt;48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atient still hospitaliz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Large effusions persis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Dubhoff tube required for feeding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Diffuse chest/abdominal adenopathy persist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MAC Cx’s show partial/complete resistance to all MAC drugs except clofazamin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rognosis?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371600" y="1142640"/>
            <a:ext cx="2743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3" descr=""/>
          <p:cNvPicPr/>
          <p:nvPr/>
        </p:nvPicPr>
        <p:blipFill>
          <a:blip r:embed="rId1"/>
          <a:stretch/>
        </p:blipFill>
        <p:spPr>
          <a:xfrm>
            <a:off x="3276720" y="457200"/>
            <a:ext cx="452592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Pyramid approach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Prophylaxis simple: Septra and Zithromax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Rule out TB in pneumonia with T Cells &lt;200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Avoid treating PCP empirically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An ounce of prevention pills is worth a pound of Treatment pill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4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9" dur="5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4" dur="5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9" dur="500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4" dur="500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3716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 ounce of prevention pills is worth a pound of Treatment pi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3" descr=""/>
          <p:cNvPicPr/>
          <p:nvPr/>
        </p:nvPicPr>
        <p:blipFill>
          <a:blip r:embed="rId1"/>
          <a:stretch/>
        </p:blipFill>
        <p:spPr>
          <a:xfrm>
            <a:off x="1905120" y="2590920"/>
            <a:ext cx="7238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se Study S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27 yo male seen in clinic in June 2009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Meds: unboosted atazanavir + Truvada since 1/09; ranitidine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 cells 5; viral load 30,000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Why is his anti-HIV cocktail failing?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se Study S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Ritonavir added to boost atazanavir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Patient instructed to take ranitidine in AM only and antivirals in PM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Blood Cx for AFB, HIV genotype ordered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se Study S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Admitted to Kaiser August, 2009 with diffuse warm, tender lymphadenopathy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Biopsy performed, read as suspicious for lymphoma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ransferred to CCRMC after 7 days on clarithromycin, ethambutol, rifabutin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 Cells 209, viral load 726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What is patient’s diagnosis?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are the most common OI’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ohort Studies in pre-triple therapy era: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Candida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Pneumocystis Carinii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Cytomegalovirus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Mycobacterium Avium Complex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Pneumocystis - second episode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Toxoplasmi gondii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Herpes zoster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uses of death, PHC HIV clin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2007-9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RH: Crypto meningiti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W: street drug overdos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A: sepsis, pneumonia and massive hemoptysi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DW: metastatic prostate ca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RP: CVA, laryngeal ca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VA: PML (progressive multifocal leukencephalopathy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M: bacterial pneumonia, ETOH cirrhosis, wasting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Is diagnosed, PHC HIV clin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2005-9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CP pneumonia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Esophageal Candidiasi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Herpes Simplex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Herpes Zost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M. Kansasii immune reconstitution pneumonia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Mycobacterium Avium Complex (MAC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ryptococcal Fungemia, meningiti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Histoplasmosis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M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8T16:40:48Z</dcterms:created>
  <dc:creator>health</dc:creator>
  <dc:description/>
  <dc:language>en-US</dc:language>
  <cp:lastModifiedBy>HCMARTINEZ</cp:lastModifiedBy>
  <cp:lastPrinted>2003-02-13T16:33:18Z</cp:lastPrinted>
  <dcterms:modified xsi:type="dcterms:W3CDTF">2009-12-10T19:46:26Z</dcterms:modified>
  <cp:revision>23</cp:revision>
  <dc:subject/>
  <dc:title>Primer on Opportunistic Infections</dc:title>
</cp:coreProperties>
</file>