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15E-46E8-43FE-98C7-637DF56A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7C3-AC4A-4E9E-B12F-67CC8D6B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A0B-4233-4E54-ABBC-EA284FFA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0D5-7D25-407F-A355-3CB51F9C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6DE6-94B5-4BE4-92C7-F2C31F11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6EEF-58AB-44D3-BA5C-EE036624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7858-2ADB-4B1C-850E-8D2BE244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A718-C243-4A39-892C-A1736998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8E0E-58A8-4EA4-93E4-E103F07B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A270-4309-4B28-8692-6B2EA4D2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A410-BEAB-4029-A107-A85EEB3D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CF5-0D36-4304-886F-FABBDF1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9D2C-6FFE-434B-86CC-A6463DD3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9520-2B48-4F60-9592-B5289DE6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0813-53BB-4A96-AF9A-150C54A4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6924-6A85-4FF1-ADD4-E424F410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A564-EAA2-4EBD-82A2-581073AB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A72-1C33-4148-9463-C5F8CA73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088-AF8C-4269-904F-09A7A738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8EF-A072-48B8-99AB-FEEBB3DB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512-0277-47ED-BA3D-CD2E8FD4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1F3-6235-4585-AE10-29BD4F65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A64-D679-441C-A175-95615739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C71-E0E2-4743-B75B-81307D4D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7D8D-F4F3-48AD-9884-A2A865339A5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7A0B-4CC9-41C7-BC4C-48BA10FED5A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Opportunistic Infections in HIV Patients,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ursday, October 8,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OI’s have declined 80-9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I’s seen now mostly in 3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diagnosed HIV+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t in care or not adhering to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neumocystis Carinii Pnuem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plasm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coc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sporidi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gressive Multifocal Leukencephal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51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6080" y="9903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often multiple diagnoses present simultaneous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e PCP, CMV, KS, Coc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2% of bacterial pneumonias also have PC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of PCP pneumonia complicated by bacterial inf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arch for second etiology if patient not improv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ade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is: Immune Reconsitution MA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B blood culture from June grew out MAC on 8/12 (hospital day #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ianal herp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quamous cell carcinoma-in-situ, but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ncomycin-resistant enterococcus, gro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 -T cells &lt;200 or thrus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 -T cells &lt;100 and +Toxo ti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-  T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 – INH x 9 months if PPD &gt;5mm or quantiferon-TB posi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SS or DS qd or DS TI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Desensitisatio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tovaquone 15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most common opportunistic infections (OIs): Dx and R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immune reconstitution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primary OI prophylax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Zithromax 600mg x 2 tabs qweek reduces infection rate 59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eems to reduce risk of 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are above 50 T Ce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90% of CMV disease is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inless, progressive visual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lateral blurry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oat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alescing white perivascular exudate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rounded by hemorrh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ushfire pattern or tomato and cheese pizz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4004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lgancyclovir 900mg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P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D x 21 days, then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erse effects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utropenia ANC&lt;500 in 15%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0%: nausea, vomiting, abdominal pain or diarrhe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sider in addition to systemic therapy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rgically implanted depo dev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for 6 month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place at 6 months if still not immune reconstitu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, night swea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ight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utrope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s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ood culture usually positive if symptomatic but takes weeks to gr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f need to know sooner then do bone marrow B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putum culture usually colonization, not active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tool culture may be colonization, not active disease, mucosal bx more indicative of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rithromycin 500mg BID +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thambutol 15mg/kg/d +/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fabutin 3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 failure rate is high without immune reconstitu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rug toxi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ment of resist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ter 4 months of anti-MAC therapy + potent anti-HIV therapy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 Cells 71 viral load &lt;4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tient still hospitaliz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effusions persi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ubhoff tube required for f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ffuse chest/abdominal adenopathy pers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 Cx’s show partial/complete resistance to all MAC drugs except clofaz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gnosi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yramid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hylaxis simple: Septra and Zithroma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le out TB in pneumonia with T Cells &lt;2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void treating PCP empirical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ounce of prevention pills is worth a pound of Treatment pi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7 yo male seen in clinic in June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s: unboosted atazanavir + Truvada since 1/09; ranitid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5; viral load 30,0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y is his anti-HIV cocktail fail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tonavir added to boost atazanav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 instructed to take ranitidine in AM only and antivirals in P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od Cx for AFB, HIV genotype ord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mitted to Kaiser August, 2009 with diffuse warm, tender lymphaden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iopsy performed, read as suspicious for lymphom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red to CCRMC after 7 days on clarithromycin, ethambutol, rifabut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209, viral load 7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patient’s diagnosi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hort Studies in pre-triple therapy er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did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Carin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ytomegalovir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- second episo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xoplasmi gond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7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H: Crypto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: street drug overdo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A: sepsis, pneumonia and massive hemopt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: metastatic prostate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P: CVA, laryngeal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: PML (progressive multifocal leukencephalopath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M: bacterial pneumonia, ETOH cirrhosis, w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5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CP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ophageal Candidia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Simple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. Kansasii immune reconstitution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ycobacterium Avium Complex (MA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yptococcal Fungemia,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stoplasmos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HCMARTINEZ</cp:lastModifiedBy>
  <cp:lastPrinted>2003-02-13T16:33:18Z</cp:lastPrinted>
  <dcterms:modified xsi:type="dcterms:W3CDTF">2009-12-10T19:46:26Z</dcterms:modified>
  <cp:revision>23</cp:revision>
  <dc:subject/>
  <dc:title>Primer on Opportunistic Infections</dc:title>
</cp:coreProperties>
</file>