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187-49B8-461C-8E47-63A37578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A6C-78E5-45AC-A684-54CC5691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2E3-0623-4BD1-B326-FEAE15A2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044-447E-4E18-BAA6-494DEEE2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BF6-DA13-41BD-9C84-506A11BB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350-BBE3-4955-9250-903FBA8A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3077-778D-4450-ADF5-8A45D4E0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BE9-9C57-47C6-94DF-92866F2F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C669-1C01-421F-9399-A9823C4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184-7967-4DD8-92DF-5183C87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89B9-73C0-490D-8BB3-CAA48688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EF0-94E6-4A0A-B2DF-1F746FB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ED1-415D-4909-8969-F54BD1F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C8BB-AD1E-43B0-B4BE-198ABA0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D888-C362-47FB-BCE6-C77780E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D74-AB29-4532-9F08-E3CD7343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8B2B-846B-4E5F-9310-B43F4723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043-35B2-46ED-AEE9-A66B3743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3CD-0BFB-45A5-B254-42C06E86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580-D9A0-4751-859A-EEB3E9CD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A1C-C3B2-4CDD-8090-9C4436B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67D-BC16-4ECC-B7B0-32E7A28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0A5-527A-4C8F-9CCF-62BC51C0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9BA-2551-478A-95F2-17C1C721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6A1-A167-4386-9941-F32D445F9CE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C880-A267-4C79-8CD9-F41C312FC0A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12-10T19:46:26Z</dcterms:modified>
  <cp:revision>23</cp:revision>
  <dc:subject/>
  <dc:title>Primer on Opportunistic Infections</dc:title>
</cp:coreProperties>
</file>