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8B5-0FCD-476E-8BE5-C9862763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4EB-4A34-4448-89E4-6FD585E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9C9-675A-4999-898F-748ED382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F6C-67BD-4612-A6B9-4EAC7690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3511-D51B-4F14-9970-8DCF3142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140-8298-463B-8567-F29D1970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F52-E63C-47AB-A9DD-6202EF2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C666-6209-4541-A398-0B1B723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106-C736-43A6-8DD9-F753D305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F5EA-FE83-4D8A-B148-7F32A42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7B85-DD95-4D28-A21C-C4854DD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DA0-FD87-4D78-A445-E086074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915-E1A9-4AC8-9390-061A700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AAC4-5942-4654-922F-13ADA54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C142-CFA2-4D3D-959E-FEE562A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5D8-AD4C-4A85-9AED-B0F7390E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2BF6-889D-40AE-A54E-B5E18332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549-0EC9-4A8A-B7E1-A9F88EC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4C2-1FF6-4E90-A879-D574F6E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D65-6219-4833-BCBC-F216AA93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387-BC7C-4997-BF80-7EC5389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C5C-1EED-46BD-B6AE-A574096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9F2-3AEE-459D-A551-6C2FC39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C0B-17D5-4563-85DC-52E3426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68E-6C07-4A7F-B17B-DA112F502B6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554-2581-4BCB-8056-D59ACCE1CE5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12-10T19:46:26Z</dcterms:modified>
  <cp:revision>23</cp:revision>
  <dc:subject/>
  <dc:title>Primer on Opportunistic Infections</dc:title>
</cp:coreProperties>
</file>