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221-FE4A-4A67-BD30-F85886F0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83E-20A3-4864-9771-0899DAA3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A1F-8357-4C41-A430-D4427EC5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FA0-30AA-48C2-9ECC-DDC40C17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2F68-21E1-4BD2-AD90-2F61C569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EE96-06BA-4FD4-B3BF-FF22D25A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A64C-D43E-4A31-9778-F48BC3B8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77F9-8B8D-4AF4-95CF-CED7B6DD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9542-28BA-4987-B803-F27A4DF4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4863-B529-409F-B3B6-7600EF8D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9FB0-5926-4CFD-82BB-2B744A8B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350-18A9-4575-B543-D2048E19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4BCA-87A1-4C7D-95CF-538EBB23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A5B2-9409-4DD3-9C96-A355D562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E662-0747-42B6-B0AC-DD35162B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D946-EA38-4C45-8FB6-E961C363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089B-3D4B-42AE-BD0D-9061B074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AC6B-C9AE-4139-8A50-387CFA9A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EC5-03E4-4407-9D27-96953EA4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D1F-3B59-4855-8335-8A02CEFB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6521-6B38-48D8-97F5-32B847B1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F79-209A-4D25-8D93-0827EEAB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C25-9685-414C-A67D-ABAD1BAE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40A-3ED3-441D-87AD-D696AC36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1279-C73F-4648-82C8-6D044BA09F6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C75B-3843-494A-8C08-113ABA7CD3EE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Opportunistic Infections in HIV Patients, Par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ris Farnitano, M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ursday, October 8, 20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on Confer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002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st OI’s have declined 80-90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I’s seen now mostly in 3 group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ndiagnosed HIV+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ot in care or not adhering to therap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neumocystis Carinii Pnuemo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xoplasm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yptococcu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27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MV Reti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ycobacterium Avium Comple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yptosporidi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gressive Multifocal Leukencephalopat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51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86080" y="99036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often multiple diagnoses present simultaneous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e PCP, CMV, KS, Cocc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2% of bacterial pneumonias also have PCP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0% of PCP pneumonia complicated by bacterial infec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arch for second etiology if patient not improv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 ade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MV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C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gnosis: Immune Reconsitution MAC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FB blood culture from June grew out MAC on 8/12 (hospital day #13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rianal herp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quamous cell carcinoma-in-situ, buttock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ancomycin-resistant enterococcus, groi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CP -T cells &lt;200 or thrus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oxo -T cells &lt;100 and +Toxo ti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C -  Tcells &lt;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B – INH x 9 months if PPD &gt;5mm or quantiferon-TB positi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ptra SS or DS qd or DS TIW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ptra Desensitisation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tovaquone 1500mg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scuss most common opportunistic infections (OIs): Dx and R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scuss immune reconstitution disea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view primary OI prophylax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Zithromax 600mg x 2 tabs qweek reduces infection rate 59%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 seems to reduce risk of PCP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are above 50 T Cel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90% of CMV disease is retinit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inless, progressive visual lo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unilateral blurry vi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loat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alescing white perivascular exudate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rrounded by hemorrhag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rushfire pattern or tomato and cheese pizz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24004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algancyclovir 900mg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PO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BID x 21 days, then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verse effects: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eutropenia ANC&lt;500 in 15%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rombocytopen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emi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50%: nausea, vomiting, abdominal pain or diarrhe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sider in addition to systemic therapy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rgically implanted depo devi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ffective for 6 month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place at 6 months if still not immune reconstitut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&lt;5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0663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27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ever, night swea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eight los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em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eutrope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ast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lood culture usually positive if symptomatic but takes weeks to grow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f need to know sooner then do bone marrow Bx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sputum culture usually colonization, not active 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stool culture may be colonization, not active disease, mucosal bx more indicative of disea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62908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arithromycin 500mg BID +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thambutol 15mg/kg/d +/-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ifabutin 300mg q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eatment failure rate is high without immune reconstitu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rug toxic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velopment of resistan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fter 4 months of anti-MAC therapy + potent anti-HIV therapy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 Cells 71 viral load &lt;48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tient still hospitaliz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effusions persi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ubhoff tube required for feed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ffuse chest/abdominal adenopathy persis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C Cx’s show partial/complete resistance to all MAC drugs except clofazami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gnosi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yramid approac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phylaxis simple: Septra and Zithromax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ule out TB in pneumonia with T Cells &lt;20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void treating PCP empirical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 ounce of prevention pills is worth a pound of Treatment pil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7 yo male seen in clinic in June 200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s: unboosted atazanavir + Truvada since 1/09; ranitidin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5; viral load 30,000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y is his anti-HIV cocktail failing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itonavir added to boost atazanavi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tient instructed to take ranitidine in AM only and antivirals in P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lood Cx for AFB, HIV genotype orde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mitted to Kaiser August, 2009 with diffuse warm, tender lymphadenopath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iopsy performed, read as suspicious for lymphom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ansferred to CCRMC after 7 days on clarithromycin, ethambutol, rifabuti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 Cells 209, viral load 726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is patient’s diagnosis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hort Studies in pre-triple therapy era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ndid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neumocystis Carini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ytomegaloviru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ycobacterium Avium Complex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neumocystis - second episod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oxoplasmi gondii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erpes zost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07-9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H: Crypto meningit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: street drug overdos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A: sepsis, pneumonia and massive hemopty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W: metastatic prostate 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P: CVA, laryngeal c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A: PML (progressive multifocal leukencephalopathy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M: bacterial pneumonia, ETOH cirrhosis, wast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005-9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CP pneumo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sophageal Candidia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rpes Simple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erpes Zost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. Kansasii immune reconstitution pneumo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ycobacterium Avium Complex (MAC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ryptococcal Fungemia, meningit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stoplasmosi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M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Lydia Rodriguez</cp:lastModifiedBy>
  <cp:lastPrinted>2003-02-13T16:33:18Z</cp:lastPrinted>
  <dcterms:modified xsi:type="dcterms:W3CDTF">2009-12-04T17:07:15Z</dcterms:modified>
  <cp:revision>23</cp:revision>
  <dc:subject/>
  <dc:title>Primer on Opportunistic Infections</dc:title>
</cp:coreProperties>
</file>