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F5E-1B68-4DF6-8C72-AAEAAB03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3D3-4247-448D-AD69-48FE1E6F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8E8-F3B2-4A38-8F45-7B021981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958-B1EC-49B4-B2CC-FFEA3891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AF89-82BD-4CB0-8DAD-FA23DB8D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7314-2D7E-4FF0-AFCF-EC4597F1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0937-9ABA-4323-B68E-F36DCD17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6312-4021-49A5-968F-5D207A5A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D6BA-FAD3-48F9-8DD4-E572448E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A778-6D91-440D-9086-FBC28729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FC8D-7DE2-408E-93E9-10CCEDE3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B54-98D1-4CDF-8F31-5CF18F0E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80C4-E274-4E8A-9C72-1E5C88A9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1653-465B-4C0C-B3FF-C6E86FBE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C4F3-164A-483E-92CC-6B065D18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9CD0-5323-4416-B1F4-AAB15F4E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88E2-FC32-41B8-AFA3-BB145DAE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142-CD0A-4E06-B867-536B125E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F7F-C046-4BE3-8518-F054992F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CAA-3E4E-4EED-985D-76B2E16F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2A1-4B46-46FA-B9C6-2764C60D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F6D-02D7-4EFA-B026-9DDBCE33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E7E-042A-4CE0-B27D-DFF661CE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7B4-873C-44CD-A714-31682C92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81DE-90CB-409D-A6B5-50A98FCFEDD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7BF1-9309-48EA-8B78-F9E41FE24B6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Opportunistic Infections in HIV Patients, 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ris Farnitano, M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ursday, October 8,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on Confer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00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st OI’s have declined 80-90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I’s seen now mostly in 3 group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diagnosed HIV+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t in care or not adhering to therap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neumocystis Carinii Pnuemo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plasm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coccu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27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sporidi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gressive Multifocal Leukencephal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51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86080" y="99036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often multiple diagnoses present simultaneous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e PCP, CMV, KS, Cocc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2% of bacterial pneumonias also have PCP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0% of PCP pneumonia complicated by bacterial infec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arch for second etiology if patient not improv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ade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gnosis: Immune Reconsitution MA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B blood culture from June grew out MAC on 8/12 (hospital day #13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ianal herp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quamous cell carcinoma-in-situ, buttock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ancomycin-resistant enterococcus, groi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 -T cells &lt;200 or thrus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 -T cells &lt;100 and +Toxo ti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-  T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 – INH x 9 months if PPD &gt;5mm or quantiferon-TB posi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SS or DS qd or DS TI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Desensitisation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tovaquone 15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most common opportunistic infections (OIs): Dx and R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immune reconstitution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iew primary OI prophylax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Zithromax 600mg x 2 tabs qweek reduces infection rate 59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 seems to reduce risk of 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are above 50 T Ce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90% of CMV disease is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inless, progressive visual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nilateral blurry vi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loat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alescing white perivascular exudate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rrounded by hemorrh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rushfire pattern or tomato and cheese pizz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4004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algancyclovir 900mg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PO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BID x 21 days, then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verse effects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utropenia ANC&lt;500 in 15%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rombocytopen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0%: nausea, vomiting, abdominal pain or diarrhe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sider in addition to systemic therapy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rgically implanted depo devi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ffective for 6 month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place at 6 months if still not immune reconstitut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27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, night swea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eight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eutrope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as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lood culture usually positive if symptomatic but takes weeks to gr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f need to know sooner then do bone marrow B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putum culture usually colonization, not active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tool culture may be colonization, not active disease, mucosal bx more indicative of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6290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arithromycin 500mg BID +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thambutol 15mg/kg/d +/-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fabutin 3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eatment failure rate is high without immune reconstitu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rug toxic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velopment of resista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ter 4 months of anti-MAC therapy + potent anti-HIV therapy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 Cells 71 viral load &lt;48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tient still hospitaliz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effusions persi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ubhoff tube required for feed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ffuse chest/abdominal adenopathy persis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C Cx’s show partial/complete resistance to all MAC drugs except clofazami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gnosi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yramid approa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phylaxis simple: Septra and Zithroma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ule out TB in pneumonia with T Cells &lt;2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void treating PCP empirical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 ounce of prevention pills is worth a pound of Treatment pi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7 yo male seen in clinic in June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s: unboosted atazanavir + Truvada since 1/09; ranitidi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5; viral load 30,0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y is his anti-HIV cocktail failing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tonavir added to boost atazanavi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tient instructed to take ranitidine in AM only and antivirals in P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od Cx for AFB, HIV genotype orde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mitted to Kaiser August, 2009 with diffuse warm, tender lymphaden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iopsy performed, read as suspicious for lymphom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ansferred to CCRMC after 7 days on clarithromycin, ethambutol, rifabuti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209, viral load 726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patient’s diagnosis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hort Studies in pre-triple therapy era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ndid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Carin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ytomegaloviru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- second episod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oxoplasmi gond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7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H: Crypto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: street drug overdos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A: sepsis, pneumonia and massive hemopty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W: metastatic prostate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P: CVA, laryngeal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A: PML (progressive multifocal leukencephalopathy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M: bacterial pneumonia, ETOH cirrhosis, was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5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CP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sophageal Candidia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Simple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. Kansasii immune reconstitution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ycobacterium Avium Complex (MAC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yptococcal Fungemia,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stoplasmosi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M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Lydia Rodriguez</cp:lastModifiedBy>
  <cp:lastPrinted>2003-02-13T16:33:18Z</cp:lastPrinted>
  <dcterms:modified xsi:type="dcterms:W3CDTF">2009-12-04T17:07:15Z</dcterms:modified>
  <cp:revision>23</cp:revision>
  <dc:subject/>
  <dc:title>Primer on Opportunistic Infections</dc:title>
</cp:coreProperties>
</file>