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288588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861480"/>
            <a:ext cx="874404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71560" y="1981080"/>
            <a:ext cx="8524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71560" y="3793320"/>
            <a:ext cx="8524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861480"/>
            <a:ext cx="874404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1560" y="1981080"/>
            <a:ext cx="4159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9800" y="1981080"/>
            <a:ext cx="4159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71560" y="3793320"/>
            <a:ext cx="4159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9800" y="3793320"/>
            <a:ext cx="4159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861480"/>
            <a:ext cx="874404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560" y="1981080"/>
            <a:ext cx="274464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53720" y="1981080"/>
            <a:ext cx="274464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6240" y="1981080"/>
            <a:ext cx="274464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71560" y="3793320"/>
            <a:ext cx="274464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53720" y="3793320"/>
            <a:ext cx="274464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6240" y="3793320"/>
            <a:ext cx="274464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861480"/>
            <a:ext cx="874404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71560" y="1981080"/>
            <a:ext cx="8524800" cy="34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861480"/>
            <a:ext cx="874404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71560" y="1981080"/>
            <a:ext cx="8524800" cy="346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861480"/>
            <a:ext cx="874404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1981080"/>
            <a:ext cx="4159800" cy="346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9800" y="1981080"/>
            <a:ext cx="4159800" cy="346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861480"/>
            <a:ext cx="874404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861480"/>
            <a:ext cx="8744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861480"/>
            <a:ext cx="874404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1560" y="1981080"/>
            <a:ext cx="4159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9800" y="1981080"/>
            <a:ext cx="4159800" cy="346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71560" y="3793320"/>
            <a:ext cx="4159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861480"/>
            <a:ext cx="874404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1981080"/>
            <a:ext cx="4159800" cy="346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9800" y="1981080"/>
            <a:ext cx="4159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9800" y="3793320"/>
            <a:ext cx="4159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861480"/>
            <a:ext cx="874404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71560" y="1981080"/>
            <a:ext cx="4159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9800" y="1981080"/>
            <a:ext cx="4159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71560" y="3793320"/>
            <a:ext cx="8524800" cy="16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861480"/>
            <a:ext cx="874404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560" y="1981080"/>
            <a:ext cx="8524800" cy="346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Aft>
                <a:spcPts val="1749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Aft>
                <a:spcPts val="174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91360" indent="-178200">
              <a:spcAft>
                <a:spcPts val="174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248120" indent="-178200">
              <a:spcAft>
                <a:spcPts val="1749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4520" indent="-178200">
              <a:spcAft>
                <a:spcPts val="1749"/>
              </a:spcAft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4520" indent="-178200">
              <a:spcAft>
                <a:spcPts val="17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4520" indent="-178200">
              <a:spcAft>
                <a:spcPts val="17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24"/>
          <p:cNvSpPr/>
          <p:nvPr/>
        </p:nvSpPr>
        <p:spPr>
          <a:xfrm>
            <a:off x="4414680" y="6005520"/>
            <a:ext cx="95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2264040"/>
            <a:ext cx="8762760" cy="11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y 2010, 45% of American women will be over age 50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897120" y="6043680"/>
            <a:ext cx="3542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atl Center for Health Stat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85560" y="2600280"/>
            <a:ext cx="7743960" cy="17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7520" bIns="47520" anchor="b" anchorCtr="1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Menstrual Cycle Changes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Hallmark of Perimenopaus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520" y="464760"/>
            <a:ext cx="8744040" cy="57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hanges in Cycle Length During Perimenopause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629440" y="1368360"/>
            <a:ext cx="487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Menstrual Cycle Length Short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698480" y="5372280"/>
            <a:ext cx="187560" cy="120600"/>
          </a:xfrm>
          <a:custGeom>
            <a:avLst/>
            <a:gdLst>
              <a:gd name="textAreaLeft" fmla="*/ 0 w 187560"/>
              <a:gd name="textAreaRight" fmla="*/ 187920 w 1875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18" h="76">
                <a:moveTo>
                  <a:pt x="2" y="0"/>
                </a:moveTo>
                <a:lnTo>
                  <a:pt x="0" y="76"/>
                </a:lnTo>
                <a:lnTo>
                  <a:pt x="118" y="7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 flipH="1">
            <a:off x="1619280" y="2327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 flipH="1">
            <a:off x="1619280" y="2567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1619280" y="2801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8"/>
          <p:cNvSpPr/>
          <p:nvPr/>
        </p:nvSpPr>
        <p:spPr>
          <a:xfrm flipH="1">
            <a:off x="1619280" y="30146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H="1">
            <a:off x="1619280" y="3251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0"/>
          <p:cNvSpPr/>
          <p:nvPr/>
        </p:nvSpPr>
        <p:spPr>
          <a:xfrm flipH="1">
            <a:off x="1619280" y="34718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1619280" y="37083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1619280" y="3906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 flipH="1">
            <a:off x="1619280" y="41353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 flipH="1">
            <a:off x="1619280" y="4363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 flipH="1">
            <a:off x="1619280" y="45784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 flipH="1">
            <a:off x="1619280" y="4799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 flipH="1">
            <a:off x="1619280" y="50115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619280" y="524844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9"/>
          <p:cNvSpPr/>
          <p:nvPr/>
        </p:nvSpPr>
        <p:spPr>
          <a:xfrm flipH="1">
            <a:off x="1630440" y="5492880"/>
            <a:ext cx="77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2169360" y="5411880"/>
            <a:ext cx="180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3228120" y="541188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4257720" y="541188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5261760" y="5411880"/>
            <a:ext cx="3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6275520" y="541188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5"/>
          <p:cNvSpPr/>
          <p:nvPr/>
        </p:nvSpPr>
        <p:spPr>
          <a:xfrm>
            <a:off x="7303320" y="541188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8317080" y="541188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7"/>
          <p:cNvSpPr/>
          <p:nvPr/>
        </p:nvSpPr>
        <p:spPr>
          <a:xfrm flipH="1">
            <a:off x="1846080" y="5394240"/>
            <a:ext cx="83880" cy="17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8"/>
          <p:cNvSpPr/>
          <p:nvPr/>
        </p:nvSpPr>
        <p:spPr>
          <a:xfrm flipH="1">
            <a:off x="1947600" y="5394240"/>
            <a:ext cx="83880" cy="17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1623960" y="5317920"/>
            <a:ext cx="174600" cy="8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1623960" y="5249880"/>
            <a:ext cx="174600" cy="8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1"/>
          <p:cNvSpPr/>
          <p:nvPr/>
        </p:nvSpPr>
        <p:spPr>
          <a:xfrm>
            <a:off x="2101680" y="3497400"/>
            <a:ext cx="6226200" cy="745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2"/>
          <p:cNvSpPr/>
          <p:nvPr/>
        </p:nvSpPr>
        <p:spPr>
          <a:xfrm>
            <a:off x="2689200" y="2346480"/>
            <a:ext cx="0" cy="2636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3681360" y="3024360"/>
            <a:ext cx="0" cy="2201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4"/>
          <p:cNvSpPr/>
          <p:nvPr/>
        </p:nvSpPr>
        <p:spPr>
          <a:xfrm>
            <a:off x="4708440" y="2795760"/>
            <a:ext cx="0" cy="1965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5"/>
          <p:cNvSpPr/>
          <p:nvPr/>
        </p:nvSpPr>
        <p:spPr>
          <a:xfrm>
            <a:off x="5729400" y="3024360"/>
            <a:ext cx="0" cy="1766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6"/>
          <p:cNvSpPr/>
          <p:nvPr/>
        </p:nvSpPr>
        <p:spPr>
          <a:xfrm>
            <a:off x="6727680" y="3040200"/>
            <a:ext cx="0" cy="1736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7"/>
          <p:cNvSpPr/>
          <p:nvPr/>
        </p:nvSpPr>
        <p:spPr>
          <a:xfrm>
            <a:off x="7748640" y="3473280"/>
            <a:ext cx="0" cy="1432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8"/>
          <p:cNvSpPr/>
          <p:nvPr/>
        </p:nvSpPr>
        <p:spPr>
          <a:xfrm>
            <a:off x="2638440" y="228924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9"/>
          <p:cNvSpPr/>
          <p:nvPr/>
        </p:nvSpPr>
        <p:spPr>
          <a:xfrm>
            <a:off x="2638440" y="342432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0"/>
          <p:cNvSpPr/>
          <p:nvPr/>
        </p:nvSpPr>
        <p:spPr>
          <a:xfrm>
            <a:off x="2638440" y="387360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41"/>
          <p:cNvSpPr/>
          <p:nvPr/>
        </p:nvSpPr>
        <p:spPr>
          <a:xfrm>
            <a:off x="2644920" y="3551400"/>
            <a:ext cx="91800" cy="9180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2"/>
          <p:cNvSpPr/>
          <p:nvPr/>
        </p:nvSpPr>
        <p:spPr>
          <a:xfrm>
            <a:off x="2638440" y="364500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3"/>
          <p:cNvSpPr/>
          <p:nvPr/>
        </p:nvSpPr>
        <p:spPr>
          <a:xfrm>
            <a:off x="2638440" y="497052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4"/>
          <p:cNvSpPr/>
          <p:nvPr/>
        </p:nvSpPr>
        <p:spPr>
          <a:xfrm>
            <a:off x="3659040" y="520704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3659040" y="409428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6"/>
          <p:cNvSpPr/>
          <p:nvPr/>
        </p:nvSpPr>
        <p:spPr>
          <a:xfrm>
            <a:off x="3651120" y="3795840"/>
            <a:ext cx="92160" cy="9180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47"/>
          <p:cNvSpPr/>
          <p:nvPr/>
        </p:nvSpPr>
        <p:spPr>
          <a:xfrm>
            <a:off x="4673520" y="3757680"/>
            <a:ext cx="92160" cy="9216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8"/>
          <p:cNvSpPr/>
          <p:nvPr/>
        </p:nvSpPr>
        <p:spPr>
          <a:xfrm>
            <a:off x="5694480" y="3841920"/>
            <a:ext cx="91800" cy="9180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49"/>
          <p:cNvSpPr/>
          <p:nvPr/>
        </p:nvSpPr>
        <p:spPr>
          <a:xfrm>
            <a:off x="6694560" y="3970440"/>
            <a:ext cx="90360" cy="9180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0"/>
          <p:cNvSpPr/>
          <p:nvPr/>
        </p:nvSpPr>
        <p:spPr>
          <a:xfrm>
            <a:off x="7709040" y="4092480"/>
            <a:ext cx="90360" cy="9216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1"/>
          <p:cNvSpPr/>
          <p:nvPr/>
        </p:nvSpPr>
        <p:spPr>
          <a:xfrm>
            <a:off x="3659040" y="386568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2"/>
          <p:cNvSpPr/>
          <p:nvPr/>
        </p:nvSpPr>
        <p:spPr>
          <a:xfrm>
            <a:off x="3659040" y="341640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3"/>
          <p:cNvSpPr/>
          <p:nvPr/>
        </p:nvSpPr>
        <p:spPr>
          <a:xfrm>
            <a:off x="3659040" y="298116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4"/>
          <p:cNvSpPr/>
          <p:nvPr/>
        </p:nvSpPr>
        <p:spPr>
          <a:xfrm>
            <a:off x="4673520" y="276876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5"/>
          <p:cNvSpPr/>
          <p:nvPr/>
        </p:nvSpPr>
        <p:spPr>
          <a:xfrm>
            <a:off x="4673520" y="342252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6"/>
          <p:cNvSpPr/>
          <p:nvPr/>
        </p:nvSpPr>
        <p:spPr>
          <a:xfrm>
            <a:off x="4673520" y="387360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7"/>
          <p:cNvSpPr/>
          <p:nvPr/>
        </p:nvSpPr>
        <p:spPr>
          <a:xfrm>
            <a:off x="4673520" y="408636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8"/>
          <p:cNvSpPr/>
          <p:nvPr/>
        </p:nvSpPr>
        <p:spPr>
          <a:xfrm>
            <a:off x="4673520" y="474984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9"/>
          <p:cNvSpPr/>
          <p:nvPr/>
        </p:nvSpPr>
        <p:spPr>
          <a:xfrm>
            <a:off x="5694480" y="474336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0"/>
          <p:cNvSpPr/>
          <p:nvPr/>
        </p:nvSpPr>
        <p:spPr>
          <a:xfrm>
            <a:off x="5694480" y="413388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1"/>
          <p:cNvSpPr/>
          <p:nvPr/>
        </p:nvSpPr>
        <p:spPr>
          <a:xfrm>
            <a:off x="5694480" y="392760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2"/>
          <p:cNvSpPr/>
          <p:nvPr/>
        </p:nvSpPr>
        <p:spPr>
          <a:xfrm>
            <a:off x="5694480" y="365292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3"/>
          <p:cNvSpPr/>
          <p:nvPr/>
        </p:nvSpPr>
        <p:spPr>
          <a:xfrm>
            <a:off x="5694480" y="298296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4"/>
          <p:cNvSpPr/>
          <p:nvPr/>
        </p:nvSpPr>
        <p:spPr>
          <a:xfrm>
            <a:off x="6694560" y="4743360"/>
            <a:ext cx="871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5"/>
          <p:cNvSpPr/>
          <p:nvPr/>
        </p:nvSpPr>
        <p:spPr>
          <a:xfrm>
            <a:off x="6694560" y="4135320"/>
            <a:ext cx="871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6"/>
          <p:cNvSpPr/>
          <p:nvPr/>
        </p:nvSpPr>
        <p:spPr>
          <a:xfrm>
            <a:off x="6694560" y="3860640"/>
            <a:ext cx="871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7"/>
          <p:cNvSpPr/>
          <p:nvPr/>
        </p:nvSpPr>
        <p:spPr>
          <a:xfrm>
            <a:off x="6694560" y="3654360"/>
            <a:ext cx="871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6694560" y="2984400"/>
            <a:ext cx="871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9"/>
          <p:cNvSpPr/>
          <p:nvPr/>
        </p:nvSpPr>
        <p:spPr>
          <a:xfrm>
            <a:off x="7709040" y="3425760"/>
            <a:ext cx="871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0"/>
          <p:cNvSpPr/>
          <p:nvPr/>
        </p:nvSpPr>
        <p:spPr>
          <a:xfrm>
            <a:off x="7709040" y="3875040"/>
            <a:ext cx="871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1"/>
          <p:cNvSpPr/>
          <p:nvPr/>
        </p:nvSpPr>
        <p:spPr>
          <a:xfrm>
            <a:off x="7709040" y="4308480"/>
            <a:ext cx="871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2"/>
          <p:cNvSpPr/>
          <p:nvPr/>
        </p:nvSpPr>
        <p:spPr>
          <a:xfrm>
            <a:off x="7709040" y="4879800"/>
            <a:ext cx="871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3"/>
          <p:cNvSpPr/>
          <p:nvPr/>
        </p:nvSpPr>
        <p:spPr>
          <a:xfrm>
            <a:off x="7620120" y="2625840"/>
            <a:ext cx="88920" cy="88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74"/>
          <p:cNvSpPr/>
          <p:nvPr/>
        </p:nvSpPr>
        <p:spPr>
          <a:xfrm>
            <a:off x="7616880" y="2378160"/>
            <a:ext cx="92160" cy="9216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5"/>
          <p:cNvSpPr/>
          <p:nvPr/>
        </p:nvSpPr>
        <p:spPr>
          <a:xfrm>
            <a:off x="1303200" y="2211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6"/>
          <p:cNvSpPr/>
          <p:nvPr/>
        </p:nvSpPr>
        <p:spPr>
          <a:xfrm>
            <a:off x="1303200" y="3338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7"/>
          <p:cNvSpPr/>
          <p:nvPr/>
        </p:nvSpPr>
        <p:spPr>
          <a:xfrm>
            <a:off x="1303200" y="4441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8"/>
          <p:cNvSpPr/>
          <p:nvPr/>
        </p:nvSpPr>
        <p:spPr>
          <a:xfrm>
            <a:off x="2036160" y="5546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9"/>
          <p:cNvSpPr/>
          <p:nvPr/>
        </p:nvSpPr>
        <p:spPr>
          <a:xfrm>
            <a:off x="3116160" y="5546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80"/>
          <p:cNvSpPr/>
          <p:nvPr/>
        </p:nvSpPr>
        <p:spPr>
          <a:xfrm>
            <a:off x="4122000" y="5546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81"/>
          <p:cNvSpPr/>
          <p:nvPr/>
        </p:nvSpPr>
        <p:spPr>
          <a:xfrm>
            <a:off x="5130720" y="5546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2"/>
          <p:cNvSpPr/>
          <p:nvPr/>
        </p:nvSpPr>
        <p:spPr>
          <a:xfrm>
            <a:off x="6148440" y="5546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3"/>
          <p:cNvSpPr/>
          <p:nvPr/>
        </p:nvSpPr>
        <p:spPr>
          <a:xfrm>
            <a:off x="7184880" y="5546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4"/>
          <p:cNvSpPr/>
          <p:nvPr/>
        </p:nvSpPr>
        <p:spPr>
          <a:xfrm>
            <a:off x="8199360" y="5546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5"/>
          <p:cNvSpPr/>
          <p:nvPr/>
        </p:nvSpPr>
        <p:spPr>
          <a:xfrm>
            <a:off x="4621320" y="58737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 (ye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6"/>
          <p:cNvSpPr/>
          <p:nvPr/>
        </p:nvSpPr>
        <p:spPr>
          <a:xfrm>
            <a:off x="7818840" y="229788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7"/>
          <p:cNvSpPr/>
          <p:nvPr/>
        </p:nvSpPr>
        <p:spPr>
          <a:xfrm>
            <a:off x="7812000" y="2589120"/>
            <a:ext cx="1953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th, 25th, 50th, 75t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95th centile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88"/>
          <p:cNvSpPr/>
          <p:nvPr/>
        </p:nvSpPr>
        <p:spPr>
          <a:xfrm rot="16200000">
            <a:off x="100800" y="3754440"/>
            <a:ext cx="1436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ycle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da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9"/>
          <p:cNvSpPr/>
          <p:nvPr/>
        </p:nvSpPr>
        <p:spPr>
          <a:xfrm>
            <a:off x="294840" y="6474960"/>
            <a:ext cx="507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apted from Munster K et al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Br J Obstet Gynaeco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1992;99:422-42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90"/>
          <p:cNvSpPr/>
          <p:nvPr/>
        </p:nvSpPr>
        <p:spPr>
          <a:xfrm flipH="1">
            <a:off x="1626480" y="2332080"/>
            <a:ext cx="74520" cy="2976480"/>
          </a:xfrm>
          <a:custGeom>
            <a:avLst/>
            <a:gdLst>
              <a:gd name="textAreaLeft" fmla="*/ -360 w 74520"/>
              <a:gd name="textAreaRight" fmla="*/ 74520 w 74520"/>
              <a:gd name="textAreaTop" fmla="*/ 0 h 2976480"/>
              <a:gd name="textAreaBottom" fmla="*/ 2976840 h 2976480"/>
            </a:gdLst>
            <a:ahLst/>
            <a:rect l="textAreaLeft" t="textAreaTop" r="textAreaRight" b="textAreaBottom"/>
            <a:pathLst>
              <a:path w="1" h="1992">
                <a:moveTo>
                  <a:pt x="0" y="0"/>
                </a:moveTo>
                <a:lnTo>
                  <a:pt x="0" y="199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91"/>
          <p:cNvSpPr/>
          <p:nvPr/>
        </p:nvSpPr>
        <p:spPr>
          <a:xfrm flipV="1">
            <a:off x="1990800" y="5417640"/>
            <a:ext cx="6324480" cy="74880"/>
          </a:xfrm>
          <a:custGeom>
            <a:avLst/>
            <a:gdLst>
              <a:gd name="textAreaLeft" fmla="*/ 0 w 6324480"/>
              <a:gd name="textAreaRight" fmla="*/ 6324840 w 6324480"/>
              <a:gd name="textAreaTop" fmla="*/ 360 h 74880"/>
              <a:gd name="textAreaBottom" fmla="*/ 75600 h 74880"/>
            </a:gdLst>
            <a:ahLst/>
            <a:rect l="textAreaLeft" t="textAreaTop" r="textAreaRight" b="textAreaBottom"/>
            <a:pathLst>
              <a:path w="4464" h="1">
                <a:moveTo>
                  <a:pt x="0" y="0"/>
                </a:moveTo>
                <a:lnTo>
                  <a:pt x="4464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1120" y="587520"/>
            <a:ext cx="874404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Menstrual Cycle Changes: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Hallmark of Perimenopaus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0040" y="1815840"/>
            <a:ext cx="8743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Aft>
                <a:spcPts val="524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shorter cycle length (eg, by 2 to 7 day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er or irregular less comm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Aft>
                <a:spcPts val="524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in qual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Aft>
                <a:spcPts val="451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 initially, then ligh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Aft>
                <a:spcPts val="1500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otting prior to men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99760" y="6474960"/>
            <a:ext cx="4850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apted from Nachtigall LE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lin Obstet Gyneco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1998;41:921-92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1760" y="2263320"/>
            <a:ext cx="8762760" cy="118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Vasomotor Instability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uring Perimenopaus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Aft>
                <a:spcPts val="2713"/>
              </a:spcAft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Hot flashes are one of the chief menopausal complaints for which women in Western societies seek medical treatment.” </a:t>
            </a:r>
            <a:r>
              <a:rPr b="0" lang="en-US" sz="29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32080" y="6474960"/>
            <a:ext cx="375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 Kronenberg F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nn N Y Acad Sc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1990:592:52-8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1120" y="587520"/>
            <a:ext cx="874404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Vasomotor Instability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uring Perimenopaus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5452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1811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~ 85% of perimenopausal women experience vasomotor instability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Aft>
                <a:spcPts val="1375"/>
              </a:spcAft>
              <a:buClr>
                <a:srgbClr val="ff9933"/>
              </a:buClr>
              <a:buFont typeface="Times New Roman"/>
              <a:buChar char="–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ot flushes, night sweats, sleep disturban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Aft>
                <a:spcPts val="1624"/>
              </a:spcAft>
              <a:buNone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811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Intensity, duration, and frequency highly variable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Aft>
                <a:spcPts val="1375"/>
              </a:spcAft>
              <a:buClr>
                <a:srgbClr val="ff9933"/>
              </a:buClr>
              <a:buFont typeface="Times New Roman"/>
              <a:buChar char="–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-2 to 40 flushes/da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37840" y="6474960"/>
            <a:ext cx="385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chtigall LE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lin Obstet Gyneco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1998;41:921-92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1114560" y="1599480"/>
            <a:ext cx="8089200" cy="3792600"/>
            <a:chOff x="1114560" y="1599480"/>
            <a:chExt cx="8089200" cy="3792600"/>
          </a:xfrm>
        </p:grpSpPr>
        <p:sp>
          <p:nvSpPr>
            <p:cNvPr id="232" name="Line 3"/>
            <p:cNvSpPr/>
            <p:nvPr/>
          </p:nvSpPr>
          <p:spPr>
            <a:xfrm>
              <a:off x="1114560" y="2120400"/>
              <a:ext cx="8089200" cy="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4"/>
            <p:cNvSpPr/>
            <p:nvPr/>
          </p:nvSpPr>
          <p:spPr>
            <a:xfrm>
              <a:off x="1146240" y="1599480"/>
              <a:ext cx="2854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ead5"/>
                  </a:solidFill>
                  <a:latin typeface="Arial"/>
                </a:rPr>
                <a:t>Menstrual Statu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5353200" y="1599480"/>
              <a:ext cx="36813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ead5"/>
                  </a:solidFill>
                  <a:latin typeface="Arial"/>
                </a:rPr>
                <a:t>% Reporting Hot Flash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6"/>
            <p:cNvGrpSpPr/>
            <p:nvPr/>
          </p:nvGrpSpPr>
          <p:grpSpPr>
            <a:xfrm>
              <a:off x="1298160" y="2217960"/>
              <a:ext cx="6307560" cy="396360"/>
              <a:chOff x="1298160" y="2217960"/>
              <a:chExt cx="6307560" cy="396360"/>
            </a:xfrm>
          </p:grpSpPr>
          <p:sp>
            <p:nvSpPr>
              <p:cNvPr id="236" name="Rectangle 7"/>
              <p:cNvSpPr/>
              <p:nvPr/>
            </p:nvSpPr>
            <p:spPr>
              <a:xfrm>
                <a:off x="1298160" y="2217960"/>
                <a:ext cx="23961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Arial"/>
                  </a:rPr>
                  <a:t>Premenopausal</a:t>
                </a:r>
                <a:r>
                  <a:rPr b="0" lang="en-US" sz="2600" spc="-1" strike="noStrike" baseline="30000">
                    <a:solidFill>
                      <a:srgbClr val="ffffff"/>
                    </a:solidFill>
                    <a:latin typeface="Arial"/>
                  </a:rPr>
                  <a:t>*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8"/>
              <p:cNvSpPr/>
              <p:nvPr/>
            </p:nvSpPr>
            <p:spPr>
              <a:xfrm>
                <a:off x="6951240" y="2217960"/>
                <a:ext cx="6544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Arial"/>
                  </a:rPr>
                  <a:t>~10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1306800" y="3134160"/>
              <a:ext cx="7394040" cy="396360"/>
              <a:chOff x="1306800" y="3134160"/>
              <a:chExt cx="7394040" cy="396360"/>
            </a:xfrm>
          </p:grpSpPr>
          <p:sp>
            <p:nvSpPr>
              <p:cNvPr id="239" name="Rectangle 10"/>
              <p:cNvSpPr/>
              <p:nvPr/>
            </p:nvSpPr>
            <p:spPr>
              <a:xfrm>
                <a:off x="1306800" y="3134160"/>
                <a:ext cx="2501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Arial"/>
                  </a:rPr>
                  <a:t>Perimenopausal</a:t>
                </a:r>
                <a:r>
                  <a:rPr b="0" lang="en-US" sz="2600" spc="-1" strike="noStrike" baseline="30000">
                    <a:solidFill>
                      <a:srgbClr val="ffffff"/>
                    </a:solidFill>
                    <a:latin typeface="Arial"/>
                  </a:rPr>
                  <a:t>†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11"/>
              <p:cNvSpPr/>
              <p:nvPr/>
            </p:nvSpPr>
            <p:spPr>
              <a:xfrm>
                <a:off x="7016040" y="3134160"/>
                <a:ext cx="16848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Arial"/>
                  </a:rPr>
                  <a:t>~30 – 85%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12"/>
            <p:cNvGrpSpPr/>
            <p:nvPr/>
          </p:nvGrpSpPr>
          <p:grpSpPr>
            <a:xfrm>
              <a:off x="1379520" y="4050000"/>
              <a:ext cx="7223040" cy="425880"/>
              <a:chOff x="1379520" y="4050000"/>
              <a:chExt cx="7223040" cy="425880"/>
            </a:xfrm>
          </p:grpSpPr>
          <p:sp>
            <p:nvSpPr>
              <p:cNvPr id="242" name="Rectangle 13"/>
              <p:cNvSpPr/>
              <p:nvPr/>
            </p:nvSpPr>
            <p:spPr>
              <a:xfrm>
                <a:off x="1379520" y="4050000"/>
                <a:ext cx="38138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Arial"/>
                  </a:rPr>
                  <a:t>Recently postmenopausal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14"/>
              <p:cNvSpPr/>
              <p:nvPr/>
            </p:nvSpPr>
            <p:spPr>
              <a:xfrm>
                <a:off x="7009200" y="4079520"/>
                <a:ext cx="15933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Arial"/>
                  </a:rPr>
                  <a:t>~20 – 90%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15"/>
            <p:cNvGrpSpPr/>
            <p:nvPr/>
          </p:nvGrpSpPr>
          <p:grpSpPr>
            <a:xfrm>
              <a:off x="1363320" y="4995720"/>
              <a:ext cx="7239240" cy="396360"/>
              <a:chOff x="1363320" y="4995720"/>
              <a:chExt cx="7239240" cy="396360"/>
            </a:xfrm>
          </p:grpSpPr>
          <p:sp>
            <p:nvSpPr>
              <p:cNvPr id="245" name="Text Box 16"/>
              <p:cNvSpPr/>
              <p:nvPr/>
            </p:nvSpPr>
            <p:spPr>
              <a:xfrm>
                <a:off x="1363320" y="4995720"/>
                <a:ext cx="35380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Arial"/>
                  </a:rPr>
                  <a:t>4 years postmenopaus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Text Box 17"/>
              <p:cNvSpPr/>
              <p:nvPr/>
            </p:nvSpPr>
            <p:spPr>
              <a:xfrm>
                <a:off x="7009200" y="4995720"/>
                <a:ext cx="15933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b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Arial"/>
                  </a:rPr>
                  <a:t>~20 – 60%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71120" y="92160"/>
            <a:ext cx="874404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Vasomotor Instabili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uring Perimenopaus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-2880" y="5744880"/>
            <a:ext cx="6921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5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nstruation within the 3 prior months with no change in regularity of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5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†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 to 11 months of amenorrhea or increased menstrual irreg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5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cKinlay SM et al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Maturita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1992;14:103-1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5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ronenberg F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nn N Y Acad Sc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1990:592:52-8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5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chtigall LE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lin Obstet Gyneco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1998;41:921-9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1120" y="380880"/>
            <a:ext cx="8744040" cy="13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imes New Roman"/>
              </a:rPr>
              <a:t>Serum Concentrations of Ovarian Hormones</a:t>
            </a:r>
            <a:endParaRPr b="1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11280" y="2103480"/>
          <a:ext cx="9064440" cy="2822400"/>
        </p:xfrm>
        <a:graphic>
          <a:graphicData uri="http://schemas.openxmlformats.org/drawingml/2006/table">
            <a:tbl>
              <a:tblPr/>
              <a:tblGrid>
                <a:gridCol w="2927160"/>
                <a:gridCol w="3087720"/>
                <a:gridCol w="3049560"/>
              </a:tblGrid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menopause (me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stmenopause (me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radiol (pg/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-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-35 (&lt;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rone (pg/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stosterone (ng/d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50 (3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rostenedione (ng/dL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~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~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Text Box 277"/>
          <p:cNvSpPr/>
          <p:nvPr/>
        </p:nvSpPr>
        <p:spPr>
          <a:xfrm>
            <a:off x="686160" y="5369040"/>
            <a:ext cx="42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varies produce more androgen than estro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71120" y="367560"/>
            <a:ext cx="8744040" cy="13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Arial"/>
              </a:rPr>
              <a:t>Consequences of Menopausal</a:t>
            </a:r>
            <a:br>
              <a:rPr sz="4200"/>
            </a:br>
            <a:r>
              <a:rPr b="0" lang="en-US" sz="4200" spc="-1" strike="noStrike">
                <a:solidFill>
                  <a:srgbClr val="ffff66"/>
                </a:solidFill>
                <a:latin typeface="Arial"/>
              </a:rPr>
              <a:t>Hormone Deficiency</a:t>
            </a:r>
            <a:endParaRPr b="1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3" name="Rectangle 1028"/>
          <p:cNvSpPr/>
          <p:nvPr/>
        </p:nvSpPr>
        <p:spPr>
          <a:xfrm>
            <a:off x="1309680" y="1967040"/>
            <a:ext cx="7672320" cy="3539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2076480" y="1967040"/>
            <a:ext cx="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30"/>
          <p:cNvSpPr/>
          <p:nvPr/>
        </p:nvSpPr>
        <p:spPr>
          <a:xfrm flipV="1">
            <a:off x="2844720" y="1966680"/>
            <a:ext cx="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031"/>
          <p:cNvSpPr/>
          <p:nvPr/>
        </p:nvSpPr>
        <p:spPr>
          <a:xfrm>
            <a:off x="3611520" y="1967040"/>
            <a:ext cx="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032"/>
          <p:cNvSpPr/>
          <p:nvPr/>
        </p:nvSpPr>
        <p:spPr>
          <a:xfrm flipV="1">
            <a:off x="4378320" y="1966680"/>
            <a:ext cx="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033"/>
          <p:cNvSpPr/>
          <p:nvPr/>
        </p:nvSpPr>
        <p:spPr>
          <a:xfrm>
            <a:off x="5146560" y="1967040"/>
            <a:ext cx="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034"/>
          <p:cNvSpPr/>
          <p:nvPr/>
        </p:nvSpPr>
        <p:spPr>
          <a:xfrm flipV="1">
            <a:off x="5913360" y="1966680"/>
            <a:ext cx="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035"/>
          <p:cNvSpPr/>
          <p:nvPr/>
        </p:nvSpPr>
        <p:spPr>
          <a:xfrm flipV="1">
            <a:off x="6680160" y="1966680"/>
            <a:ext cx="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36"/>
          <p:cNvSpPr/>
          <p:nvPr/>
        </p:nvSpPr>
        <p:spPr>
          <a:xfrm flipV="1">
            <a:off x="7448400" y="1966680"/>
            <a:ext cx="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037"/>
          <p:cNvSpPr/>
          <p:nvPr/>
        </p:nvSpPr>
        <p:spPr>
          <a:xfrm flipV="1">
            <a:off x="8215200" y="1966680"/>
            <a:ext cx="0" cy="3539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038"/>
          <p:cNvSpPr/>
          <p:nvPr/>
        </p:nvSpPr>
        <p:spPr>
          <a:xfrm flipV="1">
            <a:off x="2998800" y="1966680"/>
            <a:ext cx="0" cy="3539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15"/>
          <p:cNvSpPr/>
          <p:nvPr/>
        </p:nvSpPr>
        <p:spPr>
          <a:xfrm>
            <a:off x="1287360" y="3697200"/>
            <a:ext cx="7694640" cy="2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72"/>
          <p:cNvSpPr/>
          <p:nvPr/>
        </p:nvSpPr>
        <p:spPr>
          <a:xfrm>
            <a:off x="2351160" y="2173320"/>
            <a:ext cx="1258920" cy="392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073"/>
          <p:cNvSpPr/>
          <p:nvPr/>
        </p:nvSpPr>
        <p:spPr>
          <a:xfrm>
            <a:off x="4604400" y="5796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 (y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19"/>
          <p:cNvSpPr/>
          <p:nvPr/>
        </p:nvSpPr>
        <p:spPr>
          <a:xfrm>
            <a:off x="1339920" y="4583160"/>
            <a:ext cx="3035160" cy="2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50"/>
          <p:cNvSpPr/>
          <p:nvPr/>
        </p:nvSpPr>
        <p:spPr>
          <a:xfrm>
            <a:off x="1297080" y="4584600"/>
            <a:ext cx="30639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e loss/osteopen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077"/>
          <p:cNvSpPr/>
          <p:nvPr/>
        </p:nvSpPr>
        <p:spPr>
          <a:xfrm>
            <a:off x="1109520" y="5510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78"/>
          <p:cNvSpPr/>
          <p:nvPr/>
        </p:nvSpPr>
        <p:spPr>
          <a:xfrm>
            <a:off x="8726400" y="551016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79"/>
          <p:cNvSpPr/>
          <p:nvPr/>
        </p:nvSpPr>
        <p:spPr>
          <a:xfrm>
            <a:off x="1869840" y="5510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80"/>
          <p:cNvSpPr/>
          <p:nvPr/>
        </p:nvSpPr>
        <p:spPr>
          <a:xfrm>
            <a:off x="3403440" y="5521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81"/>
          <p:cNvSpPr/>
          <p:nvPr/>
        </p:nvSpPr>
        <p:spPr>
          <a:xfrm>
            <a:off x="2643120" y="5521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082"/>
          <p:cNvSpPr/>
          <p:nvPr/>
        </p:nvSpPr>
        <p:spPr>
          <a:xfrm>
            <a:off x="4187520" y="5521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083"/>
          <p:cNvSpPr/>
          <p:nvPr/>
        </p:nvSpPr>
        <p:spPr>
          <a:xfrm>
            <a:off x="4935240" y="5521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084"/>
          <p:cNvSpPr/>
          <p:nvPr/>
        </p:nvSpPr>
        <p:spPr>
          <a:xfrm>
            <a:off x="5708520" y="5521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85"/>
          <p:cNvSpPr/>
          <p:nvPr/>
        </p:nvSpPr>
        <p:spPr>
          <a:xfrm>
            <a:off x="6481440" y="5521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086"/>
          <p:cNvSpPr/>
          <p:nvPr/>
        </p:nvSpPr>
        <p:spPr>
          <a:xfrm>
            <a:off x="7253280" y="5521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87"/>
          <p:cNvSpPr/>
          <p:nvPr/>
        </p:nvSpPr>
        <p:spPr>
          <a:xfrm>
            <a:off x="8024760" y="5521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111"/>
          <p:cNvSpPr/>
          <p:nvPr/>
        </p:nvSpPr>
        <p:spPr>
          <a:xfrm>
            <a:off x="4440240" y="2755800"/>
            <a:ext cx="185112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14"/>
          <p:cNvSpPr/>
          <p:nvPr/>
        </p:nvSpPr>
        <p:spPr>
          <a:xfrm>
            <a:off x="1822320" y="3247920"/>
            <a:ext cx="4540320" cy="2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123"/>
          <p:cNvSpPr/>
          <p:nvPr/>
        </p:nvSpPr>
        <p:spPr>
          <a:xfrm>
            <a:off x="2054160" y="2757600"/>
            <a:ext cx="2389320" cy="249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054"/>
          <p:cNvSpPr/>
          <p:nvPr/>
        </p:nvSpPr>
        <p:spPr>
          <a:xfrm>
            <a:off x="2076480" y="2739960"/>
            <a:ext cx="2382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opause sympt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53"/>
          <p:cNvSpPr/>
          <p:nvPr/>
        </p:nvSpPr>
        <p:spPr>
          <a:xfrm>
            <a:off x="2827440" y="3243240"/>
            <a:ext cx="2311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xual compl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52"/>
          <p:cNvSpPr/>
          <p:nvPr/>
        </p:nvSpPr>
        <p:spPr>
          <a:xfrm>
            <a:off x="3613320" y="3689280"/>
            <a:ext cx="4598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ogenital atrophy and sympto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124"/>
          <p:cNvSpPr/>
          <p:nvPr/>
        </p:nvSpPr>
        <p:spPr>
          <a:xfrm>
            <a:off x="4818240" y="4137120"/>
            <a:ext cx="4160520" cy="24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76"/>
          <p:cNvSpPr/>
          <p:nvPr/>
        </p:nvSpPr>
        <p:spPr>
          <a:xfrm>
            <a:off x="4824360" y="4146480"/>
            <a:ext cx="41688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scular and heart dis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25"/>
          <p:cNvSpPr/>
          <p:nvPr/>
        </p:nvSpPr>
        <p:spPr>
          <a:xfrm>
            <a:off x="4379760" y="4583160"/>
            <a:ext cx="4599000" cy="2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075"/>
          <p:cNvSpPr/>
          <p:nvPr/>
        </p:nvSpPr>
        <p:spPr>
          <a:xfrm>
            <a:off x="4361040" y="4584600"/>
            <a:ext cx="46321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teoporo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112"/>
          <p:cNvSpPr/>
          <p:nvPr/>
        </p:nvSpPr>
        <p:spPr>
          <a:xfrm>
            <a:off x="1306440" y="2755800"/>
            <a:ext cx="77004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68400" y="1417680"/>
            <a:ext cx="4511520" cy="481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 flushes/night sw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p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eep disturb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st press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ness of br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da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417640" y="1417320"/>
            <a:ext cx="4511880" cy="416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p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sexual des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ginal dryness and painful inter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s of urinary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ory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876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title"/>
          </p:nvPr>
        </p:nvSpPr>
        <p:spPr>
          <a:xfrm>
            <a:off x="771120" y="350280"/>
            <a:ext cx="874404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he Menopausal Syndrome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8360" y="398520"/>
            <a:ext cx="862956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Prevalence of Vasomotor Complaints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6232320"/>
            <a:ext cx="5057640" cy="3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ldenhave A, et al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m J Obstet Gynecol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1993;168:772-78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Group 4"/>
          <p:cNvGrpSpPr/>
          <p:nvPr/>
        </p:nvGrpSpPr>
        <p:grpSpPr>
          <a:xfrm>
            <a:off x="7967520" y="1332000"/>
            <a:ext cx="2076480" cy="2108160"/>
            <a:chOff x="7967520" y="1332000"/>
            <a:chExt cx="2076480" cy="2108160"/>
          </a:xfrm>
        </p:grpSpPr>
        <p:sp>
          <p:nvSpPr>
            <p:cNvPr id="297" name="Rectangle 5"/>
            <p:cNvSpPr/>
            <p:nvPr/>
          </p:nvSpPr>
          <p:spPr>
            <a:xfrm>
              <a:off x="7967520" y="1787760"/>
              <a:ext cx="322200" cy="74520"/>
            </a:xfrm>
            <a:prstGeom prst="rect">
              <a:avLst/>
            </a:prstGeom>
            <a:gradFill rotWithShape="0">
              <a:gsLst>
                <a:gs pos="0">
                  <a:srgbClr val="905600"/>
                </a:gs>
                <a:gs pos="50000">
                  <a:srgbClr val="ff9900"/>
                </a:gs>
                <a:gs pos="100000">
                  <a:srgbClr val="905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6"/>
            <p:cNvSpPr/>
            <p:nvPr/>
          </p:nvSpPr>
          <p:spPr>
            <a:xfrm>
              <a:off x="7967520" y="2094120"/>
              <a:ext cx="322200" cy="7452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7"/>
            <p:cNvSpPr/>
            <p:nvPr/>
          </p:nvSpPr>
          <p:spPr>
            <a:xfrm>
              <a:off x="7967520" y="2400480"/>
              <a:ext cx="322200" cy="7452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"/>
            <p:cNvSpPr/>
            <p:nvPr/>
          </p:nvSpPr>
          <p:spPr>
            <a:xfrm>
              <a:off x="7967520" y="2706840"/>
              <a:ext cx="322200" cy="74520"/>
            </a:xfrm>
            <a:prstGeom prst="rect">
              <a:avLst/>
            </a:prstGeom>
            <a:gradFill rotWithShape="0">
              <a:gsLst>
                <a:gs pos="0">
                  <a:srgbClr val="2d4275"/>
                </a:gs>
                <a:gs pos="50000">
                  <a:srgbClr val="618ffd"/>
                </a:gs>
                <a:gs pos="100000">
                  <a:srgbClr val="2d4275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9"/>
            <p:cNvSpPr/>
            <p:nvPr/>
          </p:nvSpPr>
          <p:spPr>
            <a:xfrm>
              <a:off x="7967520" y="2973600"/>
              <a:ext cx="322200" cy="7452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0"/>
            <p:cNvSpPr/>
            <p:nvPr/>
          </p:nvSpPr>
          <p:spPr>
            <a:xfrm>
              <a:off x="8318160" y="1332000"/>
              <a:ext cx="17258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64"/>
                </a:spcBef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eve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4"/>
                </a:spcBef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0       Abs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4"/>
                </a:spcBef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4"/>
                </a:spcBef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4"/>
                </a:spcBef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3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4"/>
                </a:spcBef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5-6    Moderate/Sev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1"/>
            <p:cNvSpPr/>
            <p:nvPr/>
          </p:nvSpPr>
          <p:spPr>
            <a:xfrm>
              <a:off x="8978760" y="2028960"/>
              <a:ext cx="0" cy="752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2"/>
          <p:cNvGrpSpPr/>
          <p:nvPr/>
        </p:nvGrpSpPr>
        <p:grpSpPr>
          <a:xfrm>
            <a:off x="590400" y="1846440"/>
            <a:ext cx="7318440" cy="4149720"/>
            <a:chOff x="590400" y="1846440"/>
            <a:chExt cx="7318440" cy="4149720"/>
          </a:xfrm>
        </p:grpSpPr>
        <p:sp>
          <p:nvSpPr>
            <p:cNvPr id="305" name="Rectangle 13"/>
            <p:cNvSpPr/>
            <p:nvPr/>
          </p:nvSpPr>
          <p:spPr>
            <a:xfrm>
              <a:off x="1697040" y="2017800"/>
              <a:ext cx="324000" cy="171900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4"/>
            <p:cNvSpPr/>
            <p:nvPr/>
          </p:nvSpPr>
          <p:spPr>
            <a:xfrm>
              <a:off x="2538360" y="2017800"/>
              <a:ext cx="322200" cy="120312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2940120" y="2009880"/>
              <a:ext cx="322200" cy="87156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16"/>
            <p:cNvSpPr/>
            <p:nvPr/>
          </p:nvSpPr>
          <p:spPr>
            <a:xfrm>
              <a:off x="3328920" y="2009880"/>
              <a:ext cx="324000" cy="57600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7"/>
            <p:cNvSpPr/>
            <p:nvPr/>
          </p:nvSpPr>
          <p:spPr>
            <a:xfrm>
              <a:off x="3719520" y="2009880"/>
              <a:ext cx="324000" cy="45864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18"/>
            <p:cNvSpPr/>
            <p:nvPr/>
          </p:nvSpPr>
          <p:spPr>
            <a:xfrm>
              <a:off x="4610160" y="2009880"/>
              <a:ext cx="322200" cy="43164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19"/>
            <p:cNvSpPr/>
            <p:nvPr/>
          </p:nvSpPr>
          <p:spPr>
            <a:xfrm>
              <a:off x="5008680" y="2009880"/>
              <a:ext cx="322200" cy="58572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0"/>
            <p:cNvSpPr/>
            <p:nvPr/>
          </p:nvSpPr>
          <p:spPr>
            <a:xfrm>
              <a:off x="5396040" y="2009880"/>
              <a:ext cx="322200" cy="60300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1"/>
            <p:cNvSpPr/>
            <p:nvPr/>
          </p:nvSpPr>
          <p:spPr>
            <a:xfrm>
              <a:off x="5794200" y="2009880"/>
              <a:ext cx="322560" cy="61920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2"/>
            <p:cNvSpPr/>
            <p:nvPr/>
          </p:nvSpPr>
          <p:spPr>
            <a:xfrm>
              <a:off x="6192720" y="2009880"/>
              <a:ext cx="322200" cy="88092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3"/>
            <p:cNvSpPr/>
            <p:nvPr/>
          </p:nvSpPr>
          <p:spPr>
            <a:xfrm>
              <a:off x="6583320" y="2009880"/>
              <a:ext cx="324000" cy="74592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24"/>
            <p:cNvSpPr/>
            <p:nvPr/>
          </p:nvSpPr>
          <p:spPr>
            <a:xfrm>
              <a:off x="6973920" y="2009880"/>
              <a:ext cx="323640" cy="98100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25"/>
            <p:cNvSpPr/>
            <p:nvPr/>
          </p:nvSpPr>
          <p:spPr>
            <a:xfrm>
              <a:off x="7364520" y="2009880"/>
              <a:ext cx="322200" cy="1252440"/>
            </a:xfrm>
            <a:prstGeom prst="rect">
              <a:avLst/>
            </a:prstGeom>
            <a:gradFill rotWithShape="0">
              <a:gsLst>
                <a:gs pos="0">
                  <a:srgbClr val="c27400"/>
                </a:gs>
                <a:gs pos="50000">
                  <a:srgbClr val="ff9900"/>
                </a:gs>
                <a:gs pos="100000">
                  <a:srgbClr val="c274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535040" y="2017800"/>
              <a:ext cx="0" cy="288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1373040" y="2017800"/>
              <a:ext cx="162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8"/>
            <p:cNvSpPr/>
            <p:nvPr/>
          </p:nvSpPr>
          <p:spPr>
            <a:xfrm>
              <a:off x="1376280" y="2744640"/>
              <a:ext cx="160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9"/>
            <p:cNvSpPr/>
            <p:nvPr/>
          </p:nvSpPr>
          <p:spPr>
            <a:xfrm>
              <a:off x="1374840" y="346392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0"/>
            <p:cNvSpPr/>
            <p:nvPr/>
          </p:nvSpPr>
          <p:spPr>
            <a:xfrm>
              <a:off x="1374840" y="418464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31"/>
            <p:cNvSpPr/>
            <p:nvPr/>
          </p:nvSpPr>
          <p:spPr>
            <a:xfrm>
              <a:off x="851040" y="1846440"/>
              <a:ext cx="54288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4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4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4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4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4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32"/>
            <p:cNvSpPr/>
            <p:nvPr/>
          </p:nvSpPr>
          <p:spPr>
            <a:xfrm>
              <a:off x="1081080" y="5243400"/>
              <a:ext cx="15256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Regular menstrual blee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33"/>
            <p:cNvSpPr/>
            <p:nvPr/>
          </p:nvSpPr>
          <p:spPr>
            <a:xfrm>
              <a:off x="2427120" y="5243400"/>
              <a:ext cx="199260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re/perimenopaus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months since last menstrual bleed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34"/>
            <p:cNvSpPr/>
            <p:nvPr/>
          </p:nvSpPr>
          <p:spPr>
            <a:xfrm>
              <a:off x="5499000" y="5243400"/>
              <a:ext cx="23338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ostmenopaus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(years since last menstrual bleed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35"/>
            <p:cNvSpPr/>
            <p:nvPr/>
          </p:nvSpPr>
          <p:spPr>
            <a:xfrm>
              <a:off x="1697040" y="3726000"/>
              <a:ext cx="324000" cy="54288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36"/>
            <p:cNvSpPr/>
            <p:nvPr/>
          </p:nvSpPr>
          <p:spPr>
            <a:xfrm>
              <a:off x="1697040" y="4259160"/>
              <a:ext cx="324000" cy="36540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37"/>
            <p:cNvSpPr/>
            <p:nvPr/>
          </p:nvSpPr>
          <p:spPr>
            <a:xfrm>
              <a:off x="1697040" y="4614840"/>
              <a:ext cx="324000" cy="23004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38"/>
            <p:cNvSpPr/>
            <p:nvPr/>
          </p:nvSpPr>
          <p:spPr>
            <a:xfrm>
              <a:off x="1697040" y="4821120"/>
              <a:ext cx="324000" cy="8280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39"/>
            <p:cNvSpPr/>
            <p:nvPr/>
          </p:nvSpPr>
          <p:spPr>
            <a:xfrm>
              <a:off x="2538360" y="3208320"/>
              <a:ext cx="322200" cy="59544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0"/>
            <p:cNvSpPr/>
            <p:nvPr/>
          </p:nvSpPr>
          <p:spPr>
            <a:xfrm>
              <a:off x="2538360" y="3794040"/>
              <a:ext cx="322200" cy="48600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1"/>
            <p:cNvSpPr/>
            <p:nvPr/>
          </p:nvSpPr>
          <p:spPr>
            <a:xfrm>
              <a:off x="2538360" y="4267080"/>
              <a:ext cx="322200" cy="50184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42"/>
            <p:cNvSpPr/>
            <p:nvPr/>
          </p:nvSpPr>
          <p:spPr>
            <a:xfrm>
              <a:off x="2538360" y="4762440"/>
              <a:ext cx="322200" cy="14148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43"/>
            <p:cNvSpPr/>
            <p:nvPr/>
          </p:nvSpPr>
          <p:spPr>
            <a:xfrm>
              <a:off x="2940120" y="2871720"/>
              <a:ext cx="322200" cy="38124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44"/>
            <p:cNvSpPr/>
            <p:nvPr/>
          </p:nvSpPr>
          <p:spPr>
            <a:xfrm>
              <a:off x="2940120" y="3243240"/>
              <a:ext cx="322200" cy="55260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45"/>
            <p:cNvSpPr/>
            <p:nvPr/>
          </p:nvSpPr>
          <p:spPr>
            <a:xfrm>
              <a:off x="2940120" y="3786120"/>
              <a:ext cx="322200" cy="80496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6"/>
            <p:cNvSpPr/>
            <p:nvPr/>
          </p:nvSpPr>
          <p:spPr>
            <a:xfrm>
              <a:off x="2941560" y="4584600"/>
              <a:ext cx="324000" cy="31932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47"/>
            <p:cNvSpPr/>
            <p:nvPr/>
          </p:nvSpPr>
          <p:spPr>
            <a:xfrm>
              <a:off x="3328920" y="2575080"/>
              <a:ext cx="324000" cy="37440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48"/>
            <p:cNvSpPr/>
            <p:nvPr/>
          </p:nvSpPr>
          <p:spPr>
            <a:xfrm>
              <a:off x="3328920" y="2938320"/>
              <a:ext cx="324000" cy="50184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49"/>
            <p:cNvSpPr/>
            <p:nvPr/>
          </p:nvSpPr>
          <p:spPr>
            <a:xfrm>
              <a:off x="3328920" y="3422520"/>
              <a:ext cx="324000" cy="86364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0"/>
            <p:cNvSpPr/>
            <p:nvPr/>
          </p:nvSpPr>
          <p:spPr>
            <a:xfrm>
              <a:off x="3328920" y="4270320"/>
              <a:ext cx="324000" cy="63504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51"/>
            <p:cNvSpPr/>
            <p:nvPr/>
          </p:nvSpPr>
          <p:spPr>
            <a:xfrm>
              <a:off x="3719520" y="2455920"/>
              <a:ext cx="324000" cy="24768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52"/>
            <p:cNvSpPr/>
            <p:nvPr/>
          </p:nvSpPr>
          <p:spPr>
            <a:xfrm>
              <a:off x="3719520" y="2684520"/>
              <a:ext cx="324000" cy="50940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53"/>
            <p:cNvSpPr/>
            <p:nvPr/>
          </p:nvSpPr>
          <p:spPr>
            <a:xfrm>
              <a:off x="3719520" y="3176640"/>
              <a:ext cx="324000" cy="88092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54"/>
            <p:cNvSpPr/>
            <p:nvPr/>
          </p:nvSpPr>
          <p:spPr>
            <a:xfrm>
              <a:off x="3719520" y="4051440"/>
              <a:ext cx="324000" cy="85392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55"/>
            <p:cNvSpPr/>
            <p:nvPr/>
          </p:nvSpPr>
          <p:spPr>
            <a:xfrm>
              <a:off x="4610160" y="2422440"/>
              <a:ext cx="322200" cy="40644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56"/>
            <p:cNvSpPr/>
            <p:nvPr/>
          </p:nvSpPr>
          <p:spPr>
            <a:xfrm>
              <a:off x="4610160" y="2828880"/>
              <a:ext cx="322200" cy="43344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57"/>
            <p:cNvSpPr/>
            <p:nvPr/>
          </p:nvSpPr>
          <p:spPr>
            <a:xfrm>
              <a:off x="4610160" y="3243240"/>
              <a:ext cx="322200" cy="91584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58"/>
            <p:cNvSpPr/>
            <p:nvPr/>
          </p:nvSpPr>
          <p:spPr>
            <a:xfrm>
              <a:off x="4611600" y="4145040"/>
              <a:ext cx="324000" cy="75888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59"/>
            <p:cNvSpPr/>
            <p:nvPr/>
          </p:nvSpPr>
          <p:spPr>
            <a:xfrm>
              <a:off x="5008680" y="2583000"/>
              <a:ext cx="322200" cy="36648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60"/>
            <p:cNvSpPr/>
            <p:nvPr/>
          </p:nvSpPr>
          <p:spPr>
            <a:xfrm>
              <a:off x="5008680" y="2930400"/>
              <a:ext cx="322200" cy="53676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61"/>
            <p:cNvSpPr/>
            <p:nvPr/>
          </p:nvSpPr>
          <p:spPr>
            <a:xfrm>
              <a:off x="5008680" y="3454560"/>
              <a:ext cx="322200" cy="87624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62"/>
            <p:cNvSpPr/>
            <p:nvPr/>
          </p:nvSpPr>
          <p:spPr>
            <a:xfrm>
              <a:off x="5008680" y="4321080"/>
              <a:ext cx="323640" cy="58284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63"/>
            <p:cNvSpPr/>
            <p:nvPr/>
          </p:nvSpPr>
          <p:spPr>
            <a:xfrm>
              <a:off x="5396040" y="2600280"/>
              <a:ext cx="322200" cy="41580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64"/>
            <p:cNvSpPr/>
            <p:nvPr/>
          </p:nvSpPr>
          <p:spPr>
            <a:xfrm>
              <a:off x="5396040" y="2998800"/>
              <a:ext cx="322200" cy="59220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65"/>
            <p:cNvSpPr/>
            <p:nvPr/>
          </p:nvSpPr>
          <p:spPr>
            <a:xfrm>
              <a:off x="5396040" y="3591000"/>
              <a:ext cx="322200" cy="87300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66"/>
            <p:cNvSpPr/>
            <p:nvPr/>
          </p:nvSpPr>
          <p:spPr>
            <a:xfrm>
              <a:off x="5396040" y="4457880"/>
              <a:ext cx="318960" cy="44604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67"/>
            <p:cNvSpPr/>
            <p:nvPr/>
          </p:nvSpPr>
          <p:spPr>
            <a:xfrm>
              <a:off x="5794200" y="2608200"/>
              <a:ext cx="322560" cy="40644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68"/>
            <p:cNvSpPr/>
            <p:nvPr/>
          </p:nvSpPr>
          <p:spPr>
            <a:xfrm>
              <a:off x="5794200" y="3006720"/>
              <a:ext cx="322560" cy="67788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69"/>
            <p:cNvSpPr/>
            <p:nvPr/>
          </p:nvSpPr>
          <p:spPr>
            <a:xfrm>
              <a:off x="5794200" y="3666960"/>
              <a:ext cx="322560" cy="89856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70"/>
            <p:cNvSpPr/>
            <p:nvPr/>
          </p:nvSpPr>
          <p:spPr>
            <a:xfrm>
              <a:off x="5794200" y="4549680"/>
              <a:ext cx="322560" cy="35568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71"/>
            <p:cNvSpPr/>
            <p:nvPr/>
          </p:nvSpPr>
          <p:spPr>
            <a:xfrm>
              <a:off x="6192720" y="2870280"/>
              <a:ext cx="322200" cy="51120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72"/>
            <p:cNvSpPr/>
            <p:nvPr/>
          </p:nvSpPr>
          <p:spPr>
            <a:xfrm>
              <a:off x="6192720" y="3362400"/>
              <a:ext cx="322200" cy="49212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73"/>
            <p:cNvSpPr/>
            <p:nvPr/>
          </p:nvSpPr>
          <p:spPr>
            <a:xfrm>
              <a:off x="6192720" y="3836880"/>
              <a:ext cx="322200" cy="72072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74"/>
            <p:cNvSpPr/>
            <p:nvPr/>
          </p:nvSpPr>
          <p:spPr>
            <a:xfrm>
              <a:off x="6192720" y="4543560"/>
              <a:ext cx="322200" cy="36180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75"/>
            <p:cNvSpPr/>
            <p:nvPr/>
          </p:nvSpPr>
          <p:spPr>
            <a:xfrm>
              <a:off x="6583320" y="2743200"/>
              <a:ext cx="324000" cy="34920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76"/>
            <p:cNvSpPr/>
            <p:nvPr/>
          </p:nvSpPr>
          <p:spPr>
            <a:xfrm>
              <a:off x="6583320" y="3075120"/>
              <a:ext cx="324000" cy="69372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7"/>
            <p:cNvSpPr/>
            <p:nvPr/>
          </p:nvSpPr>
          <p:spPr>
            <a:xfrm>
              <a:off x="6583320" y="3760920"/>
              <a:ext cx="324000" cy="84744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8"/>
            <p:cNvSpPr/>
            <p:nvPr/>
          </p:nvSpPr>
          <p:spPr>
            <a:xfrm>
              <a:off x="6583320" y="4584600"/>
              <a:ext cx="324000" cy="32076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9"/>
            <p:cNvSpPr/>
            <p:nvPr/>
          </p:nvSpPr>
          <p:spPr>
            <a:xfrm>
              <a:off x="6973920" y="2973240"/>
              <a:ext cx="323640" cy="49212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80"/>
            <p:cNvSpPr/>
            <p:nvPr/>
          </p:nvSpPr>
          <p:spPr>
            <a:xfrm>
              <a:off x="6973920" y="3446640"/>
              <a:ext cx="323640" cy="43308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81"/>
            <p:cNvSpPr/>
            <p:nvPr/>
          </p:nvSpPr>
          <p:spPr>
            <a:xfrm>
              <a:off x="6973920" y="3862440"/>
              <a:ext cx="323640" cy="72072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82"/>
            <p:cNvSpPr/>
            <p:nvPr/>
          </p:nvSpPr>
          <p:spPr>
            <a:xfrm>
              <a:off x="6973920" y="4567320"/>
              <a:ext cx="323640" cy="33804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83"/>
            <p:cNvSpPr/>
            <p:nvPr/>
          </p:nvSpPr>
          <p:spPr>
            <a:xfrm>
              <a:off x="7364520" y="3252960"/>
              <a:ext cx="322200" cy="525240"/>
            </a:xfrm>
            <a:prstGeom prst="rect">
              <a:avLst/>
            </a:pr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84"/>
            <p:cNvSpPr/>
            <p:nvPr/>
          </p:nvSpPr>
          <p:spPr>
            <a:xfrm>
              <a:off x="7364520" y="3760920"/>
              <a:ext cx="322200" cy="433080"/>
            </a:xfrm>
            <a:prstGeom prst="rect">
              <a:avLst/>
            </a:prstGeom>
            <a:gradFill rotWithShape="0">
              <a:gsLst>
                <a:gs pos="0">
                  <a:srgbClr val="767647"/>
                </a:gs>
                <a:gs pos="5000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85"/>
            <p:cNvSpPr/>
            <p:nvPr/>
          </p:nvSpPr>
          <p:spPr>
            <a:xfrm>
              <a:off x="7364520" y="4175280"/>
              <a:ext cx="322200" cy="550800"/>
            </a:xfrm>
            <a:prstGeom prst="rect">
              <a:avLst/>
            </a:prstGeom>
            <a:gradFill rotWithShape="0">
              <a:gsLst>
                <a:gs pos="0">
                  <a:srgbClr val="405fa8"/>
                </a:gs>
                <a:gs pos="50000">
                  <a:srgbClr val="618ffd"/>
                </a:gs>
                <a:gs pos="100000">
                  <a:srgbClr val="405fa8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86"/>
            <p:cNvSpPr/>
            <p:nvPr/>
          </p:nvSpPr>
          <p:spPr>
            <a:xfrm>
              <a:off x="7364520" y="4721400"/>
              <a:ext cx="322200" cy="183960"/>
            </a:xfrm>
            <a:prstGeom prst="rect">
              <a:avLst/>
            </a:prstGeom>
            <a:gradFill rotWithShape="0">
              <a:gsLst>
                <a:gs pos="0">
                  <a:srgbClr val="5e1800"/>
                </a:gs>
                <a:gs pos="5000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7"/>
            <p:cNvSpPr/>
            <p:nvPr/>
          </p:nvSpPr>
          <p:spPr>
            <a:xfrm>
              <a:off x="1392120" y="4903920"/>
              <a:ext cx="651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88"/>
            <p:cNvSpPr/>
            <p:nvPr/>
          </p:nvSpPr>
          <p:spPr>
            <a:xfrm>
              <a:off x="2365200" y="488808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89"/>
            <p:cNvSpPr/>
            <p:nvPr/>
          </p:nvSpPr>
          <p:spPr>
            <a:xfrm>
              <a:off x="2800440" y="4888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-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90"/>
            <p:cNvSpPr/>
            <p:nvPr/>
          </p:nvSpPr>
          <p:spPr>
            <a:xfrm>
              <a:off x="3181320" y="4888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-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91"/>
            <p:cNvSpPr/>
            <p:nvPr/>
          </p:nvSpPr>
          <p:spPr>
            <a:xfrm>
              <a:off x="3570120" y="488808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-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92"/>
            <p:cNvSpPr/>
            <p:nvPr/>
          </p:nvSpPr>
          <p:spPr>
            <a:xfrm>
              <a:off x="4464000" y="4888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93"/>
            <p:cNvSpPr/>
            <p:nvPr/>
          </p:nvSpPr>
          <p:spPr>
            <a:xfrm>
              <a:off x="4857840" y="4888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94"/>
            <p:cNvSpPr/>
            <p:nvPr/>
          </p:nvSpPr>
          <p:spPr>
            <a:xfrm>
              <a:off x="5627520" y="488808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95"/>
            <p:cNvSpPr/>
            <p:nvPr/>
          </p:nvSpPr>
          <p:spPr>
            <a:xfrm>
              <a:off x="5267160" y="488808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96"/>
            <p:cNvSpPr/>
            <p:nvPr/>
          </p:nvSpPr>
          <p:spPr>
            <a:xfrm>
              <a:off x="6043680" y="4888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97"/>
            <p:cNvSpPr/>
            <p:nvPr/>
          </p:nvSpPr>
          <p:spPr>
            <a:xfrm>
              <a:off x="6435720" y="4888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-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98"/>
            <p:cNvSpPr/>
            <p:nvPr/>
          </p:nvSpPr>
          <p:spPr>
            <a:xfrm>
              <a:off x="6838920" y="4888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-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99"/>
            <p:cNvSpPr/>
            <p:nvPr/>
          </p:nvSpPr>
          <p:spPr>
            <a:xfrm>
              <a:off x="7230960" y="4888080"/>
              <a:ext cx="6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gt;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100"/>
            <p:cNvSpPr/>
            <p:nvPr/>
          </p:nvSpPr>
          <p:spPr>
            <a:xfrm rot="16200000">
              <a:off x="-516600" y="3264480"/>
              <a:ext cx="255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eporting Complaints (%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409680"/>
            <a:ext cx="874404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imes New Roman"/>
              </a:rPr>
              <a:t>Perimenopausal Transition Years</a:t>
            </a:r>
            <a:endParaRPr b="1" lang="en-US" sz="4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5080" y="1495080"/>
            <a:ext cx="674640" cy="34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Freeform 25"/>
          <p:cNvSpPr/>
          <p:nvPr/>
        </p:nvSpPr>
        <p:spPr>
          <a:xfrm>
            <a:off x="3689280" y="1714680"/>
            <a:ext cx="5483160" cy="3879720"/>
          </a:xfrm>
          <a:custGeom>
            <a:avLst/>
            <a:gdLst>
              <a:gd name="textAreaLeft" fmla="*/ 0 w 5483160"/>
              <a:gd name="textAreaRight" fmla="*/ 5483520 w 5483160"/>
              <a:gd name="textAreaTop" fmla="*/ 0 h 3879720"/>
              <a:gd name="textAreaBottom" fmla="*/ 3880080 h 3879720"/>
            </a:gdLst>
            <a:ahLst/>
            <a:rect l="textAreaLeft" t="textAreaTop" r="textAreaRight" b="textAreaBottom"/>
            <a:pathLst>
              <a:path w="3454" h="2444">
                <a:moveTo>
                  <a:pt x="122" y="2435"/>
                </a:moveTo>
                <a:cubicBezTo>
                  <a:pt x="0" y="2426"/>
                  <a:pt x="140" y="2389"/>
                  <a:pt x="182" y="2368"/>
                </a:cubicBezTo>
                <a:cubicBezTo>
                  <a:pt x="224" y="2347"/>
                  <a:pt x="293" y="2330"/>
                  <a:pt x="376" y="2308"/>
                </a:cubicBezTo>
                <a:cubicBezTo>
                  <a:pt x="459" y="2286"/>
                  <a:pt x="580" y="2274"/>
                  <a:pt x="683" y="2233"/>
                </a:cubicBezTo>
                <a:cubicBezTo>
                  <a:pt x="786" y="2192"/>
                  <a:pt x="910" y="2138"/>
                  <a:pt x="997" y="2061"/>
                </a:cubicBezTo>
                <a:cubicBezTo>
                  <a:pt x="1084" y="1984"/>
                  <a:pt x="1074" y="2003"/>
                  <a:pt x="1207" y="1770"/>
                </a:cubicBezTo>
                <a:cubicBezTo>
                  <a:pt x="1340" y="1537"/>
                  <a:pt x="1662" y="903"/>
                  <a:pt x="1798" y="662"/>
                </a:cubicBezTo>
                <a:cubicBezTo>
                  <a:pt x="1934" y="421"/>
                  <a:pt x="1954" y="412"/>
                  <a:pt x="2022" y="326"/>
                </a:cubicBezTo>
                <a:cubicBezTo>
                  <a:pt x="2090" y="240"/>
                  <a:pt x="2139" y="196"/>
                  <a:pt x="2209" y="146"/>
                </a:cubicBezTo>
                <a:cubicBezTo>
                  <a:pt x="2279" y="96"/>
                  <a:pt x="2384" y="51"/>
                  <a:pt x="2441" y="27"/>
                </a:cubicBezTo>
                <a:cubicBezTo>
                  <a:pt x="2498" y="3"/>
                  <a:pt x="2407" y="8"/>
                  <a:pt x="2553" y="4"/>
                </a:cubicBezTo>
                <a:cubicBezTo>
                  <a:pt x="2699" y="0"/>
                  <a:pt x="3178" y="3"/>
                  <a:pt x="3316" y="4"/>
                </a:cubicBezTo>
                <a:cubicBezTo>
                  <a:pt x="3454" y="5"/>
                  <a:pt x="3415" y="5"/>
                  <a:pt x="3384" y="12"/>
                </a:cubicBezTo>
                <a:cubicBezTo>
                  <a:pt x="3353" y="19"/>
                  <a:pt x="3206" y="34"/>
                  <a:pt x="3129" y="49"/>
                </a:cubicBezTo>
                <a:cubicBezTo>
                  <a:pt x="3052" y="64"/>
                  <a:pt x="2987" y="69"/>
                  <a:pt x="2920" y="101"/>
                </a:cubicBezTo>
                <a:cubicBezTo>
                  <a:pt x="2853" y="133"/>
                  <a:pt x="2794" y="173"/>
                  <a:pt x="2725" y="244"/>
                </a:cubicBezTo>
                <a:cubicBezTo>
                  <a:pt x="2656" y="315"/>
                  <a:pt x="2570" y="422"/>
                  <a:pt x="2508" y="528"/>
                </a:cubicBezTo>
                <a:cubicBezTo>
                  <a:pt x="2446" y="634"/>
                  <a:pt x="2443" y="695"/>
                  <a:pt x="2351" y="879"/>
                </a:cubicBezTo>
                <a:cubicBezTo>
                  <a:pt x="2259" y="1063"/>
                  <a:pt x="2053" y="1457"/>
                  <a:pt x="1955" y="1635"/>
                </a:cubicBezTo>
                <a:cubicBezTo>
                  <a:pt x="1857" y="1813"/>
                  <a:pt x="1838" y="1857"/>
                  <a:pt x="1760" y="1949"/>
                </a:cubicBezTo>
                <a:cubicBezTo>
                  <a:pt x="1682" y="2041"/>
                  <a:pt x="1562" y="2134"/>
                  <a:pt x="1484" y="2189"/>
                </a:cubicBezTo>
                <a:cubicBezTo>
                  <a:pt x="1406" y="2244"/>
                  <a:pt x="1354" y="2257"/>
                  <a:pt x="1289" y="2278"/>
                </a:cubicBezTo>
                <a:cubicBezTo>
                  <a:pt x="1224" y="2299"/>
                  <a:pt x="1155" y="2303"/>
                  <a:pt x="1095" y="2316"/>
                </a:cubicBezTo>
                <a:cubicBezTo>
                  <a:pt x="1035" y="2329"/>
                  <a:pt x="969" y="2336"/>
                  <a:pt x="930" y="2353"/>
                </a:cubicBezTo>
                <a:cubicBezTo>
                  <a:pt x="891" y="2370"/>
                  <a:pt x="865" y="2409"/>
                  <a:pt x="863" y="2420"/>
                </a:cubicBezTo>
                <a:cubicBezTo>
                  <a:pt x="861" y="2431"/>
                  <a:pt x="1037" y="2420"/>
                  <a:pt x="915" y="2420"/>
                </a:cubicBezTo>
                <a:cubicBezTo>
                  <a:pt x="793" y="2420"/>
                  <a:pt x="244" y="2444"/>
                  <a:pt x="122" y="2435"/>
                </a:cubicBez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4"/>
          <p:cNvSpPr/>
          <p:nvPr/>
        </p:nvSpPr>
        <p:spPr>
          <a:xfrm>
            <a:off x="1638360" y="1685880"/>
            <a:ext cx="0" cy="3895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5"/>
          <p:cNvSpPr/>
          <p:nvPr/>
        </p:nvSpPr>
        <p:spPr>
          <a:xfrm>
            <a:off x="1503360" y="5581800"/>
            <a:ext cx="7429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6"/>
          <p:cNvSpPr/>
          <p:nvPr/>
        </p:nvSpPr>
        <p:spPr>
          <a:xfrm>
            <a:off x="2684520" y="5435640"/>
            <a:ext cx="0" cy="146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7"/>
          <p:cNvSpPr/>
          <p:nvPr/>
        </p:nvSpPr>
        <p:spPr>
          <a:xfrm>
            <a:off x="3751200" y="5435640"/>
            <a:ext cx="0" cy="147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821120" y="5435640"/>
            <a:ext cx="0" cy="146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"/>
          <p:cNvSpPr/>
          <p:nvPr/>
        </p:nvSpPr>
        <p:spPr>
          <a:xfrm>
            <a:off x="5851440" y="5435640"/>
            <a:ext cx="0" cy="156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6897600" y="5435640"/>
            <a:ext cx="0" cy="144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7920000" y="5435640"/>
            <a:ext cx="0" cy="131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8918640" y="5435640"/>
            <a:ext cx="0" cy="129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1503360" y="4597560"/>
            <a:ext cx="1382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4"/>
          <p:cNvSpPr/>
          <p:nvPr/>
        </p:nvSpPr>
        <p:spPr>
          <a:xfrm flipH="1">
            <a:off x="1503360" y="3608280"/>
            <a:ext cx="1238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5"/>
          <p:cNvSpPr/>
          <p:nvPr/>
        </p:nvSpPr>
        <p:spPr>
          <a:xfrm flipH="1">
            <a:off x="1503000" y="2660760"/>
            <a:ext cx="136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6"/>
          <p:cNvSpPr/>
          <p:nvPr/>
        </p:nvSpPr>
        <p:spPr>
          <a:xfrm flipH="1">
            <a:off x="1503360" y="1698480"/>
            <a:ext cx="115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2451240" y="5611680"/>
            <a:ext cx="7146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0                 35                 40                45                 50                55                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4091040" y="6062760"/>
            <a:ext cx="2425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 (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7311960" y="3247920"/>
            <a:ext cx="242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tmenop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2811600" y="2903400"/>
            <a:ext cx="2425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roductive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3"/>
          <p:cNvSpPr/>
          <p:nvPr/>
        </p:nvSpPr>
        <p:spPr>
          <a:xfrm rot="16200000">
            <a:off x="-637920" y="3486240"/>
            <a:ext cx="2425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men (%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1120" y="380880"/>
            <a:ext cx="874404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Genitourinary Symptoms Associate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ith Menopause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31440" y="1987200"/>
            <a:ext cx="5187960" cy="39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itation, burning, prur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ukorrh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pareu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vaginal secre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ening/lessening of vaginal diste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19360" y="1987200"/>
            <a:ext cx="3705480" cy="311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rin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749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cy, urg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749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749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c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749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ntinence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879560" y="5948280"/>
            <a:ext cx="75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Controvers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1120" y="368280"/>
            <a:ext cx="874404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Vaginal Cytology</a:t>
            </a: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542880" y="519264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menop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5460840" y="5192640"/>
            <a:ext cx="44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tmenop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5" descr="PreMeno"/>
          <p:cNvPicPr/>
          <p:nvPr/>
        </p:nvPicPr>
        <p:blipFill>
          <a:blip r:embed="rId1"/>
          <a:stretch/>
        </p:blipFill>
        <p:spPr>
          <a:xfrm>
            <a:off x="542880" y="1814400"/>
            <a:ext cx="4422960" cy="3256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PostMeno"/>
          <p:cNvPicPr/>
          <p:nvPr/>
        </p:nvPicPr>
        <p:blipFill>
          <a:blip r:embed="rId2"/>
          <a:stretch/>
        </p:blipFill>
        <p:spPr>
          <a:xfrm>
            <a:off x="5470560" y="1332000"/>
            <a:ext cx="44226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8920" y="576360"/>
            <a:ext cx="938700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ffect of Estrogen on Vaginal Symptoms 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512640" y="5978520"/>
            <a:ext cx="5229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= 17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ß-estradiol;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EE = conjugated equine estroge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ioux JE, et al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Menopaus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 2000;7:156-16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Group 4"/>
          <p:cNvGrpSpPr/>
          <p:nvPr/>
        </p:nvGrpSpPr>
        <p:grpSpPr>
          <a:xfrm>
            <a:off x="909720" y="1698480"/>
            <a:ext cx="8265600" cy="4228560"/>
            <a:chOff x="909720" y="1698480"/>
            <a:chExt cx="8265600" cy="4228560"/>
          </a:xfrm>
        </p:grpSpPr>
        <p:sp>
          <p:nvSpPr>
            <p:cNvPr id="405" name="Text Box 5"/>
            <p:cNvSpPr/>
            <p:nvPr/>
          </p:nvSpPr>
          <p:spPr>
            <a:xfrm>
              <a:off x="1792440" y="5589720"/>
              <a:ext cx="67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Vaginal symptoms score: 0 = none, 1 = mild, 2 = moderate, 3 = sev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>
              <a:off x="2568600" y="2228760"/>
              <a:ext cx="2000160" cy="102888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>
              <a:off x="4568760" y="3257640"/>
              <a:ext cx="2013120" cy="7221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8"/>
            <p:cNvSpPr/>
            <p:nvPr/>
          </p:nvSpPr>
          <p:spPr>
            <a:xfrm>
              <a:off x="6581880" y="3979800"/>
              <a:ext cx="2000160" cy="2923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9"/>
            <p:cNvSpPr/>
            <p:nvPr/>
          </p:nvSpPr>
          <p:spPr>
            <a:xfrm>
              <a:off x="2568600" y="2305080"/>
              <a:ext cx="2000160" cy="95256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0"/>
            <p:cNvSpPr/>
            <p:nvPr/>
          </p:nvSpPr>
          <p:spPr>
            <a:xfrm>
              <a:off x="4568760" y="3257640"/>
              <a:ext cx="2013120" cy="56988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1"/>
            <p:cNvSpPr/>
            <p:nvPr/>
          </p:nvSpPr>
          <p:spPr>
            <a:xfrm>
              <a:off x="6581880" y="3827520"/>
              <a:ext cx="2000160" cy="15228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2525760" y="2190600"/>
              <a:ext cx="114120" cy="101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4" h="64">
                  <a:moveTo>
                    <a:pt x="32" y="0"/>
                  </a:moveTo>
                  <a:lnTo>
                    <a:pt x="64" y="32"/>
                  </a:lnTo>
                  <a:lnTo>
                    <a:pt x="32" y="64"/>
                  </a:lnTo>
                  <a:lnTo>
                    <a:pt x="0" y="3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0000"/>
            </a:solidFill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4511520" y="3206880"/>
              <a:ext cx="114480" cy="1015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4" h="64">
                  <a:moveTo>
                    <a:pt x="32" y="0"/>
                  </a:moveTo>
                  <a:lnTo>
                    <a:pt x="64" y="32"/>
                  </a:lnTo>
                  <a:lnTo>
                    <a:pt x="32" y="64"/>
                  </a:lnTo>
                  <a:lnTo>
                    <a:pt x="0" y="3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6524640" y="3929040"/>
              <a:ext cx="114120" cy="101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4" h="64">
                  <a:moveTo>
                    <a:pt x="32" y="0"/>
                  </a:moveTo>
                  <a:lnTo>
                    <a:pt x="64" y="32"/>
                  </a:lnTo>
                  <a:lnTo>
                    <a:pt x="32" y="64"/>
                  </a:lnTo>
                  <a:lnTo>
                    <a:pt x="0" y="3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0000"/>
            </a:solidFill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8524800" y="4221000"/>
              <a:ext cx="114480" cy="1018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4" h="64">
                  <a:moveTo>
                    <a:pt x="32" y="0"/>
                  </a:moveTo>
                  <a:lnTo>
                    <a:pt x="64" y="32"/>
                  </a:lnTo>
                  <a:lnTo>
                    <a:pt x="32" y="64"/>
                  </a:lnTo>
                  <a:lnTo>
                    <a:pt x="0" y="3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0000"/>
            </a:solidFill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6"/>
            <p:cNvSpPr/>
            <p:nvPr/>
          </p:nvSpPr>
          <p:spPr>
            <a:xfrm>
              <a:off x="2517840" y="2260440"/>
              <a:ext cx="100080" cy="88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4518000" y="3213000"/>
              <a:ext cx="100080" cy="88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18"/>
            <p:cNvSpPr/>
            <p:nvPr/>
          </p:nvSpPr>
          <p:spPr>
            <a:xfrm>
              <a:off x="6532560" y="3782880"/>
              <a:ext cx="100080" cy="88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9"/>
            <p:cNvSpPr/>
            <p:nvPr/>
          </p:nvSpPr>
          <p:spPr>
            <a:xfrm>
              <a:off x="8532720" y="3935520"/>
              <a:ext cx="100080" cy="88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20"/>
            <p:cNvSpPr/>
            <p:nvPr/>
          </p:nvSpPr>
          <p:spPr>
            <a:xfrm>
              <a:off x="1433880" y="457668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21"/>
            <p:cNvSpPr/>
            <p:nvPr/>
          </p:nvSpPr>
          <p:spPr>
            <a:xfrm>
              <a:off x="1433880" y="388476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22"/>
            <p:cNvSpPr/>
            <p:nvPr/>
          </p:nvSpPr>
          <p:spPr>
            <a:xfrm>
              <a:off x="1433880" y="315612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23"/>
            <p:cNvSpPr/>
            <p:nvPr/>
          </p:nvSpPr>
          <p:spPr>
            <a:xfrm>
              <a:off x="1433880" y="24192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24"/>
            <p:cNvSpPr/>
            <p:nvPr/>
          </p:nvSpPr>
          <p:spPr>
            <a:xfrm>
              <a:off x="1433880" y="169848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25"/>
            <p:cNvSpPr/>
            <p:nvPr/>
          </p:nvSpPr>
          <p:spPr>
            <a:xfrm>
              <a:off x="2564640" y="4821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26"/>
            <p:cNvSpPr/>
            <p:nvPr/>
          </p:nvSpPr>
          <p:spPr>
            <a:xfrm>
              <a:off x="4564800" y="4821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6491520" y="4821120"/>
              <a:ext cx="22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28"/>
            <p:cNvSpPr/>
            <p:nvPr/>
          </p:nvSpPr>
          <p:spPr>
            <a:xfrm>
              <a:off x="8520120" y="482112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29"/>
            <p:cNvSpPr/>
            <p:nvPr/>
          </p:nvSpPr>
          <p:spPr>
            <a:xfrm rot="16200000">
              <a:off x="-422640" y="3073680"/>
              <a:ext cx="30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ean Composite Sc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30"/>
            <p:cNvSpPr/>
            <p:nvPr/>
          </p:nvSpPr>
          <p:spPr>
            <a:xfrm>
              <a:off x="1738440" y="4699080"/>
              <a:ext cx="6885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31"/>
            <p:cNvSpPr/>
            <p:nvPr/>
          </p:nvSpPr>
          <p:spPr>
            <a:xfrm>
              <a:off x="1827360" y="1814400"/>
              <a:ext cx="0" cy="288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4288320" y="5065560"/>
              <a:ext cx="21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eks of Trea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Group 33"/>
            <p:cNvGrpSpPr/>
            <p:nvPr/>
          </p:nvGrpSpPr>
          <p:grpSpPr>
            <a:xfrm>
              <a:off x="6235560" y="2057400"/>
              <a:ext cx="2939760" cy="500760"/>
              <a:chOff x="6235560" y="2057400"/>
              <a:chExt cx="2939760" cy="50076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6235560" y="210024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67" h="68">
                    <a:moveTo>
                      <a:pt x="34" y="0"/>
                    </a:moveTo>
                    <a:lnTo>
                      <a:pt x="67" y="34"/>
                    </a:lnTo>
                    <a:lnTo>
                      <a:pt x="34" y="68"/>
                    </a:lnTo>
                    <a:lnTo>
                      <a:pt x="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0000"/>
              </a:solidFill>
              <a:ln w="11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Rectangle 35"/>
              <p:cNvSpPr/>
              <p:nvPr/>
            </p:nvSpPr>
            <p:spPr>
              <a:xfrm>
                <a:off x="6488640" y="2057400"/>
                <a:ext cx="23677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Vaginal tablets 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25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g (n = 80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36"/>
              <p:cNvSpPr/>
              <p:nvPr/>
            </p:nvSpPr>
            <p:spPr>
              <a:xfrm>
                <a:off x="6237360" y="2409840"/>
                <a:ext cx="98280" cy="96840"/>
              </a:xfrm>
              <a:prstGeom prst="rect">
                <a:avLst/>
              </a:prstGeom>
              <a:solidFill>
                <a:srgbClr val="ffff99"/>
              </a:solidFill>
              <a:ln w="11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37"/>
              <p:cNvSpPr/>
              <p:nvPr/>
            </p:nvSpPr>
            <p:spPr>
              <a:xfrm>
                <a:off x="6495480" y="2344680"/>
                <a:ext cx="2679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Vaginal cream CEE 1.25 mg (n = 79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Line 38"/>
            <p:cNvSpPr/>
            <p:nvPr/>
          </p:nvSpPr>
          <p:spPr>
            <a:xfrm flipH="1">
              <a:off x="1730520" y="2541600"/>
              <a:ext cx="936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39"/>
            <p:cNvSpPr/>
            <p:nvPr/>
          </p:nvSpPr>
          <p:spPr>
            <a:xfrm flipH="1">
              <a:off x="1730520" y="3278160"/>
              <a:ext cx="936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40"/>
            <p:cNvSpPr/>
            <p:nvPr/>
          </p:nvSpPr>
          <p:spPr>
            <a:xfrm flipH="1">
              <a:off x="1733040" y="1820880"/>
              <a:ext cx="939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41"/>
            <p:cNvSpPr/>
            <p:nvPr/>
          </p:nvSpPr>
          <p:spPr>
            <a:xfrm flipH="1">
              <a:off x="1730520" y="4005360"/>
              <a:ext cx="936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42"/>
            <p:cNvSpPr/>
            <p:nvPr/>
          </p:nvSpPr>
          <p:spPr>
            <a:xfrm>
              <a:off x="2606760" y="4703760"/>
              <a:ext cx="0" cy="1191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43"/>
            <p:cNvSpPr/>
            <p:nvPr/>
          </p:nvSpPr>
          <p:spPr>
            <a:xfrm>
              <a:off x="4610160" y="4700520"/>
              <a:ext cx="0" cy="1191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44"/>
            <p:cNvSpPr/>
            <p:nvPr/>
          </p:nvSpPr>
          <p:spPr>
            <a:xfrm>
              <a:off x="6620040" y="4703760"/>
              <a:ext cx="0" cy="1191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45"/>
            <p:cNvSpPr/>
            <p:nvPr/>
          </p:nvSpPr>
          <p:spPr>
            <a:xfrm>
              <a:off x="8610480" y="4700520"/>
              <a:ext cx="0" cy="1191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9760" y="380880"/>
            <a:ext cx="90867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hanges Prior to Menopause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11120" y="1576080"/>
            <a:ext cx="7196040" cy="35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ff9933"/>
              </a:buClr>
              <a:buSzPct val="12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vulatory cy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ff9933"/>
              </a:buClr>
              <a:buSzPct val="12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nstrual cycl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ff9933"/>
              </a:buClr>
              <a:buSzPct val="12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SH level (day 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ff9933"/>
              </a:buClr>
              <a:buSzPct val="12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n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578520" y="6292440"/>
            <a:ext cx="452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 Klein NA, Soules MR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lin Obstet Gyneco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1998;41:912-9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 Munster K et al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Br J Obstet Gynaeco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1992;99:422-42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1009800"/>
            <a:ext cx="874404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erimenopaus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0040" y="1671480"/>
            <a:ext cx="8743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1749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of transition characterized by unstable endocrine physiology and highly variable, unpredictable hormone profile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749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hough cycle length begins to shorten, potential for ovulation and pregnancy is preserved for a number of year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,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1520" y="166320"/>
            <a:ext cx="874404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he Perimenopausal Transition: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ndocrine Changes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520360" y="1446120"/>
            <a:ext cx="5298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Mean Circulating Hormone Level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02040" y="6292440"/>
            <a:ext cx="6384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apted from Speroff, Glass, and Kase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linical Gynecology and Endocrinolog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6th 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lliams &amp; Wilkins;1999:6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4981680" y="2803320"/>
            <a:ext cx="0" cy="270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876320" y="30542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1876320" y="33591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>
            <a:off x="1876320" y="36702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876320" y="39751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1876320" y="42735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1876320" y="45450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1876320" y="484344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1876320" y="51609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1876320" y="547200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7137360" y="5477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16"/>
          <p:cNvSpPr/>
          <p:nvPr/>
        </p:nvSpPr>
        <p:spPr>
          <a:xfrm>
            <a:off x="2898720" y="3262320"/>
            <a:ext cx="4110120" cy="1930320"/>
          </a:xfrm>
          <a:custGeom>
            <a:avLst/>
            <a:gdLst>
              <a:gd name="textAreaLeft" fmla="*/ 0 w 4110120"/>
              <a:gd name="textAreaRight" fmla="*/ 4110480 w 411012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w="2588" h="1216">
                <a:moveTo>
                  <a:pt x="0" y="1216"/>
                </a:moveTo>
                <a:lnTo>
                  <a:pt x="192" y="1188"/>
                </a:lnTo>
                <a:lnTo>
                  <a:pt x="396" y="1188"/>
                </a:lnTo>
                <a:lnTo>
                  <a:pt x="744" y="1092"/>
                </a:lnTo>
                <a:lnTo>
                  <a:pt x="832" y="996"/>
                </a:lnTo>
                <a:lnTo>
                  <a:pt x="944" y="888"/>
                </a:lnTo>
                <a:lnTo>
                  <a:pt x="1124" y="768"/>
                </a:lnTo>
                <a:lnTo>
                  <a:pt x="1316" y="492"/>
                </a:lnTo>
                <a:lnTo>
                  <a:pt x="1476" y="116"/>
                </a:lnTo>
                <a:lnTo>
                  <a:pt x="1660" y="16"/>
                </a:lnTo>
                <a:lnTo>
                  <a:pt x="2200" y="20"/>
                </a:lnTo>
                <a:lnTo>
                  <a:pt x="2588" y="0"/>
                </a:lnTo>
              </a:path>
            </a:pathLst>
          </a:custGeom>
          <a:noFill/>
          <a:ln w="28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17"/>
          <p:cNvSpPr/>
          <p:nvPr/>
        </p:nvSpPr>
        <p:spPr>
          <a:xfrm>
            <a:off x="2898720" y="3890880"/>
            <a:ext cx="4110120" cy="1162080"/>
          </a:xfrm>
          <a:custGeom>
            <a:avLst/>
            <a:gdLst>
              <a:gd name="textAreaLeft" fmla="*/ 0 w 4110120"/>
              <a:gd name="textAreaRight" fmla="*/ 4110480 w 411012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2588" h="732">
                <a:moveTo>
                  <a:pt x="0" y="732"/>
                </a:moveTo>
                <a:lnTo>
                  <a:pt x="624" y="600"/>
                </a:lnTo>
                <a:lnTo>
                  <a:pt x="744" y="564"/>
                </a:lnTo>
                <a:lnTo>
                  <a:pt x="964" y="408"/>
                </a:lnTo>
                <a:lnTo>
                  <a:pt x="1120" y="356"/>
                </a:lnTo>
                <a:lnTo>
                  <a:pt x="1280" y="156"/>
                </a:lnTo>
                <a:lnTo>
                  <a:pt x="1480" y="0"/>
                </a:lnTo>
                <a:lnTo>
                  <a:pt x="1828" y="36"/>
                </a:lnTo>
                <a:lnTo>
                  <a:pt x="2588" y="44"/>
                </a:lnTo>
              </a:path>
            </a:pathLst>
          </a:custGeom>
          <a:noFill/>
          <a:ln w="2844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18"/>
          <p:cNvSpPr/>
          <p:nvPr/>
        </p:nvSpPr>
        <p:spPr>
          <a:xfrm>
            <a:off x="2894040" y="4748040"/>
            <a:ext cx="4114800" cy="41292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2592" h="260">
                <a:moveTo>
                  <a:pt x="0" y="8"/>
                </a:moveTo>
                <a:lnTo>
                  <a:pt x="204" y="48"/>
                </a:lnTo>
                <a:lnTo>
                  <a:pt x="364" y="68"/>
                </a:lnTo>
                <a:lnTo>
                  <a:pt x="556" y="0"/>
                </a:lnTo>
                <a:lnTo>
                  <a:pt x="752" y="68"/>
                </a:lnTo>
                <a:lnTo>
                  <a:pt x="1124" y="68"/>
                </a:lnTo>
                <a:lnTo>
                  <a:pt x="1316" y="160"/>
                </a:lnTo>
                <a:lnTo>
                  <a:pt x="1672" y="260"/>
                </a:lnTo>
                <a:lnTo>
                  <a:pt x="2592" y="252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19"/>
          <p:cNvSpPr/>
          <p:nvPr/>
        </p:nvSpPr>
        <p:spPr>
          <a:xfrm>
            <a:off x="2894040" y="4309920"/>
            <a:ext cx="4125960" cy="984240"/>
          </a:xfrm>
          <a:custGeom>
            <a:avLst/>
            <a:gdLst>
              <a:gd name="textAreaLeft" fmla="*/ 0 w 4125960"/>
              <a:gd name="textAreaRight" fmla="*/ 4126320 w 412596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2600" h="620">
                <a:moveTo>
                  <a:pt x="0" y="52"/>
                </a:moveTo>
                <a:lnTo>
                  <a:pt x="180" y="112"/>
                </a:lnTo>
                <a:lnTo>
                  <a:pt x="376" y="112"/>
                </a:lnTo>
                <a:lnTo>
                  <a:pt x="560" y="0"/>
                </a:lnTo>
                <a:lnTo>
                  <a:pt x="756" y="44"/>
                </a:lnTo>
                <a:lnTo>
                  <a:pt x="1120" y="56"/>
                </a:lnTo>
                <a:lnTo>
                  <a:pt x="1308" y="252"/>
                </a:lnTo>
                <a:lnTo>
                  <a:pt x="1492" y="556"/>
                </a:lnTo>
                <a:lnTo>
                  <a:pt x="2600" y="620"/>
                </a:lnTo>
              </a:path>
            </a:pathLst>
          </a:custGeom>
          <a:noFill/>
          <a:ln w="2844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1851120" y="27781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1851120" y="3073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1851120" y="3394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1851120" y="37004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1851120" y="3994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1851120" y="4290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1851120" y="4589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1851120" y="4905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1914480" y="5218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1728360" y="2187360"/>
            <a:ext cx="5342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SH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H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U/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0"/>
          <p:cNvSpPr/>
          <p:nvPr/>
        </p:nvSpPr>
        <p:spPr>
          <a:xfrm>
            <a:off x="2418120" y="2187360"/>
            <a:ext cx="764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radi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r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g/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346840" y="37004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2346840" y="399420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2346840" y="42908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2473200" y="4589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473200" y="4905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2600280" y="5218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2779200" y="5535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3368520" y="5535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9"/>
          <p:cNvSpPr/>
          <p:nvPr/>
        </p:nvSpPr>
        <p:spPr>
          <a:xfrm>
            <a:off x="3965400" y="5535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0"/>
          <p:cNvSpPr/>
          <p:nvPr/>
        </p:nvSpPr>
        <p:spPr>
          <a:xfrm>
            <a:off x="4562640" y="5535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1"/>
          <p:cNvSpPr/>
          <p:nvPr/>
        </p:nvSpPr>
        <p:spPr>
          <a:xfrm>
            <a:off x="5146560" y="5535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2"/>
          <p:cNvSpPr/>
          <p:nvPr/>
        </p:nvSpPr>
        <p:spPr>
          <a:xfrm>
            <a:off x="5737320" y="5535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3"/>
          <p:cNvSpPr/>
          <p:nvPr/>
        </p:nvSpPr>
        <p:spPr>
          <a:xfrm>
            <a:off x="6334200" y="5535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4"/>
          <p:cNvSpPr/>
          <p:nvPr/>
        </p:nvSpPr>
        <p:spPr>
          <a:xfrm>
            <a:off x="6925320" y="5535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5"/>
          <p:cNvSpPr/>
          <p:nvPr/>
        </p:nvSpPr>
        <p:spPr>
          <a:xfrm>
            <a:off x="4019400" y="5799960"/>
            <a:ext cx="9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ge (ye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6"/>
          <p:cNvSpPr/>
          <p:nvPr/>
        </p:nvSpPr>
        <p:spPr>
          <a:xfrm>
            <a:off x="4484160" y="2518560"/>
            <a:ext cx="977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nopa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47"/>
          <p:cNvSpPr/>
          <p:nvPr/>
        </p:nvSpPr>
        <p:spPr>
          <a:xfrm flipH="1">
            <a:off x="7476840" y="3049560"/>
            <a:ext cx="26028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8"/>
          <p:cNvSpPr/>
          <p:nvPr/>
        </p:nvSpPr>
        <p:spPr>
          <a:xfrm flipH="1">
            <a:off x="7476840" y="3309840"/>
            <a:ext cx="26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9"/>
          <p:cNvSpPr/>
          <p:nvPr/>
        </p:nvSpPr>
        <p:spPr>
          <a:xfrm flipH="1">
            <a:off x="7476840" y="3564000"/>
            <a:ext cx="26028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0"/>
          <p:cNvSpPr/>
          <p:nvPr/>
        </p:nvSpPr>
        <p:spPr>
          <a:xfrm flipH="1">
            <a:off x="7476840" y="3824280"/>
            <a:ext cx="260280" cy="0"/>
          </a:xfrm>
          <a:prstGeom prst="line">
            <a:avLst/>
          </a:prstGeom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1"/>
          <p:cNvSpPr/>
          <p:nvPr/>
        </p:nvSpPr>
        <p:spPr>
          <a:xfrm>
            <a:off x="7790040" y="2939400"/>
            <a:ext cx="35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2"/>
          <p:cNvSpPr/>
          <p:nvPr/>
        </p:nvSpPr>
        <p:spPr>
          <a:xfrm>
            <a:off x="7790040" y="3193200"/>
            <a:ext cx="23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4"/>
          <p:cNvSpPr/>
          <p:nvPr/>
        </p:nvSpPr>
        <p:spPr>
          <a:xfrm>
            <a:off x="7787160" y="372024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radi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1120" y="678960"/>
            <a:ext cx="874404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hanges Associated With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eclining Estrogen Concentrations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70040" y="1752480"/>
            <a:ext cx="8743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Aft>
                <a:spcPts val="1375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ot flush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Aft>
                <a:spcPts val="1375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rogenital atroph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Aft>
                <a:spcPts val="1375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od chan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Aft>
                <a:spcPts val="1375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hanges in cognitive fun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Aft>
                <a:spcPts val="1375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one lo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Aft>
                <a:spcPts val="1375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hanges in skin appeara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Aft>
                <a:spcPts val="1375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crease in risk of cardiovascular disea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Aft>
                <a:spcPts val="1375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hysiologic changes of the ey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1120" y="1008720"/>
            <a:ext cx="8744040" cy="63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ymptoms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1881000"/>
            <a:ext cx="5143320" cy="46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1624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arly pha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Aft>
                <a:spcPts val="1437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reast tendernes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Aft>
                <a:spcPts val="1437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rregular menstrua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Aft>
                <a:spcPts val="1437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Aft>
                <a:spcPts val="1437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Loss of sense of wellnes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Aft>
                <a:spcPts val="1437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Hot flashes/night sweat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Aft>
                <a:spcPts val="1437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leep disturbanc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400360" y="1905120"/>
            <a:ext cx="46292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1624"/>
              </a:spcAft>
              <a:buClr>
                <a:srgbClr val="ff9933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te pha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Aft>
                <a:spcPts val="1437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gnitive dysfun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Aft>
                <a:spcPts val="1437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Irregular and abnormal flow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Aft>
                <a:spcPts val="1437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exual dysfunctio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Aft>
                <a:spcPts val="1437"/>
              </a:spcAft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omatic symptoms increase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Aft>
                <a:spcPts val="1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703440"/>
            <a:ext cx="952488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When Does Perimenopause Occur?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2600" y="2590560"/>
            <a:ext cx="87440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ctr" pos="3995640"/>
                <a:tab algn="ctr" pos="628488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ead5"/>
                </a:solidFill>
                <a:latin typeface="Times New Roman"/>
              </a:rPr>
              <a:t>Average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ead5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ad5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ead5"/>
                </a:solidFill>
                <a:latin typeface="Times New Roman"/>
              </a:rPr>
              <a:t>Range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Aft>
                <a:spcPts val="5250"/>
              </a:spcAft>
              <a:buNone/>
              <a:tabLst>
                <a:tab algn="l" pos="0"/>
                <a:tab algn="ctr" pos="3995640"/>
                <a:tab algn="ctr" pos="628488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 of Onset (y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9-5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ctr" pos="3995640"/>
                <a:tab algn="ctr" pos="628488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ation (y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8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4965840" y="3108240"/>
            <a:ext cx="358128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726120" y="5927400"/>
            <a:ext cx="6783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95% of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 Adapted from Speroff, Glass, and Kase. In: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linical Gynecology and Endocrinolog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6th 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lliams &amp; Wilkins;1999:6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McKinley Maturitas 1992;  14: 103-1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4680" y="321840"/>
            <a:ext cx="963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ge of Menopause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928800" y="1846440"/>
            <a:ext cx="898992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624"/>
              </a:spcAft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an age of natural menopause (y)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624"/>
              </a:spcAft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eral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1.1-51.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251"/>
              </a:spcAft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oker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 to 2 years youn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624"/>
              </a:spcAft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kelihood of being menopausal by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624"/>
              </a:spcAft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ge 50 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~3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ge 55 y*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98960" y="6102000"/>
            <a:ext cx="44982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May be more appropriate than age 50 for OC discontin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 Stanford JL et al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J Chron Di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1987;40:995-1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 McKinlay SM et al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nn Intern M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1985;103:350-35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19:16:02Z</dcterms:created>
  <dc:creator>Nancy Larsen</dc:creator>
  <dc:description/>
  <cp:keywords/>
  <dc:language>en-US</dc:language>
  <cp:lastModifiedBy>HCMARTINEZ</cp:lastModifiedBy>
  <cp:lastPrinted>2000-09-27T13:55:59Z</cp:lastPrinted>
  <dcterms:modified xsi:type="dcterms:W3CDTF">2009-09-02T18:41:02Z</dcterms:modified>
  <cp:revision>484</cp:revision>
  <dc:subject/>
  <dc:title>combi 5/6</dc:title>
</cp:coreProperties>
</file>