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png" ContentType="image/png"/>
  <Override PartName="/ppt/media/image64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70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FEE-7116-4465-8847-0345FC2D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B29-BE3F-4F58-8DEB-111AA682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D05-57B8-4DFD-B34E-4AF76155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1E5-76B9-4C75-BEA9-8E9DA69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C1EFF-2E96-4A52-B2EB-5D84D972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90FB4-CA5D-4C1D-A5C1-BE265FE9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81811-2EDF-4BC4-B435-F713C148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D273A-74E3-42B8-8D1D-544B0F4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54A7F-08D9-4A2F-B651-C9317A1C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587A-357A-4339-B800-4DE3B743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F1B6-5799-4BDE-AE28-B7C2F56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99D-BAF0-4E06-8419-03C5F2B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F92F3-249E-4D74-B2CF-CEC2DDA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616BF-82FD-4C28-A232-0F55B5F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96C26-734C-4914-A133-32192E2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7A47-1153-43E6-8619-15A46426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9CFB1-025F-417D-A7B4-EC782A3E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CDE-D44D-461D-890F-8033592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1D6-4EED-4B67-A4BD-D5BE818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112-BA21-46D8-B58F-C7FA3C7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C4C-C34D-4F3C-88BC-A4E5C977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2F8-EB82-4E31-AEB0-339CC09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910-0ADA-4825-9E33-8AD1732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6FA-663C-428A-9036-9F6D4224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F617-6421-4BB5-9781-5DBDFD200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472-D50B-413A-B8F2-D0F8C7850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loca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Joint In The 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of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/ trauma 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t &lt; 30 immobilize for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30 less redislocation rate immobilize 1 week to decrease joint stiff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pendular ROM excercizes decrease risk of froze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referral 1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bow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 fx’s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examine for neurovasc in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painful sometimes harder to reduce tha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fall on outstretched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chial artery injury in   up to 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130560" y="2031840"/>
            <a:ext cx="5099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59230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b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inate fore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524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-838080" y="-358128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-1685880" y="160020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d Techn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66680" y="1362240"/>
            <a:ext cx="5581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p Disloc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 acetabular fx( may only be seen on 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gent reduction- to decrease risk of AV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versus prosth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tic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3149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828800" y="503280"/>
            <a:ext cx="548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209680" y="2682720"/>
            <a:ext cx="4648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153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Hip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usually easier to re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prone on stretcher leg hanging off end hip and knee fle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downward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supine flex knee hip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0600" y="1881360"/>
            <a:ext cx="5886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pelvi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6958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.put your foot on stret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under pts calf( rather than standing over p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down on pts ankle up from behind knee using your knee as a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ssistant or back board straps to stabilize 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hip dislocation can go home after reduction( need to avoid add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Hip needs ct to r/o acetabular f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force mechanism may need further w/u eval admit for concommitant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t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ade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&gt; boys.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 swinging twisting of kn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ce/gymna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most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is a sesamoid bone imbedded in quadriceps te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6095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obv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held in 20-30 degrees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palpable lat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190600" y="1909800"/>
            <a:ext cx="573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painful/ pts anx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/se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ray not needed prior to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upine hips flexed to relax quadric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l pressure to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171880" y="1371600"/>
            <a:ext cx="52956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immobilizer or patellar stabilization b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up 1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hab quad strength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es return to sports 4-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5 years old high rate of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6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dis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dislocation rare-but devastating/potentially limb threa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 grossly swollen knee clinically obvious, often decreased perfusion low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pontaneously reduced must have high index of suspi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ase of severe bicruciate lig injury with grossly unstabl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swelling/hema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505320" y="3067200"/>
            <a:ext cx="4481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70280" y="2000160"/>
            <a:ext cx="4368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873520" y="1523880"/>
            <a:ext cx="40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of tibial displa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lation of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&gt;Posterior&gt;med or 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A ( &gt;6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ac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liteal artery ( 10-30%)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peroneal nerve(20-3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 sensation over the dorsum of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sensation over plantar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tment syndromes/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liteal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49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addle B study j orthotrauma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/3 reduced spontane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 injury : ACL or PCL84-8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L/PCL 7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L 44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L6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liteal injury in 9 knees ( 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neal nerve 9 (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nee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vide sl longitudinal 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or uses one hand on tibia one on femur to guide it back into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plint 15 degrees 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io/Doppler/ Ankle-ankle ind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al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in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rior dislocation arm slightly abd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ly rotated .Pt resists all movement. Loss of  normal rounded  appea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2908440"/>
            <a:ext cx="6496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ducted/ 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9560" y="1600200"/>
            <a:ext cx="3282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2481120"/>
            <a:ext cx="4648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54040" y="1206360"/>
            <a:ext cx="62359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dislocations require prompt and effective care in the Emergency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veral techniques for shoulder red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p dislocations/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ment and complications of kne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bow dislocations and techniques f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90440" y="-1319040"/>
            <a:ext cx="9524880" cy="94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common 3-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difficult to diagnose-may miss on up to 50% standard ap view as findings sub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  assoc with greater tuberosity/surgical neck fx’s can cause a reverse hills sachs deform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plain X rays indeterminate can use 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also aids ortho as to who needs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% articular surface involved changes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793880"/>
            <a:ext cx="57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 post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483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ness posteriorly. Somewhat squared off shoulder. Marked decreased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ful radiographic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bulb sign-humeral head internally rotated. tuberosity no longer project laterally( circular look to H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 sign- refers to distance  from medial aspect of humeral head to ant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uperimposed or widened joint space &gt;6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ct po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 line 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arallel lines of cortical bone  are seen on medial cortex of HH,one line is medial cortex of HH other line is “trough of impaction fx  ( reverse hill  sachs) anterior articular  surface of 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bu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7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5118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percent of all major joint disloc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most common 95-9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rior  2-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rior ( luxatio erecta-which means “ to place upward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tomy: shoulder is an inherently unstable joi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enoid is shallow-allows for wide rang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rum fibrocartilaginous structure surrounds glenoid inserts into edge of joint caps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( alchoholic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rotation/adduction/flex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53596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30880" y="990720"/>
            <a:ext cx="358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4445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33960" y="1752480"/>
            <a:ext cx="3817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/ 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46240" y="2044800"/>
            <a:ext cx="459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1749600"/>
            <a:ext cx="5133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.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axial loading foreceful hyperabd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t falls grasping object above their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 locked in abduction often fore arm resting on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% of pts have some neurologic dys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177156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19440" y="1143000"/>
            <a:ext cx="55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oglenohumeral ligament :anterior/inferior portion of the capsule..thicker than the others and provides strongest  support again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or cuff muscles provide additional suppo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capularis lies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spinatus/infraspinatus/Teres mi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ITS) lie posterior “pull” humeral head into gleno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858960"/>
            <a:ext cx="8147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vascular exam-check distal pulses/axillary nerve function:some dysfunction in 42% of cases( almost all recov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t check deltoid teres minor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heck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 security guard/ arm forces patch location for axil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49640" y="-47520"/>
            <a:ext cx="464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xillary nerve pals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sal hand  sensation web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81400" y="1057320"/>
            <a:ext cx="4381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95480" y="2416320"/>
            <a:ext cx="4915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phic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s fractures/confirms dislocation/confirms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ly important fx’s can occur up to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 factors : age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ll 3 absent can safely skip prereduction x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96% negative prediction val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 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pular  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68560" y="1143000"/>
            <a:ext cx="7365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m directed parallel to scapular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formed by body/spine and the coracoid process. Glenoid fills in center of Y( normally obscured by humeral hea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dislocation Humeral head appears medial to gle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63720" y="1295280"/>
            <a:ext cx="38563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514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3667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with arm abducted plate o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800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410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nerve most commonly injured nerve in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inferior to humeral h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vates deltoid, teres minor—Shoulder badge”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19480"/>
            <a:ext cx="33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 Sachs- cortical depression of humeral head from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art lesions- Glenoid labrum dis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e frag/avulsion may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tuberosity fx’s– up to 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324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art le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9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 Know its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ed consent risk minimal. rare incidence of fractures. axillary artery/nerve injury rare but may occur(esp with more forceful technique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 needed   n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dsheet/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15lb weight for stim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cious sedation /Pain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 preferre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to complete procedural sed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ntanyl/versed/ms/ketamine etomidate/propof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rticular inj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avoids complications of sedation/pts with significant comorbi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ml syri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ject 20ml  1%lidocaine.lateral approach best. Identify acromion process over lat aspect of shoulder 1cm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or  20guage direct needle medially and inferiorly to depth of2.5 cm/3.0 cm( CAN USE US GUID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articular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52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lear evidence supports one method over another….clinical p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Shoulder Dislo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least Traumatic Fi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prone on stretcher with arm hanging, or sitting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ate inferolateral aspect of shoulder upward towards mi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 modify by pulling arm down by assistant or we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362320" y="1076400"/>
            <a:ext cx="4572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sca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36162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ll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use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19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nepin technique” 80-90 %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supine on stretc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elbow at pts side flexed 9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LY externally rotate shou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t try to relax and let arm fall to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achieved by overcoming spasm of internal rot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ain or spasm occurs stop allow pt to rel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duction occurs at 70-11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milch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s slow gradual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4933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prone with hanging weight  10-15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-20 minutes  . Works by fatigue of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use sand bag/ bucket/ wrist brace with attatch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441680" y="1523880"/>
            <a:ext cx="352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wrapped around pt under axilla one practitioner pulls elbow wrist ( can use sheet wrapped around your waist and pts flexed elbow allowing you to use body wei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 provides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1824120"/>
            <a:ext cx="52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around wa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8373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e traction counter/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60199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vertical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030640" y="1676520"/>
            <a:ext cx="293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29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nn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733920" y="1681200"/>
            <a:ext cx="464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chniques to avo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cr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in axilla with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 in line traction uses chest as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bove have higher rate for fracture /injury  and are out of fa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61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66960" y="1828800"/>
            <a:ext cx="361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ifficult to diag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common less than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/trauma alcho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 dislocation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reduction only if articular surface defect less than 20% ( reverse hill sac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uration of dislocation less than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need OR closed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do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itting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4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-  maj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glenoid 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oracoid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infraclavi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: usually caused by a blow or force to abducted externally rotated and extended arm… Think blocking a basketball sh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ll on outstretched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traction in line with abducted humerus.usually successful unless buttonhole ( humeral head trapped in tear of inferior joint capsu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k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Green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lies on unaffecte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 on affected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sh on humeral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incidence of brachial plexus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locked around ipsalateral knee in a seated position leans back extends 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sing when pain is too much then continuing until reduction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w bird –pt in chair elbow fle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 applies downward traction at elb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foot in 4” stockinette int /ext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reduce 5-10% interposition of biceps tendon ,joint capsule, or fracture fragments within the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e and vascular injury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llary nerve –more often in elderly. managed conservatively after 4 weeks emg nerve study if surgery best between3-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chial plexsus radial/ulnar musculoskelata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artery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. More common in chronic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cases reported. 90% in pts over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joint capsule adhesions, calcifications, loss of 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ous injury rare. Usually thromb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 reduction shoulder is immob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ortho 1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common complication is recurrent  dis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-90% pt &lt;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10%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obilization-adduction internal rotation, collar cuff, sling swa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studies (cadaver) recurrent dislocations slightly less if shoulder immobilized in 10 degrees 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pedic repair- irreducible dislocation, significant fractures/bankhart fx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 may reduce rate of reocc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eek 12 limited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6 full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3336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457848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2:34:36Z</dcterms:created>
  <dc:creator>william</dc:creator>
  <dc:description/>
  <dc:language>en-US</dc:language>
  <cp:lastModifiedBy>william</cp:lastModifiedBy>
  <dcterms:modified xsi:type="dcterms:W3CDTF">2009-06-04T05:47:19Z</dcterms:modified>
  <cp:revision>29</cp:revision>
  <dc:subject/>
  <dc:title>Dislocations </dc:title>
</cp:coreProperties>
</file>