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DE66-5845-49CE-81D2-093815FBA2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litarytimes.com/multimedia/video/808163493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911F-9A89-453E-AD08-185BED311C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E78-7C6B-4B04-81D9-5B53A75F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2A1-FA6C-4454-8F30-F7FDA59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9BA-A6D7-4A82-AD82-218287F7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CA1-1AA4-4194-A0B3-111969E7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B46-C9A3-4689-91E0-D8E5582E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7A46-DF8A-4A72-A958-DAAB78E8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B69-5A5E-4782-933A-D857821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8006-C3E3-4608-A172-66E817B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576-CA06-44A4-838E-47707CA8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609-D973-4B84-85C7-7431BB3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3C99-6585-4C73-BFF1-E13E8B3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CFC-8C83-47CD-9A6B-94C3A10D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8C6-1DA9-4536-8010-CA73A10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710C-663C-49A8-8188-663BB908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672-8E1B-46CE-901B-903C0BC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12E-DD72-4171-9F69-279519D3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F96B-40F2-47F0-959C-29B547C0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591-3A38-403C-B681-8B1AB17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1F9-A675-44A3-AEB3-E41F06E2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CDA-3B99-4E84-B48F-82349CB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032-54D3-4594-A2E4-2A51483F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5B6-4E31-4C27-B098-8203C11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0C2-C2B0-4973-AEDC-07AAE641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D6C-B475-4272-86F6-71F6315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6CB8-FE26-4BB1-B993-D9692A3FC3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473-D121-4C9B-B80E-4BD5AEDFA6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Medic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nda Reilly, M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istant Ch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ergency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et patient at hospital/at air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mac transf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ing to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Aircraf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CU equipped with MD and ICU RN esc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35 small crafts, crow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 45 larger, seats 4 in addition to patient stretcher area and doctor sea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the hospital if possi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tarmac if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the flight if urg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—examine the patient thoroughly before boarding the je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 all needed interventions prior to take off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intub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chest tub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mac 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Escort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sues with flight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off and landing O2 concer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bient noise makes it difficult to auscul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ustrophobic for some patients/family memb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 tanks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 Cas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er Vietnamese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mbodian Deputy Prime Min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soldiers in Iraq--ps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gladeshi 3 year old--rare brain tumor to cancer center in T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stralian 9 year old--severe spinal cord injury sustained on holi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injured in Mumbai bomb bla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cort Doctor: Common Evacuation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ectious diseases—dengue, malaria, entamoeba histoly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uma--scooters/taxis/private vehicles/bu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rorism/War/Natural Disasters/Epidemics—Pakistan, India, B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untain sickness—Nep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bious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ly uns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me/corruption/brib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by planes often sporad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care sub-stand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rty hospitals; old broken eqpt; very poor hygiene stand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adaches on Evacu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port—small airports close or open when they want. Visiting dignitaries close airspace. Brib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—Don’t like to lose a paying pat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—deteriorates prior to depar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stical—weather, traffic, strikes, equipment--Nep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ING ENOUGH O2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cuation Perk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e and experience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op off the patient and hit the beach/local attr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broad skill set and knowledge base—logistics, aviation medicine, negotiating different cultur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friends all over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ips at Se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ship Cap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ise on medical care on limited medical cac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ily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e to NCME if urg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/reroute 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bilize locally, evacuate if need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al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ve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porate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5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venues US $2 Billion 20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il Ri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il ri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ngerous jobs/equi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cac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s trained loc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supply boats or helicop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icopters: Poor access to rigs at n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ather conside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Telemedicin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rcraft Carri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 aircra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ifficul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che limi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  bag/me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of flight cr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or telephone conn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lemedicine: Aircraft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velers may decline assist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irline personnel well trained—Sing airlines--AED, good protocol, standardized presentation. Others no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ften a doctor on bo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lemedicine: Diver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divert the pla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is the NCM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ctor in time to get to receiving c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Tea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cs on oil rigs/Captains on shi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ic minor surgical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 case-by-case teaching on ph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Sales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lk about work as 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swer questions regarding what we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information, question and answer sessions for cl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ted ISOS clinics for special events—e.g., annual meetings, Olymp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dents abroad—University as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ore Op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merican trained doctors are highly regarded and highly sought around 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rnational Trauma Conferenc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ngapore, Feb 200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jor John Oh—US Army Surgeon, Afghanist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militarytimes.com/multimedia/video/808163493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evacuation insu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private travelers/NG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une 500 companies and their ex-pat employ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US military personnel and their families overseas (Tric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il rigs/Airlines-crews,pax/Shi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ordinating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um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ort do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Jobs: Coordinating do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 calls from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 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ad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ferrals to local providers and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ice on medical advice rece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cal ad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equipped Lear j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 transf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--tarm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cu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rcial carri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tcher vs se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quipment—no supplemental O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tor and Nurse esc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migration through usual channe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ambul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range receiving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ordinating Do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medical care in NC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communication with treating do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return to work site or repatr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angements for medical escort as indic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fferent Jobs: Loc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ver ISOS Clinics*/ Alarm Cen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jing, Hong Kong, Ch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nom Penh, Cambod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ngon, Myanmar*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khalin Island, Russia*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 Chin Minh*, Hanoi, Viet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ngkok, Thai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i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i*, Jakarta, Indones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52:29Z</dcterms:created>
  <dc:creator>International SOS Pte Ltd</dc:creator>
  <dc:description/>
  <dc:language>en-US</dc:language>
  <cp:lastModifiedBy>HCMARTINEZ</cp:lastModifiedBy>
  <dcterms:modified xsi:type="dcterms:W3CDTF">2009-09-03T19:09:15Z</dcterms:modified>
  <cp:revision>12</cp:revision>
  <dc:subject/>
  <dc:title> evacuation medicine</dc:title>
</cp:coreProperties>
</file>