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3D36-7208-429B-8A81-CF12FA3F05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litarytimes.com/multimedia/video/8081634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E3F-D3F0-4899-AECD-17FD2AC4323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EBD-E1B4-4DF4-B81A-4A4F2AFF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76B-1F97-4A4A-8F12-E658AF9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497-9D55-4656-91BE-38B17E83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A11-E003-41A6-B7FA-4385A1F1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7B6-03CC-4FB6-86FD-78BD11BB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D707-0E93-4337-A3FC-9D3EDF5D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45F9-CA55-4D39-8793-CE49220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1258-ED67-490F-9005-1F97881F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8D0-CA39-42E4-BA92-D30AE1B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05A1-2F3F-468B-BEED-7AC7C30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D64C-E507-468D-B0DE-A1A16B1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23C-F07E-4161-AA65-3E2A0899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3549-F944-44A0-BA60-E350089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7578-080B-4C18-9E2C-0F65488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929A-422F-4350-AC7B-BD0F58F0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9BF2-A4DC-45DE-B19C-4B3AF673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896F-0F00-473F-9FF7-379E0899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563-AEC2-43B1-B929-AE3C7C1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DD0-59C4-437E-B910-6AFFB63F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8A0-04D7-47A7-8FF5-D2A708FC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EB7-F780-4137-9CA2-E400CF4D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0F5-3591-4791-8178-6C1F523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E93-E589-4DA4-AA1D-60A6C5C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89C-D813-486F-824D-0847764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D48-8D33-43E9-971E-0A32C6BDC8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D30-A42E-459E-859A-F077031C70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Medic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nda Reilly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istant Ch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ergency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et patient at hospital/at air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mac transf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to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Aircraf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U equipped with MD and ICU RN esc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35 small crafts, crow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45 larger, seats 4 in addition to patient stretcher area and doctor sea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the hospital if 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tarmac if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flight if urg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—examine the patient thoroughly before boarding the j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 all needed interventions prior to take of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intub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chest tub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off and landing O2 concer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bient noise makes it difficult to auscul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ustrophobic for some patients/family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 tanks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 Cas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er Vietnamese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mbodian Deputy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soldiers in Iraq--ps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gladeshi 3 year old--rare brain tumor to cancer center in T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stralian 9 year old--severe spinal cord injury sustained on hol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injured in Mumbai bomb bl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: Common Evacuation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us diseases—dengue, malaria, entamoeba histoly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--scooters/taxis/private vehicles/b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orism/War/Natural Disasters/Epidemics—Pakistan, India, B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sickness—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bious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ly u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/corruption/b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by planes often sporad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care sub-stand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ty hospitals; old broken eqpt; very poor hygien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port—small airports close or open when they want. Visiting dignitaries close airspace. Brib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—Don’t like to lose a pay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—deteriorates prior to depar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stical—weather, traffic, strikes, equipment--Nep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Perk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e and experience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op off the patient and hit the beach/local attr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broad skill set and knowledge base—logistics, aviation medicine, negotiating different cultur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friends all over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ips at S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ship Cap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ise on medical care on limited medical cac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ily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e to NCME if urg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/reroute 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locally, evacuate if nee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ve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porate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nues US $2 Billion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il Ri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ri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gerous jobs/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cac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s trained loc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supply boats or helicop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s: Poor access to rigs at n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rcraft Carri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 aircra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ifficul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che limi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  bag/m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of flight cr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telephone conn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lemedicine: Aircraft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velers may decline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irline personnel well trained—Sing airlines--AED, good protocol, standardized presentation. Others no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a doctor on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emedicine: Diver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divert the pla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is the NC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or in time to get to receiving c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Tea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s on oil rigs/Captains on shi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inor surgical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 case-by-case teaching on ph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Sales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lk about work as 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swer questions regarding what we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information, question and answer sessions for cl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ISOS clinics for special events—e.g., annual meetings,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abroad—University as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trained doctors are highly regarded and highly sough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national Trauma Conferenc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ngapore, Feb 200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John Oh—US Army Surgeon, Afghanis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militarytimes.com/multimedia/video/808163493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evacuation insu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private travelers/NG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une 500 companies and their ex-pat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US military personnel and their families overseas (Tric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il rigs/Airlines-crews,pax/Shi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ing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um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Coordinating do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 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d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rals to local providers and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ice on medical advice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al ad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 transf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--tarm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 c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tcher vs s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—no supplemental O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 through usual chann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medical care in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communication with treating do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return to work site or repatr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medical escort as i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Loc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ISOS Clinics*/ Alarm Cen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jing, Hong Kong,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nom Penh, Cambod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ngon, Myanmar*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khalin Island, Russ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 Chin Minh*, Hanoi, Viet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gkok, Thai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i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i*, Jakarta, Indone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52:29Z</dcterms:created>
  <dc:creator>International SOS Pte Ltd</dc:creator>
  <dc:description/>
  <dc:language>en-US</dc:language>
  <cp:lastModifiedBy>HCMARTINEZ</cp:lastModifiedBy>
  <dcterms:modified xsi:type="dcterms:W3CDTF">2009-09-03T19:09:15Z</dcterms:modified>
  <cp:revision>12</cp:revision>
  <dc:subject/>
  <dc:title> evacuation medicine</dc:title>
</cp:coreProperties>
</file>