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3807-C8F2-464C-9634-F84F1C0890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litarytimes.com/multimedia/video/80816349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D5B3-13E3-4DE3-869D-8D329A8EEB7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682-FA99-4C9C-8319-49926BAD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A2C-1BBD-4B33-9889-C2D17CC2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3B6-D2D2-41DE-A7C7-8A0C37D9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16C-AED6-45A5-A744-C2703F1E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6320-6CE7-42E2-81DF-3B0D8B88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42EC-0E3F-4C59-8C69-09D9212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7EC3-7D5C-4BF2-8189-A7410758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4DC3-AD67-4CC6-9A3E-E10ED967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1689-C28D-4DD1-B911-BD39C85D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25E-FEE0-495E-86C8-6844EF1A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EC9E-7DC9-4A03-BD06-E8D84DC9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E29-D91C-41FF-8084-8B5127CF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397B-8E5A-422C-AFAA-3B262CB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E481-46A0-4224-B9DC-33971397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1274-A7CC-47A9-B212-DAC3358A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2FC2-0F4F-4323-B397-9B9E6912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2F54-EDFB-449E-88EA-4440CB12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E50-40B0-46C9-8D77-216989F9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99D-6B71-4747-9E93-307388B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1E3-9F4E-49B2-B4AF-A9286590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B89-3CFB-4A6D-9991-48C4E8BA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FF8-B43E-4869-840C-D5F3989B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F85-3301-496D-8923-F31A38E7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B87-2D10-4EB6-9BFF-B24FAF40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7439-1407-4201-BA07-D6BF052965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33F-0B14-4A53-A696-4FF8ABF935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Medic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nda Reilly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istant Ch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ergency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et patient at hospital/at air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mac transf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to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Aircraf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U equipped with MD and ICU RN esc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35 small crafts, crow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45 larger, seats 4 in addition to patient stretcher area and doctor sea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the hospital if 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tarmac if 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flight if urg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—examine the patient thoroughly before boarding the je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 all needed interventions prior to take off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intub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chest tub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off and landing O2 concer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mbient noise makes it difficult to auscul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ustrophobic for some patients/family me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 tanks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 Cas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er Vietnamese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mbodian Deputy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soldiers in Iraq--ps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gladeshi 3 year old--rare brain tumor to cancer center in T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stralian 9 year old--severe spinal cord injury sustained on hol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injured in Mumbai bomb bl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: Common Evacuation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us diseases—dengue, malaria, entamoeba histoly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uma--scooters/taxis/private vehicles/bu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orism/War/Natural Disasters/Epidemics—Pakistan, India, B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sickness—Nep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bious pla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ly uns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me/corruption/brib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 by planes often sporad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care sub-stand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ty hospitals; old broken eqpt; very poor hygiene 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rport—small airports close or open when they want. Visiting dignitaries close airspace. Brib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—Don’t like to lose a paying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—deteriorates prior to depar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stical—weather, traffic, strikes, equipment--Nep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Perk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e and experience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op off the patient and hit the beach/local attr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a broad skill set and knowledge base—logistics, aviation medicine, negotiating different cultur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friends all over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ips at Se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ship Cap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ise on medical care on limited medical cac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ily upd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e to NCME if urg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/reroute 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locally, evacuate if nee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ve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porate Secur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enues US $2 Billion 20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il Rig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ri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gerous jobs/equi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cac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s trained loc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eduled supply boats or helicop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s: Poor access to rigs at n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ather conside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rcraft Carri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ercial aircra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guage difficul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che limi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dardized  bag/m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ills of flight cr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telephone conn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lemedicine: Aircraft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velers may decline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irline personnel well trained—Sing airlines--AED, good protocol, standardized presentation. Others no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a doctor on bo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lemedicine: Diver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you divert the pla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is the NC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or in time to get to receiving ca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Teach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s on oil rigs/Captains on shi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inor surgical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 case-by-case teaching on ph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Sales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lk about work as 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swer questions regarding what we 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information, question and answer sessions for cli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ted ISOS clinics for special events—e.g., annual meetings, Olymp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ents abroad—University as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e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trained doctors are highly regarded and highly sought around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rnational Trauma Conferenc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ngapore, Feb 200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jor John Oh—US Army Surgeon, Afghanist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militarytimes.com/multimedia/video/808163493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evacuation insu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private travelers/NG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Fortune 500 companies and their ex-pat employ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US military personnel and their families overseas (Trica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il rigs/Airlines-crews,pax/Shi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rdinating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um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e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Coordinating do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memb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 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ad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errals to local providers and fac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ice on medical advice recei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al ad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 transf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--tarma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rcial c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tcher vs se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—no supplemental O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 through usual channe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medical care in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quent communication with treating do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return to work site or repatr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medical escort as indic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Loc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ver ISOS Clinics*/ Alarm Cen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ijing, Hong Kong, Ch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nom Penh, Cambod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angon, Myanmar*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khalin Island, Russ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 Chin Minh*, Hanoi, Viet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ngkok, Thai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i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i*, Jakarta, Indone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2:52:29Z</dcterms:created>
  <dc:creator>International SOS Pte Ltd</dc:creator>
  <dc:description/>
  <dc:language>en-US</dc:language>
  <cp:lastModifiedBy>HCMARTINEZ</cp:lastModifiedBy>
  <dcterms:modified xsi:type="dcterms:W3CDTF">2009-09-03T19:09:15Z</dcterms:modified>
  <cp:revision>12</cp:revision>
  <dc:subject/>
  <dc:title> evacuation medicine</dc:title>
</cp:coreProperties>
</file>