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FD22-4768-40CB-82BC-59EB367A204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ilitarytimes.com/multimedia/video/808163493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C493-6065-4A63-86E8-1F58D2A4DC0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359B-2944-4775-8D32-737E32A77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87D2-FA5E-48A1-893E-726A8ADC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CC56-8232-48E4-AF95-85C0FB217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6E84-60D8-4961-8AB2-2B6C62504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0371-CDF0-4909-891D-30E86E56D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33BA1-2FE5-42D8-BB74-E3D260D9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D9536-D4FA-4E01-B102-E93DEB7C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063F-6FCD-4B12-8E39-7CD1C398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8037-E130-4A6F-BE7E-3E28EFE6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4AA1-1616-434D-867C-87306967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2B78-1101-4FE6-8585-07409F6A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187F-2E99-4A62-BE9C-5EBAEECB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00E5-E746-4927-B04D-855E3A9E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496F4-48C2-489E-9FEC-372F873D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7BF07-D348-4FC7-B1ED-AC929D25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DEB8-A7F4-424C-8756-80A9CD632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BFC58-71AC-471D-8340-0B32D76C4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D15C-4416-4346-823F-BA94A6B0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ACA7-7633-4A0D-BFD9-563E9676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6054-7E8B-4FE8-9CED-0A116396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8F1F-FD8F-45A0-AE51-DC2FE4A8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147E-80BC-482B-85E9-79C7444F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3B8C-9D2D-4A79-AE0D-E1739D9C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8DFB-61E6-4C6B-A156-33A873AC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DBDE-4AB4-4206-9281-ED1016A2DD7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76E1-37B3-430B-8D39-4E4E6E29191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vacuation Medici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renda Reilly, M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ssistant Chief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mergency Medic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fferent Jobs: Escort Doc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et patient at hospital/at airpo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CU equipped Lear je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rmac transf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ring to NCM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vacuation Aircraf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CU equipped with MD and ICU RN escor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ar 35 small crafts, crowd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ar 45 larger, seats 4 in addition to patient stretcher area and doctor seat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bilize pati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t the hospital if possi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n the tarmac if necessa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n the flight if urgent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fferent Jobs: Escort Doc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ssues with flight medicine—examine the patient thoroughly before boarding the jet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form all needed interventions prior to take off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armac intub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armac chest tub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armac lin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fferent Jobs: Escort Doc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ssues with flight medic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ake off and landing O2 concer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mbient noise makes it difficult to ausculta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austrophobic for some patients/family memb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ring enough O2 tanks!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scort Doctor Cases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ampl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rmer Vietnamese Prime Minist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mbodian Deputy Prime Minist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erican soldiers in Iraq--psy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angladeshi 3 year old--rare brain tumor to cancer center in T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ustralian 9 year old--severe spinal cord injury sustained on holid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erican injured in Mumbai bomb bla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scort Doctor: Common Evacuations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fectious diseases—dengue, malaria, entamoeba histolytic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auma--scooters/taxis/private vehicles/bus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rrorism/War/Natural Disasters/Epidemics—Pakistan, India, Bal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untain sickness—Nep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eadaches on Evacu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ubious plac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litically unstab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rime/corruption/brib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s by planes often sporadi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dical care sub-standar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rty hospitals; old broken eqpt; very poor hygiene standar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eadaches on Evacu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lay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irport—small airports close or open when they want. Visiting dignitaries close airspace. Brib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spital—Don’t like to lose a paying pati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tient—deteriorates prior to departu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ogistical—weather, traffic, strikes, equipment--Nep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RING ENOUGH O2!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vacuation Perks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e and experience the worl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rop off the patient and hit the beach/local attrac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velop a broad skill set and knowledge base—logistics, aviation medicine, negotiating different cultures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ke friends all over the worl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ifferent Jobs: Telemedicin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hips at Se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ke calls from ship Captai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vise on medical care on limited medical cach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ily updat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vacuate to NCME if urg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licopter/reroute shi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bilize locally, evacuate if need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national S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dical Assista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avel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pa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rporate Securi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5 yea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venues US $2 Billion 200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ifferent Jobs: Telemedicin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il Rig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il rig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angerous jobs/equip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imited cach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dics trained local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cheduled supply boats or helicopt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licopters: Poor access to rigs at nig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ather consider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ifferent Jobs: Telemedicin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ircraft Carrier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mercial aircraf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nguage difficult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che limit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andardized  bag/me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kills of flight crew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or telephone connec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elemedicine: Aircrafts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avelers may decline assista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 airline personnel well trained—Sing airlines--AED, good protocol, standardized presentation. Others no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ften a doctor on boar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lemedicine: Diver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 you divert the plan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re is the NCM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actor in time to get to receiving car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fferent Jobs: Teach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dics on oil rigs/Captains on ship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sic medici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sic minor surgical techniqu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ive case-by-case teaching on pho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fferent Jobs: Sales Suppor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lk about work as escort doct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swer questions regarding what we d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vide information, question and answer sessions for cli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signated ISOS clinics for special events—e.g., annual meetings, Olympic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udents abroad—University as cli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plore Op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erican trained doctors are highly regarded and highly sought around the worl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nternational Trauma Conferenc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ingapore, Feb 2009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jor John Oh—US Army Surgeon, Afghanist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ttp://militarytimes.com/multimedia/video/808163493/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national S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vide evacuation insura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 private travelers/NG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 Fortune 500 companies and their ex-pat employe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 US military personnel and their families overseas (Tricare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il rigs/Airlines-crews,pax/Ship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fferent Job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ordinating doct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cum doct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scort doct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lemedic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ach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l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ifferent Jobs: Coordinating docto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ke calls from memb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rrange evacua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vide advi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ferrals to local providers and facilit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vice on medical advice receiv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dical advi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ordinating Doc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vacua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iva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CU equipped Lear je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octor and Nurse escor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quipment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rrange ambulance transf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rrange receiving ca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mmigration--tarma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ordinating Doc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vacua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mercial carri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retcher vs seat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quipment—no supplemental O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octor and Nurse escor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mmigration through usual channel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rrange ambula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rrange receiving ca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ordinating Doc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nitor medical care in NCM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requent communication with treating doct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rrangements for return to work site or repatr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rrangements for medical escort as indicat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fferent Jobs: Locu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ver ISOS Clinics*/ Alarm Cent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ijing, Hong Kong, Chin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hnom Penh, Cambodia*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angon, Myanmar*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akhalin Island, Russia*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 Chin Minh*, Hanoi, Vietna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ngkok, Thail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hil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li*, Jakarta, Indones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02:52:29Z</dcterms:created>
  <dc:creator>International SOS Pte Ltd</dc:creator>
  <dc:description/>
  <dc:language>en-US</dc:language>
  <cp:lastModifiedBy>HCMARTINEZ</cp:lastModifiedBy>
  <dcterms:modified xsi:type="dcterms:W3CDTF">2009-09-03T19:09:15Z</dcterms:modified>
  <cp:revision>12</cp:revision>
  <dc:subject/>
  <dc:title> evacuation medicine</dc:title>
</cp:coreProperties>
</file>