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F121-5E47-4764-82F4-3588ABB0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8BA0-8FBE-4061-8122-8DEE9AB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45B6-362D-4E0C-97C5-8E260FEF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989D-54D6-4057-B854-8B9C69CA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2670-FE28-498F-922F-ECDE548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A61-8EEB-4EB8-8D8F-C64325F8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DC8-8776-476C-A5DD-5E2012C6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B298-6C0F-4F42-B723-B0D4D2E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9583-EEF1-48DB-8BD2-FC5EA7F1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16B3-1473-4C90-BE2E-CE7ED00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FD66-D39D-4469-9251-821B6F23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CD4C-003F-415C-8251-D8217AEA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E493-A90F-4B05-AF60-A3F81A1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9679-F2CE-4802-B40E-112DF72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506D-3086-4A1F-AC2F-2CD608E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ED3D-66E4-49DE-AF56-5CA7F3C8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218-092B-41BF-ABD5-7D9D7EDB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22DD-A34D-4652-8E22-41F7A82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A7D5-D133-42F0-9F9E-3F329D68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DCDF0-B8B3-46C7-9CB8-9005DBB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3B73-65DF-425E-8AF4-E069255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9D1D-4821-4410-A80F-A117243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0CF3-D9FE-4553-8968-7E5CA6F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6BCE-A963-4CD6-AACB-8729B92B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644E-2A51-4C5F-9182-D47D01B4C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7B75-704F-4324-B94D-251D0F5632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Delivering care to the underserved: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creasing the Numbers of Minority Physicia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ben Gonzalez M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C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heories of reten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into’s Student  Departure Theo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: academic integration and societal integrations are key. “college as a rites of passage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51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ulture integrity mode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One develops ways of affirming, honoring and incorporating the individual’s identity into the organization’s culture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approaches used to increase acceptance and retention for UR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mmer Bridge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mental Educa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emental instruction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toring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lturally Conscious Progra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3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64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1905120"/>
            <a:ext cx="2361960" cy="2133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981080"/>
            <a:ext cx="236196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3124080"/>
            <a:ext cx="2362320" cy="2133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1279440"/>
            <a:ext cx="3962520" cy="66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ologies Puente has pioneered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ing an academic program to the local commun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grating culturally relevant literature into the core curricul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ing small learning communities that foster academic suc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ing in cross-disciplinary tea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cessfully teaching students reading and writing in untracked, mixed-skills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ente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be eligible for the University of California (19% vs. 6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83% rate of acceptance to 2 and 4 year college compared to 49% of all graduating high school senio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ore likely to enroll in four year college (43% vs. 24%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cceptance to UC increased 234% between 1999 and 2003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sage rate of exit exam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English: 96% vs. 69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ath: 81% vs. 56%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uente - CCRMC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ealth Pathwa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shadowing opportunities and volunteering opportunities for those interested in health scie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ng term 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ion of a Puente-CCRMC health careers path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ngitudinal program throughout four yea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igh scho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ow for exposures to different care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Health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udent Community Outreach Projects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 awareness of minority health issu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ident/Faculty mento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1817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providing health care to the underserv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rriers to recruiting underrepresented minorities into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we can learn about successful college-bound pro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e at CCRMC can hel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998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acial and Ethnic Disparities in Healthc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itute of Medicine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disparities remain even after adjustment for socioeconomic differences and other healthcare access related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ces in treatment are not due to clinical factors such as racial differences in severity of disease or overuse of services by whi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atients are more likely to refuse treatments but this difference is small and do not fully explain healthcare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indings of Institute of Medicine continued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sources-including health systems, healthcare providers, patients and utilization managers– may  contribute to racial and ethnic disparities in health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as, stereotyping, prejudice, and clinical uncertainty on the part of healthcare providers may contribute to racial and ethnic dispar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 of 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 Recommend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crease awareness to general public and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gal, Regulatory and Policy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crease the proportion of underrepresented U.S racial and ethnic minorities among health professio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engthen the stability of patient-provider relationships in publicly funded health pla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Systems Interven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e of evidence-based guidelines, support community health workers, support the use of interpretation services, structure payment systems to ensure adequate supply of services to minority pati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ient Education and empower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oss-Cultural Education in Health Profes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% are underrepresented racial and ethnic minorities (UR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medical graduates represent 9% of the country’s physici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3.3% are African American, 40.1% are Asian American, 24.9% are Hispanic, 1.8% are American Ind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1990 and 1994 increase to 12% of total of URM due to Project 3000 by 200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then there has been a dramatic decline due significant policy shifts regarding affirmative action and higher education admissions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0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portance of Underrepresented Minority Provid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concordance of patient and provider is associated with greater patient participation in care processes, higher patient satisfaction and greater adherence to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al and ethnic minority providers are more likely than their non-minority colleagues 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rve in minority and medically underserved commun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hospital-based pract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ork in FAMILY PRACTICE, ob/gyn, and pedia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riers to Recruiting U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5 Carrasquillo et al identified perceived barriers to enrollment of URM stud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ducational Preparation (e.g. MCAT scor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ck of Minority Role Mode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7 Davidson et al found that for dental students URM recruitment was enhanced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 proportion of URM clinical fa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ility to care for diverse group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M students suggest that summer enrichment programs were the most effective tools used by Medical schools to recruit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uccess Progra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54% of recent high school graduates from low-income families pursue postsecondary education, compared to 88% of upper-income graduat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Latino students, in 1976 they made up 36% of college-age students. In 1997 it was 35.8%, however the Latino population had increased 20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ority students today have a lower persistence, graduation rates and levels of academic prepared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9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2:13:16Z</dcterms:created>
  <dc:creator> </dc:creator>
  <dc:description/>
  <dc:language>en-US</dc:language>
  <cp:lastModifiedBy> </cp:lastModifiedBy>
  <dcterms:modified xsi:type="dcterms:W3CDTF">2009-06-02T02:26:48Z</dcterms:modified>
  <cp:revision>8</cp:revision>
  <dc:subject/>
  <dc:title>Delivering care to the underserved:  Increasing the numbers of Minority Physicians</dc:title>
</cp:coreProperties>
</file>