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5207A-A147-4441-AF81-F233D1B84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82D9A-13E9-4137-921A-E4A4EC58D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16EE0-0379-4B53-8EBB-B3EDA0FEA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07D9A-7FD1-4C04-9231-FF57B5A26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C69EB-6C78-4F09-8F8F-DDC78866A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643C3-3AE5-430A-B75E-E7F7410A3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FD2F5-9EDA-41BD-8A4B-9238D951D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AA036-B5CD-45CB-A2B0-9F0B22C35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F68D5-7A3F-4686-9570-93791DC01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46C0B-E175-4744-A450-DA7F4927F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C4903-35CF-4D1B-8D42-4F1808EB2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3B0EE-5727-4D08-AFC9-FBD695775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AC40F-D581-435B-8BEB-40A7784D3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E0600-0DA1-4218-9D40-6A67D41F4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CFA76-51F5-468C-8369-A74159C27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E1F27-BEFA-4123-AA7E-283032E4A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26939-8DFA-43B6-AF54-EC40A7453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D3912-E07A-48F0-9BFB-B19AA7B81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14A86-AB2F-475D-B20C-C6412F7B3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A5FF2-873F-4134-B2FF-22ECE77BD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09148-8E0D-4723-BB9B-301C7CA01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0395E-1875-44D7-8243-A949DE6B1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D78E0-2CCE-443C-A235-E9B1CF07A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CD4E4-3A31-44B7-8E1E-48CC557A6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BCA21-4EAF-43E9-B8DC-0EF050354FA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1196D-7DC8-4FF8-A5B7-9FEFB36A418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Delivering care to the underserved:</a:t>
            </a:r>
            <a:br>
              <a:rPr sz="5400"/>
            </a:b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Increasing the Numbers of Minority Physician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67652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uben Gonzalez M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CRM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llege Success Program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ifferent theories of retent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spcBef>
                <a:spcPts val="451"/>
              </a:spcBef>
              <a:buClr>
                <a:srgbClr val="a886e0"/>
              </a:buClr>
              <a:buSzPct val="70000"/>
              <a:buFont typeface="Garamond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Tinto’s Student  Departure Theory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: academic integration and societal integrations are key. “college as a rites of passage”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spcBef>
                <a:spcPts val="451"/>
              </a:spcBef>
              <a:buClr>
                <a:srgbClr val="a886e0"/>
              </a:buClr>
              <a:buSzPct val="70000"/>
              <a:buFont typeface="Garamond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Culture integrity model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: One develops ways of affirming, honoring and incorporating the individual’s identity into the organization’s culture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ifferent approaches used to increase acceptance and retention for URM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spcBef>
                <a:spcPts val="499"/>
              </a:spcBef>
              <a:buClr>
                <a:srgbClr val="a886e0"/>
              </a:buClr>
              <a:buSzPct val="70000"/>
              <a:buFont typeface="Garamond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ummer Bridge Program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spcBef>
                <a:spcPts val="499"/>
              </a:spcBef>
              <a:buClr>
                <a:srgbClr val="a886e0"/>
              </a:buClr>
              <a:buSzPct val="70000"/>
              <a:buFont typeface="Garamond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evelopmental Education Program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spcBef>
                <a:spcPts val="499"/>
              </a:spcBef>
              <a:buClr>
                <a:srgbClr val="a886e0"/>
              </a:buClr>
              <a:buSzPct val="70000"/>
              <a:buFont typeface="Garamond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upplemental instruction Program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spcBef>
                <a:spcPts val="499"/>
              </a:spcBef>
              <a:buClr>
                <a:srgbClr val="a886e0"/>
              </a:buClr>
              <a:buSzPct val="70000"/>
              <a:buFont typeface="Garamond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entoring Program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spcBef>
                <a:spcPts val="499"/>
              </a:spcBef>
              <a:buClr>
                <a:srgbClr val="a886e0"/>
              </a:buClr>
              <a:buSzPct val="70000"/>
              <a:buFont typeface="Garamond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ulturally Conscious Program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733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uente Progra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4640" cy="19051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04920" y="1905120"/>
            <a:ext cx="2361960" cy="21333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133720" y="1981080"/>
            <a:ext cx="2361960" cy="21337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95280" y="3124080"/>
            <a:ext cx="2362320" cy="21337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81080" y="41148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Wri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895480" y="26668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ounse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62120" y="25909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Mento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1279440"/>
            <a:ext cx="3962520" cy="66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ethodologies Puente has pioneered includ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inking an academic program to the local community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tegrating culturally relevant literature into the core curriculum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reating small learning communities that foster academic succes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Working in cross-disciplinary team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uccessfully teaching students reading and writing in untracked, mixed-skills clas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uente Progra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More likely to be eligible for the University of California (19% vs. 6%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83% rate of acceptance to 2 and 4 year college compared to 49% of all graduating high school seniors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More likely to enroll in four year college (43% vs. 24%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Acceptance to UC increased 234% between 1999 and 2003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Passage rate of exit exam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English: 96% vs. 69%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Math: 81% vs. 56%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50920" cy="17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uente - CCRMC 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Health Pathway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hort term projec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reation of shadowing opportunities and volunteering opportunities for those interested in health scienc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ng term projec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reation of a Puente-CCRMC health careers pathwa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ongitudinal program throughout four year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074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f High schoo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llow for exposures to different career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074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 Health Car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udent Community Outreach Projects to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074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ncourage awareness of minority health issu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esident/Faculty mentor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324480" y="3733920"/>
            <a:ext cx="181764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ANK YOU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bjectiv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arriers to providing health care to the underserved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arriers to recruiting underrepresented minorities into medicin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we can learn about successful college-bound program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ow we at CCRMC can help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791320" y="3809880"/>
            <a:ext cx="29988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Racial and Ethnic Disparities in Healthcar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stitute of Medicine 2003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acial and ethnic disparities remain even after adjustment for socioeconomic differences and other healthcare access related facto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ifferences in treatment are not due to clinical factors such as racial differences in severity of disease or overuse of services by whit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acial and ethnic minority patients are more likely to refuse treatments but this difference is small and do not fully explain healthcare disparit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605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Findings of Institute of Medicine continued…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any sources-including health systems, healthcare providers, patients and utilization managers– may  contribute to racial and ethnic disparities in healthca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ias, stereotyping, prejudice, and clinical uncertainty on the part of healthcare providers may contribute to racial and ethnic disparit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87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ummary of Recommend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General Recommenda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crease awareness to general public and provider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egal, Regulatory and Policy Interven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Garamond"/>
              </a:rPr>
              <a:t>Increase the proportion of underrepresented U.S racial and ethnic minorities among health professional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rengthen the stability of patient-provider relationships in publicly funded health plan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ealth Systems Interven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Use of evidence-based guidelines, support community health workers, support the use of interpretation services, structure payment systems to ensure adequate supply of services to minority patien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atient Education and empowerm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ross-Cultural Education in Health Profess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666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Importance of Underrepresented Minority Provider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5% are underrepresented racial and ethnic minorities (UR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inority medical graduates represent 9% of the country’s physicia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3.3% are African American, 40.1% are Asian American, 24.9% are Hispanic, 1.8% are American India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etween 1990 and 1994 increase to 12% of total of URM due to Project 3000 by 2000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ince then there has been a dramatic decline due significant policy shifts regarding affirmative action and higher education admissions procedur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06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Importance of Underrepresented Minority Provider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acial concordance of patient and provider is associated with greater patient participation in care processes, higher patient satisfaction and greater adherence to treatm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acial and ethnic minority providers are more likely than their non-minority colleagues to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erve in minority and medically underserved communit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ork in hospital-based practic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ork in FAMILY PRACTICE, ob/gyn, and pediatric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42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arriers to Recruiting UR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005 Carrasquillo et al identified perceived barriers to enrollment of URM studen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80640" indent="-52812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Garamond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ducational Preparation (e.g. MCAT scores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80640" indent="-52812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Garamond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ack of Minority Facult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80640" indent="-52812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Garamond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ack of Minority Role Model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8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007 Davidson et al found that for dental students URM recruitment was enhanced b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80640" indent="-52812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Garamond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higher proportion of URM clinical facult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80640" indent="-52812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Garamond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bility to care for diverse groups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35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35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980640" indent="-52812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URM students suggest that summer enrichment programs were the most effective tools used by Medical schools to recruit studen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8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49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llege Success Program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nly 54% of recent high school graduates from low-income families pursue postsecondary education, compared to 88% of upper-income graduate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or Latino students, in 1976 they made up 36% of college-age students. In 1997 it was 35.8%, however the Latino population had increased 200%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inority students today have a lower persistence, graduation rates and levels of academic preparednes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397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9T02:13:16Z</dcterms:created>
  <dc:creator> </dc:creator>
  <dc:description/>
  <dc:language>en-US</dc:language>
  <cp:lastModifiedBy> </cp:lastModifiedBy>
  <dcterms:modified xsi:type="dcterms:W3CDTF">2009-06-02T02:26:48Z</dcterms:modified>
  <cp:revision>8</cp:revision>
  <dc:subject/>
  <dc:title>Delivering care to the underserved:  Increasing the numbers of Minority Physicians</dc:title>
</cp:coreProperties>
</file>