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E9634-7FFD-44D0-80D0-A1830D06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B7FA-7D15-46D5-88C4-C128E1AE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99BD-328A-4ED1-B0E2-18F05233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3028B-C7A5-4C62-B80C-F28973DD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777E-CF5F-4407-9335-7C84A59B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135F-8089-4887-9C20-1C56845C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95D5-7632-4D80-BD62-1669FBFD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6679-0184-4037-9D62-3402686A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B198-36ED-4ECA-9C69-1A3B9E14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D253-5971-4091-A34F-8B3DA29C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6E9C-15E1-48B5-88D6-5D1F1676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7F32-4251-4E88-94A5-CDBFC680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BCBE-122A-4F5C-AB36-0162C4E2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17C2-F5C2-411D-B239-8786CCC0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E044-3278-45B4-9AB5-AA0F86D1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0A6D-D794-4A3B-A759-C25A3892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FAC6-71C7-4443-8694-47E60997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CFAB7-39C8-4C8A-9EA4-C30F369E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8630-9145-4F7D-A933-6D3856BE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65E2-9CBC-477D-A47A-C4565923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DC56F-F754-476E-8CC7-AA2A84EC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D1ECE-00BD-44E5-9226-C687AC4E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0862-5328-43EA-8C4E-851AAF27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FE56-69A3-44CC-BDFF-82B23FC0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C70C-D7A0-4E31-AE38-1478EB5000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0FE2-AA9F-4219-AEA5-99DD8E8AA4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Delivering care to the underserved: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creasing the Numbers of Minority Physicia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765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ben Gonzalez M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CRM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uccess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theories of reten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51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into’s Student  Departure Theory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: academic integration and societal integrations are key. “college as a rites of passage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51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Culture integrity model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 One develops ways of affirming, honoring and incorporating the individual’s identity into the organization’s culture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approaches used to increase acceptance and retention for UR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mmer Bridge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velopmental Education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pplemental instruction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toring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lturally Conscious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3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ente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64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920" y="1905120"/>
            <a:ext cx="2361960" cy="2133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1981080"/>
            <a:ext cx="2361960" cy="2133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3124080"/>
            <a:ext cx="2362320" cy="2133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4114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r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2666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unse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en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1279440"/>
            <a:ext cx="3962520" cy="66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thodologies Puente has pioneered inclu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nking an academic program to the local communi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grating culturally relevant literature into the core curriculu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ing small learning communities that foster academic succes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ing in cross-disciplinary team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ccessfully teaching students reading and writing in untracked, mixed-skills cla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ente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ore likely to be eligible for the University of California (19% vs. 6%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83% rate of acceptance to 2 and 4 year college compared to 49% of all graduating high school senior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ore likely to enroll in four year college (43% vs. 24%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cceptance to UC increased 234% between 1999 and 2003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assage rate of exit exam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English: 96% vs. 69%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ath: 81% vs. 56%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uente - CCRMC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Health Pathwa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 term pro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ion of shadowing opportunities and volunteering opportunities for those interested in health scien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ng term pro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ion of a Puente-CCRMC health careers pathw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ngitudinal program throughout four yea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High schoo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low for exposures to different care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Health C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Community Outreach Projects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courage awareness of minority health issu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ident/Faculty mento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24480" y="3733920"/>
            <a:ext cx="1817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ANK Y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riers to providing health care to the underserv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riers to recruiting underrepresented minorities into medic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we can learn about successful college-bound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we at CCRMC can hel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91320" y="3809880"/>
            <a:ext cx="2998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acial and Ethnic Disparities in Healthc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itute of Medicine 20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disparities remain even after adjustment for socioeconomic differences and other healthcare access related fac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erences in treatment are not due to clinical factors such as racial differences in severity of disease or overuse of services by whi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minority patients are more likely to refuse treatments but this difference is small and do not fully explain healthcare dispar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0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indings of Institute of Medicine continued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y sources-including health systems, healthcare providers, patients and utilization managers– may  contribute to racial and ethnic disparities in health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as, stereotyping, prejudice, and clinical uncertainty on the part of healthcare providers may contribute to racial and ethnic dispar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8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 of Recommend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neral Recommend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crease awareness to general public and provid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gal, Regulatory and Policy Interven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Increase the proportion of underrepresented U.S racial and ethnic minorities among health professiona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engthen the stability of patient-provider relationships in publicly funded health pla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Systems Interven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e of evidence-based guidelines, support community health workers, support the use of interpretation services, structure payment systems to ensure adequate supply of services to minority pati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 Education and empower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oss-Cultural Education in Health Profess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portance of Underrepresented Minority Provid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% are underrepresented racial and ethnic minorities (UR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ority medical graduates represent 9% of the country’s physici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3.3% are African American, 40.1% are Asian American, 24.9% are Hispanic, 1.8% are American Indi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tween 1990 and 1994 increase to 12% of total of URM due to Project 3000 by 200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nce then there has been a dramatic decline due significant policy shifts regarding affirmative action and higher education admissions procedu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06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portance of Underrepresented Minority Provid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concordance of patient and provider is associated with greater patient participation in care processes, higher patient satisfaction and greater adherence to trea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minority providers are more likely than their non-minority colleagues t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rve in minority and medically underserved commun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k in hospital-based pract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k in FAMILY PRACTICE, ob/gyn, and pediatr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rriers to Recruiting UR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5 Carrasquillo et al identified perceived barriers to enrollment of URM stud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ducational Preparation (e.g. MCAT scor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ck of Minority Facul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ck of Minority Role Mode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7 Davidson et al found that for dental students URM recruitment was enhanced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gher proportion of URM clinical facul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ility to care for diverse group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RM students suggest that summer enrichment programs were the most effective tools used by Medical schools to recruit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4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uccess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54% of recent high school graduates from low-income families pursue postsecondary education, compared to 88% of upper-income gradua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Latino students, in 1976 they made up 36% of college-age students. In 1997 it was 35.8%, however the Latino population had increased 20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ority students today have a lower persistence, graduation rates and levels of academic preparedn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9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2:13:16Z</dcterms:created>
  <dc:creator> </dc:creator>
  <dc:description/>
  <dc:language>en-US</dc:language>
  <cp:lastModifiedBy> </cp:lastModifiedBy>
  <dcterms:modified xsi:type="dcterms:W3CDTF">2009-06-02T02:26:48Z</dcterms:modified>
  <cp:revision>8</cp:revision>
  <dc:subject/>
  <dc:title>Delivering care to the underserved:  Increasing the numbers of Minority Physicians</dc:title>
</cp:coreProperties>
</file>