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CC33-F15E-4A00-9AFF-9445930E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2DDF-A433-4494-8722-AB894875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9FD2-4EEE-42D4-A5D7-7FDFCA94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8E6A-BB94-463D-A2D4-3C0A84B5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831C-A8A3-4EEF-8C37-EBC3D969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86A5-D29E-45B3-8381-057F2299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FE92-7196-4948-95F7-6C78FF43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95B0-B583-4F79-830A-D13D394D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7482-1D38-4085-A05E-741C9087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EDE4-B1D6-4E65-9BD5-2A8E1D0A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662D-055F-45B5-A79C-F74138C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398A-FCD1-42D4-AB4A-B3CD2028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558B-6E95-40C2-BDE1-21495825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956A-4D61-426B-B369-1FED73A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D035-BC82-4397-9B63-63BFA5FA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25E4-2E76-490C-933F-50E49D84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31AC-A1AC-4033-AFF1-1BE1BF58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27C0-AEA9-4EA6-8CEC-C8C820EA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33E3-697C-4276-9CBD-F400FD64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8EA9-DE1C-4862-9DE8-A0BA4C47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E7FC-79A7-45D6-9D59-8DF83D7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4251-B959-4A49-BD93-5246D1D5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78A2-FF88-4F3A-931A-7C78A894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5792-06A4-4EBC-B017-CE9BA4E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6BC5-6363-4847-BD56-2F3E81F8A3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BAED-11E0-4B9C-86DA-DF0D83A18F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Delivering care to the underserved: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creasing the Numbers of Minority Physicia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76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ben Gonzalez M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C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heories of reten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into’s Student  Departure Theor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: academic integration and societal integrations are key. “college as a rites of passage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ulture integrity mode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One develops ways of affirming, honoring and incorporating the individual’s identity into the organization’s culture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approaches used to increase acceptance and retention for UR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er Bridge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elopmental Educa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emental instruc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toring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rally Conscious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3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64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1905120"/>
            <a:ext cx="2361960" cy="2133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981080"/>
            <a:ext cx="236196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3124080"/>
            <a:ext cx="236232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uns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n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279440"/>
            <a:ext cx="3962520" cy="66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thodologies Puente has pioneered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nking an academic program to the local commun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grating culturally relevant literature into the core curriculu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ing small learning communities that foster academic succe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ing in cross-disciplinary tea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ccessfully teaching students reading and writing in untracked, mixed-skills cla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be eligible for the University of California (19% vs. 6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83% rate of acceptance to 2 and 4 year college compared to 49% of all graduating high school senior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enroll in four year college (43% vs. 24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cceptance to UC increased 234% between 1999 and 2003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sage rate of exit exam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English: 96% vs. 69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ath: 81% vs. 56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uente - CCRMC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ealth Pathwa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shadowing opportunities and volunteering opportunities for those interested in health sci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a Puente-CCRMC health careers path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ngitudinal program throughout four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High scho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 for exposures to different care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Health C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Community Outreach Projects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courage awareness of minority health issu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ident/Faculty mento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1817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NK Y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providing health care to the underserv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recruiting underrepresented minorities into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we can learn about successful college-bou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e at CCRMC can hel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2998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acial and Ethnic Disparities in Healthc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itute of Medicine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disparities remain even after adjustment for socioeconomic differences and other healthcare access related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ces in treatment are not due to clinical factors such as racial differences in severity of disease or overuse of services by whi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atients are more likely to refuse treatments but this difference is small and do not fully explain healthcare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ndings of Institute of Medicine continued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y sources-including health systems, healthcare providers, patients and utilization managers– may  contribute to racial and ethnic disparities in health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as, stereotyping, prejudice, and clinical uncertainty on the part of healthcare providers may contribute to racial and ethnic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8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 of 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l Recommend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rease awareness to general public and provid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al, Regulatory and Policy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crease the proportion of underrepresented U.S racial and ethnic minorities among health professio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engthen the stability of patient-provider relationships in publicly funded health pla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Systems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of evidence-based guidelines, support community health workers, support the use of interpretation services, structure payment systems to ensure adequate supply of services to minority pati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Education and empower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oss-Cultural Education in Health Profes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% are underrepresented racial and ethnic minorities (UR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medical graduates represent 9% of the country’s physici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3.3% are African American, 40.1% are Asian American, 24.9% are Hispanic, 1.8% are American Ind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1990 and 1994 increase to 12% of total of URM due to Project 3000 by 200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then there has been a dramatic decline due significant policy shifts regarding affirmative action and higher education admissions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concordance of patient and provider is associated with greater patient participation in care processes, higher patient satisfaction and greater adherence to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roviders are more likely than their non-minority colleagues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ve in minority and medically underserved commun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hospital-based pract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FAMILY PRACTICE, ob/gyn, and pedia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iers to Recruiting U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5 Carrasquillo et al identified perceived barriers to enrollment of URM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ducational Preparation (e.g. MCAT scor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Role Mode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7 Davidson et al found that for dental students URM recruitment was enhanced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 proportion of URM clinical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ility to care for diverse group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RM students suggest that summer enrichment programs were the most effective tools used by Medical schools to recruit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54% of recent high school graduates from low-income families pursue postsecondary education, compared to 88% of upper-income gradua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Latino students, in 1976 they made up 36% of college-age students. In 1997 it was 35.8%, however the Latino population had increased 20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students today have a lower persistence, graduation rates and levels of academic prepared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9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2:13:16Z</dcterms:created>
  <dc:creator> </dc:creator>
  <dc:description/>
  <dc:language>en-US</dc:language>
  <cp:lastModifiedBy> </cp:lastModifiedBy>
  <dcterms:modified xsi:type="dcterms:W3CDTF">2009-06-02T02:26:48Z</dcterms:modified>
  <cp:revision>8</cp:revision>
  <dc:subject/>
  <dc:title>Delivering care to the underserved:  Increasing the numbers of Minority Physicians</dc:title>
</cp:coreProperties>
</file>