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FE8AC-881C-4D39-8E33-5E028A51E0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13A52-9BE0-41BD-905E-E787F2FDB52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765E2-95F1-43CA-9273-65203FE1E03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F0FAE-4DB8-4F47-BFD8-8E92B53CDE1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CA093-C799-430F-93E8-D6A0FE2A718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F1DB9-894D-4E18-A88D-D9D853E4F7E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64477-72AA-4976-8E81-C899F24B7B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D8F15-DFFB-4DAC-A9BE-B65D6A19BA6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1D0B-2FDE-49E6-9EE4-1C7E7629A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6E59-CFDC-41D8-976D-2E6DB3CC4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7BE6-7B3E-4F7D-87FC-17B8FFEC2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1943-F1EE-4374-9BC4-2BBB4EC2B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2B7E-CC08-44F9-A43D-AC05353AD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0CFE-267E-4D27-9FB8-52C6CF8E8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3D39-7024-4405-9919-A6C6A496F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D41A-F796-48FC-B65A-AE428221A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3FDC-8049-4146-ABE6-3ED701B60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05CA-4658-4D23-997F-1762AEBF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2D32-08CF-48E8-BA37-5439FD99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FC3E-7D32-449A-8F8A-98E0AE7A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4776"/>
                </a:gs>
                <a:gs pos="100000">
                  <a:srgbClr val="00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A03E7-CF37-4330-833E-52FE29FBAE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0" y="60948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ntegrative Health Center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ropos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152280" y="3962520"/>
            <a:ext cx="8839440" cy="30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Karen Burt, M.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rector, CCRMC Integrative Health Progra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ordinator, CCRMC Group Medical Visi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00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valuatio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Every Program Evaluated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asurable parameters of health and illn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ductiv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tient  and provider satisfa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tient  and provider perception of patient progr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rograms that are not successful will be terminated after quality improvement measures fai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ollaborate with experts in program / service evalu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.g.:   PH - CHAP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CB School of Public Healt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CSF Osher Center for Integrative Medic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1"/>
          <p:cNvSpPr/>
          <p:nvPr/>
        </p:nvSpPr>
        <p:spPr>
          <a:xfrm>
            <a:off x="3288600" y="60948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Example: Peri-na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Box 2"/>
          <p:cNvSpPr/>
          <p:nvPr/>
        </p:nvSpPr>
        <p:spPr>
          <a:xfrm>
            <a:off x="838080" y="1143000"/>
            <a:ext cx="7385040" cy="14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000"/>
                </a:solidFill>
                <a:uFillTx/>
                <a:latin typeface="Times New Roman"/>
              </a:rPr>
              <a:t>Servic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entering Prenatal Groups         Well Baby Groups        WIC  Depression Scree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-800-No Blues Resource Line            Doula Program           Lactation Consult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eri-natal Group Peer Support Counseling                   Behavior Health Counseling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ife Course Training – Community Agency / P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990720" y="2819520"/>
            <a:ext cx="708660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000"/>
                </a:solidFill>
                <a:uFillTx/>
                <a:latin typeface="Times New Roman"/>
              </a:rPr>
              <a:t>Collabora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MC Staff         Healthy Start / WIC         Behavioral Health            Public Healt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                      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mmunity Agencies             Lactation Consulta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mmunity Health Workers /  Promotoras / Health Conducto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5945400" y="51814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Box 5"/>
          <p:cNvSpPr/>
          <p:nvPr/>
        </p:nvSpPr>
        <p:spPr>
          <a:xfrm>
            <a:off x="762120" y="4572000"/>
            <a:ext cx="7467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000"/>
                </a:solidFill>
                <a:uFillTx/>
                <a:latin typeface="Times New Roman"/>
              </a:rPr>
              <a:t>Outco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eterm birth* / Peri-natal depression                            Peri-natal screening / ca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007 Yale study: 33%                              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amily Wellbeing / Healt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Down Arrow 9"/>
          <p:cNvSpPr/>
          <p:nvPr/>
        </p:nvSpPr>
        <p:spPr>
          <a:xfrm>
            <a:off x="1143000" y="480060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99ff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Up Arrow 7"/>
          <p:cNvSpPr/>
          <p:nvPr/>
        </p:nvSpPr>
        <p:spPr>
          <a:xfrm>
            <a:off x="5562720" y="4800600"/>
            <a:ext cx="228600" cy="444600"/>
          </a:xfrm>
          <a:prstGeom prst="upArrow">
            <a:avLst>
              <a:gd name="adj1" fmla="val 50000"/>
              <a:gd name="adj2" fmla="val 49955"/>
            </a:avLst>
          </a:prstGeom>
          <a:solidFill>
            <a:srgbClr val="0099ff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1"/>
          <p:cNvSpPr/>
          <p:nvPr/>
        </p:nvSpPr>
        <p:spPr>
          <a:xfrm>
            <a:off x="3124080" y="152280"/>
            <a:ext cx="32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omponents Requir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Box 2"/>
          <p:cNvSpPr/>
          <p:nvPr/>
        </p:nvSpPr>
        <p:spPr>
          <a:xfrm>
            <a:off x="914400" y="685800"/>
            <a:ext cx="7772400" cy="66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pace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esign and Furnishing                                                      Gran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ersonnel: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Administrative: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rogram Dir                           20/40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CRMC / Gr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edical Dir                             20/20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CRMC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ehavioral Health Dir               5/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dmin Assist to Dir/Eval          0/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nical Services Mgr               0/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ehavioral Health                                                                         per Dr. Ferma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Clinical Staff:  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vider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CCRM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** LVN / CMA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CCRM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HW /  Adult Ed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Grant / Collabor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**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Group Care Coordinator      40/80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CCRMC / Gr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Consultants: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valuation / Training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Gr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ncentives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Gr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** =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lready needed  at current volume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Down Arrow 3"/>
          <p:cNvSpPr/>
          <p:nvPr/>
        </p:nvSpPr>
        <p:spPr>
          <a:xfrm>
            <a:off x="6781680" y="2362320"/>
            <a:ext cx="46080" cy="609480"/>
          </a:xfrm>
          <a:prstGeom prst="downArrow">
            <a:avLst>
              <a:gd name="adj1" fmla="val 50000"/>
              <a:gd name="adj2" fmla="val 49232"/>
            </a:avLst>
          </a:prstGeom>
          <a:solidFill>
            <a:srgbClr val="0099ff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Family Practice Resource:</a:t>
            </a:r>
            <a:br>
              <a:rPr sz="28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atients, Providers and Healthcare System Benefit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81532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atients’ fundamental needs addressed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cross age spectru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even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ulturally sensitive / linked to commun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1263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hronic illness / chronic pain / obes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1263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ehavioral Healt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1263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New Productive / Successful Venues for Providers to deliver ca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263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Greater patient collaboration and satisfac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Greater teamwork with other divisions </a:t>
            </a:r>
            <a:r>
              <a:rPr b="0" lang="en-US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increased resourc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ncreased job satisfac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Health Care System Balanced / Costs reduced: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ncreased  patient self-management skills &amp; self car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ong term  decrease in unnecessary acute care ne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ost containment / Cost effecti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n an Historic Time of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National Healthcare Reform: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eate and Expan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tegrative Health Patient Services Group Medical Visi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ealth Educa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ntegrative Health Centers</a:t>
            </a:r>
            <a:br>
              <a:rPr sz="1600"/>
            </a:b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Services:</a:t>
            </a:r>
            <a:br>
              <a:rPr sz="28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ocus on Prevention / Self-Management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Group Medical Visits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ealth Education, Wellness and Fitness Class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omplementary and Alternative Medical (CAM) Ser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ntegrative Health Clinic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: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ndividual providers and CHW’s for 1:1 car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Behavioral Health Service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SA/ MH         Dr. Ferma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Training Center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atients          Staff          Outside provider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Evaluation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Quality improve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 </a:t>
            </a:r>
            <a:br>
              <a:rPr sz="4400"/>
            </a:b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Integrative and Collaborative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ntegration:  Holistic approach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 Whole Person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ntegration with CAM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ollaboration with Patients and families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elf- management = decreased  unnecessary reliance upon acute care faciliti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ollaboration within Health Care System 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– build upon existing servic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FM     PH     MH     Adm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ollaboration with other County divisions / agenc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dult Education       EHSD       Parks and  Recre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ollaboration with members and agencies of the Commun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ommunity Health Workers        Community Agencies      Community Adviso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tegrative Health Centers</a:t>
            </a:r>
            <a:br>
              <a:rPr sz="2400"/>
            </a:b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Loc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edicated space: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ithin major Health Centers  for groups, classes, CA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hree centers: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HC, MTZ, and RHC  </a:t>
            </a:r>
            <a:r>
              <a:rPr b="0" lang="en-US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No exclusion of  any popul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ositive Common Environment: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upporting the miss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eart:</a:t>
            </a:r>
            <a:br>
              <a:rPr sz="18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risis Intervention/</a:t>
            </a:r>
            <a:br>
              <a:rPr sz="18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isease Management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Key: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echnology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AutoShape 3"/>
          <p:cNvSpPr/>
          <p:nvPr/>
        </p:nvSpPr>
        <p:spPr>
          <a:xfrm>
            <a:off x="2438280" y="2514600"/>
            <a:ext cx="4267440" cy="3733920"/>
          </a:xfrm>
          <a:prstGeom prst="flowChartMerg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228600" y="3000240"/>
            <a:ext cx="25146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pli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du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o participate in preventive screening a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isease manage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6781680" y="2971800"/>
            <a:ext cx="1752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D, Nurse, OT, PT, SW, Admin.,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2362320" y="1371600"/>
            <a:ext cx="441936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chnology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vidence Based ?                        Skyrocketing cos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nequal Distribution -  Health Dispariti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762120" y="152280"/>
            <a:ext cx="7772400" cy="13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Current Conventional Medical Paradig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bff"/>
                </a:solidFill>
                <a:latin typeface="Times New Roman"/>
              </a:rPr>
              <a:t>                                                          </a:t>
            </a:r>
            <a:r>
              <a:rPr b="1" lang="en-US" sz="1600" spc="-1" strike="noStrike" u="sng">
                <a:solidFill>
                  <a:srgbClr val="ccebff"/>
                </a:solidFill>
                <a:uFillTx/>
                <a:latin typeface="Times New Roman"/>
              </a:rPr>
              <a:t>Not Sustain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Box 13"/>
          <p:cNvSpPr/>
          <p:nvPr/>
        </p:nvSpPr>
        <p:spPr>
          <a:xfrm>
            <a:off x="1981080" y="6248520"/>
            <a:ext cx="533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arginalized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:  MH / SA / PH / Commun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Integrative Health Paradigm</a:t>
            </a:r>
            <a:br>
              <a:rPr sz="2000"/>
            </a:br>
            <a:r>
              <a:rPr b="1" lang="en-US" sz="2000" spc="-1" strike="noStrike" u="sng">
                <a:solidFill>
                  <a:srgbClr val="ccebff"/>
                </a:solidFill>
                <a:uFillTx/>
                <a:latin typeface="Arial"/>
              </a:rPr>
              <a:t>Sustainabl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685800" y="2286000"/>
            <a:ext cx="19810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5943600" y="914400"/>
            <a:ext cx="2743200" cy="17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Crisis Intervention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Disease 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st effectiv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vidence-bas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clusion of CA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5486400" y="2971800"/>
            <a:ext cx="36576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858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91960"/>
                <a:tab algn="l" pos="73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Collaborative Teamwor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291960"/>
                <a:tab algn="l" pos="73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ll  inclusiv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291960"/>
                <a:tab algn="l" pos="73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HW: Link to commun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291960"/>
                <a:tab algn="l" pos="73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Oval 8"/>
          <p:cNvSpPr/>
          <p:nvPr/>
        </p:nvSpPr>
        <p:spPr>
          <a:xfrm>
            <a:off x="2895480" y="1981080"/>
            <a:ext cx="2895840" cy="26672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3124080" y="2133720"/>
            <a:ext cx="2438640" cy="24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Self  Healthc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Key: Empowerment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Suppo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Times New Roman"/>
              </a:rPr>
              <a:t>Preventive Self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 -</a:t>
            </a:r>
            <a:r>
              <a:rPr b="1" i="1" lang="en-US" sz="1600" spc="-1" strike="noStrike">
                <a:solidFill>
                  <a:srgbClr val="ffff00"/>
                </a:solidFill>
                <a:latin typeface="Times New Roman"/>
              </a:rPr>
              <a:t>Ca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Times New Roman"/>
              </a:rPr>
              <a:t>Self –Management o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Times New Roman"/>
              </a:rPr>
              <a:t>Illnes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2057400" y="5105520"/>
            <a:ext cx="274320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5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Nutr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6"/>
              </a:spcBef>
              <a:tabLst>
                <a:tab algn="l" pos="0"/>
                <a:tab algn="l" pos="235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leep, Pac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6"/>
              </a:spcBef>
              <a:tabLst>
                <a:tab algn="l" pos="0"/>
                <a:tab algn="l" pos="235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xerci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235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editation/Deep Relaxation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152280" y="3048120"/>
            <a:ext cx="312444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6044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Empowerment of Pat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6044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rust, engagement, chang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6044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ulturally sensitiv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6044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46044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4648320" y="5105520"/>
            <a:ext cx="42670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23004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lf-Management /collaboration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23004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motional / Mental Self-Car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2209680" y="480060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Active Patient Education – Life Skill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4191120" y="2133720"/>
            <a:ext cx="37335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228600" y="914400"/>
            <a:ext cx="4343400" cy="14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Behavioral Health –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Spectrum  of C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risis / Disea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unseling: 1:1 &amp; gro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tress Management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5"/>
          <p:cNvSpPr/>
          <p:nvPr/>
        </p:nvSpPr>
        <p:spPr>
          <a:xfrm>
            <a:off x="3809880" y="3048120"/>
            <a:ext cx="17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bff"/>
                </a:solidFill>
                <a:latin typeface="Times New Roman"/>
              </a:rPr>
              <a:t>Integrative Health Cen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3581280" y="990720"/>
            <a:ext cx="2210040" cy="16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Break Isol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Build Commun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 Box 17"/>
          <p:cNvSpPr/>
          <p:nvPr/>
        </p:nvSpPr>
        <p:spPr>
          <a:xfrm>
            <a:off x="5867280" y="137160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nformation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Edu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18"/>
          <p:cNvSpPr/>
          <p:nvPr/>
        </p:nvSpPr>
        <p:spPr>
          <a:xfrm>
            <a:off x="1219320" y="13716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Empower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19"/>
          <p:cNvSpPr/>
          <p:nvPr/>
        </p:nvSpPr>
        <p:spPr>
          <a:xfrm>
            <a:off x="6095880" y="31240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AM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Modali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20"/>
          <p:cNvSpPr/>
          <p:nvPr/>
        </p:nvSpPr>
        <p:spPr>
          <a:xfrm>
            <a:off x="4800600" y="5181480"/>
            <a:ext cx="312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ntegration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/Collabo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Oval 12"/>
          <p:cNvSpPr/>
          <p:nvPr/>
        </p:nvSpPr>
        <p:spPr>
          <a:xfrm>
            <a:off x="3581280" y="2895480"/>
            <a:ext cx="2210040" cy="1524240"/>
          </a:xfrm>
          <a:prstGeom prst="ellipse">
            <a:avLst/>
          </a:prstGeom>
          <a:noFill/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22"/>
          <p:cNvSpPr/>
          <p:nvPr/>
        </p:nvSpPr>
        <p:spPr>
          <a:xfrm>
            <a:off x="1905120" y="51814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Evalu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Line 18"/>
          <p:cNvSpPr/>
          <p:nvPr/>
        </p:nvSpPr>
        <p:spPr>
          <a:xfrm>
            <a:off x="2971800" y="1143000"/>
            <a:ext cx="1219320" cy="1828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Line 19"/>
          <p:cNvSpPr/>
          <p:nvPr/>
        </p:nvSpPr>
        <p:spPr>
          <a:xfrm flipV="1">
            <a:off x="5105520" y="1143000"/>
            <a:ext cx="990360" cy="1828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Line 20"/>
          <p:cNvSpPr/>
          <p:nvPr/>
        </p:nvSpPr>
        <p:spPr>
          <a:xfrm flipV="1">
            <a:off x="5791320" y="2438280"/>
            <a:ext cx="2743200" cy="9144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Line 21"/>
          <p:cNvSpPr/>
          <p:nvPr/>
        </p:nvSpPr>
        <p:spPr>
          <a:xfrm>
            <a:off x="5638680" y="4267080"/>
            <a:ext cx="3276720" cy="12193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Line 23"/>
          <p:cNvSpPr/>
          <p:nvPr/>
        </p:nvSpPr>
        <p:spPr>
          <a:xfrm flipH="1" flipV="1">
            <a:off x="609120" y="2590920"/>
            <a:ext cx="3048120" cy="838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Straight Connector 17"/>
          <p:cNvSpPr/>
          <p:nvPr/>
        </p:nvSpPr>
        <p:spPr>
          <a:xfrm flipH="1">
            <a:off x="380520" y="4191120"/>
            <a:ext cx="3505320" cy="1828800"/>
          </a:xfrm>
          <a:prstGeom prst="line">
            <a:avLst/>
          </a:prstGeom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Box 21"/>
          <p:cNvSpPr/>
          <p:nvPr/>
        </p:nvSpPr>
        <p:spPr>
          <a:xfrm>
            <a:off x="838080" y="30481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raining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Box 19"/>
          <p:cNvSpPr/>
          <p:nvPr/>
        </p:nvSpPr>
        <p:spPr>
          <a:xfrm>
            <a:off x="2057400" y="1522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Mission of Integrative Health Cen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18"/>
          <p:cNvSpPr/>
          <p:nvPr/>
        </p:nvSpPr>
        <p:spPr>
          <a:xfrm>
            <a:off x="1447920" y="2085840"/>
            <a:ext cx="243828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elf-Efficac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19"/>
          <p:cNvSpPr/>
          <p:nvPr/>
        </p:nvSpPr>
        <p:spPr>
          <a:xfrm>
            <a:off x="5867280" y="2057400"/>
            <a:ext cx="259092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elf-Healthca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ommunity Resour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20"/>
          <p:cNvSpPr/>
          <p:nvPr/>
        </p:nvSpPr>
        <p:spPr>
          <a:xfrm>
            <a:off x="6248520" y="3578400"/>
            <a:ext cx="281916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ecrease reliance on pharm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reatments/Self-Practice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How to use/How to evalua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21"/>
          <p:cNvSpPr/>
          <p:nvPr/>
        </p:nvSpPr>
        <p:spPr>
          <a:xfrm>
            <a:off x="5334120" y="5638680"/>
            <a:ext cx="228600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atient - Provi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FM  - PH  - SA - M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HW - Commun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22"/>
          <p:cNvSpPr/>
          <p:nvPr/>
        </p:nvSpPr>
        <p:spPr>
          <a:xfrm>
            <a:off x="1143000" y="5562720"/>
            <a:ext cx="3733920" cy="12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ll service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roductiv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Efficac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ultural Sensitiv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23"/>
          <p:cNvSpPr/>
          <p:nvPr/>
        </p:nvSpPr>
        <p:spPr>
          <a:xfrm>
            <a:off x="838080" y="3505320"/>
            <a:ext cx="22100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Our staff, public hospitals, community clinics/agenci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Groups &amp; CAM Integration in HC for Underserv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Line 24"/>
          <p:cNvSpPr/>
          <p:nvPr/>
        </p:nvSpPr>
        <p:spPr>
          <a:xfrm>
            <a:off x="4648320" y="4419720"/>
            <a:ext cx="0" cy="2438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25"/>
          <p:cNvSpPr/>
          <p:nvPr/>
        </p:nvSpPr>
        <p:spPr>
          <a:xfrm>
            <a:off x="3581280" y="1676520"/>
            <a:ext cx="190512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ecrease Str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ncrease Suppo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Integrative Health Center Servic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080" y="1860480"/>
            <a:ext cx="2514600" cy="6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Training Center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Groups / CAM integr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3733920" y="990720"/>
            <a:ext cx="21333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36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Grou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336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edical Visits / Class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6019920" y="2209680"/>
            <a:ext cx="2971800" cy="26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IH Clin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:1 provider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hronic Illness Peer Support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ounselo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457200" y="3753000"/>
            <a:ext cx="2514600" cy="17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Behavioral Health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Group and 1:1  Treat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nnovative / Effecti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rapi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Times New Roman"/>
              <a:buChar char="•"/>
              <a:tabLst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429000" y="4572000"/>
            <a:ext cx="3276720" cy="19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00"/>
                </a:solidFill>
                <a:uFillTx/>
                <a:latin typeface="Times New Roman"/>
              </a:rPr>
              <a:t>CAM &amp; Other Services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cupunctur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assage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hiropractic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Gym Memberships / Pool U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3733920" y="2895480"/>
            <a:ext cx="16002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bff"/>
                </a:solidFill>
                <a:latin typeface="Times New Roman"/>
              </a:rPr>
              <a:t>Integrative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b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ccebff"/>
                </a:solidFill>
                <a:latin typeface="Times New Roman"/>
              </a:rPr>
              <a:t>Heal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b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ccebff"/>
                </a:solidFill>
                <a:latin typeface="Times New Roman"/>
              </a:rPr>
              <a:t>Cen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22"/>
          <p:cNvSpPr/>
          <p:nvPr/>
        </p:nvSpPr>
        <p:spPr>
          <a:xfrm flipV="1" rot="10800000">
            <a:off x="3581280" y="1766880"/>
            <a:ext cx="228600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Adult 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H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Promotoras / H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23"/>
          <p:cNvSpPr/>
          <p:nvPr/>
        </p:nvSpPr>
        <p:spPr>
          <a:xfrm>
            <a:off x="762120" y="49528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Dr. Ferm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28"/>
          <p:cNvSpPr/>
          <p:nvPr/>
        </p:nvSpPr>
        <p:spPr>
          <a:xfrm>
            <a:off x="4572000" y="61722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Gyms / Parks and Rec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Line 15"/>
          <p:cNvSpPr/>
          <p:nvPr/>
        </p:nvSpPr>
        <p:spPr>
          <a:xfrm>
            <a:off x="2362320" y="1371600"/>
            <a:ext cx="1447560" cy="16002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Line 17"/>
          <p:cNvSpPr/>
          <p:nvPr/>
        </p:nvSpPr>
        <p:spPr>
          <a:xfrm>
            <a:off x="5410080" y="4114800"/>
            <a:ext cx="3124440" cy="1981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Line 18"/>
          <p:cNvSpPr/>
          <p:nvPr/>
        </p:nvSpPr>
        <p:spPr>
          <a:xfrm flipH="1">
            <a:off x="1980720" y="4267080"/>
            <a:ext cx="1676520" cy="22860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Line 20"/>
          <p:cNvSpPr/>
          <p:nvPr/>
        </p:nvSpPr>
        <p:spPr>
          <a:xfrm flipH="1" flipV="1">
            <a:off x="456840" y="3352320"/>
            <a:ext cx="3048120" cy="228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Oval 21"/>
          <p:cNvSpPr/>
          <p:nvPr/>
        </p:nvSpPr>
        <p:spPr>
          <a:xfrm>
            <a:off x="3505320" y="2743200"/>
            <a:ext cx="1981080" cy="182880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Line 30"/>
          <p:cNvSpPr/>
          <p:nvPr/>
        </p:nvSpPr>
        <p:spPr>
          <a:xfrm flipV="1">
            <a:off x="5257800" y="1371240"/>
            <a:ext cx="1447920" cy="16765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26"/>
          <p:cNvSpPr/>
          <p:nvPr/>
        </p:nvSpPr>
        <p:spPr>
          <a:xfrm>
            <a:off x="5562720" y="36576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Promotoras / H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HW / Senior Peer Counsel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Box 24"/>
          <p:cNvSpPr/>
          <p:nvPr/>
        </p:nvSpPr>
        <p:spPr>
          <a:xfrm>
            <a:off x="457200" y="266688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CRMC Providers / Staff 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             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esident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1046"/>
          <p:cNvSpPr/>
          <p:nvPr/>
        </p:nvSpPr>
        <p:spPr>
          <a:xfrm>
            <a:off x="6781680" y="28954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CRMC Provid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1048"/>
          <p:cNvSpPr/>
          <p:nvPr/>
        </p:nvSpPr>
        <p:spPr>
          <a:xfrm>
            <a:off x="5029200" y="51055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CRMC Provid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22"/>
          <p:cNvSpPr/>
          <p:nvPr/>
        </p:nvSpPr>
        <p:spPr>
          <a:xfrm>
            <a:off x="5105520" y="5410080"/>
            <a:ext cx="1981080" cy="9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Inter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ontrac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01:13:37Z</dcterms:created>
  <dc:creator>Karen Burt</dc:creator>
  <dc:description/>
  <dc:language>en-US</dc:language>
  <cp:lastModifiedBy>HCMARTINEZ</cp:lastModifiedBy>
  <dcterms:modified xsi:type="dcterms:W3CDTF">2009-07-21T18:37:57Z</dcterms:modified>
  <cp:revision>134</cp:revision>
  <dc:subject/>
  <dc:title>Integrative Health Center Proposal</dc:title>
</cp:coreProperties>
</file>