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.jpeg" ContentType="image/jpeg"/>
  <Override PartName="/ppt/media/image22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26.wmf" ContentType="image/x-wmf"/>
  <Override PartName="/ppt/media/image15.jpeg" ContentType="image/jpeg"/>
  <Override PartName="/ppt/media/image14.png" ContentType="image/png"/>
  <Override PartName="/ppt/media/image2.jpeg" ContentType="image/jpeg"/>
  <Override PartName="/ppt/media/image23.jpeg" ContentType="image/jpeg"/>
  <Override PartName="/ppt/media/image2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A9BA-3B0E-46E8-9932-944432F51C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4D57-1C2F-4566-90C2-89A7EE692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F2BB-9075-45EE-B383-D502871384EF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E224-4433-4D00-9C53-CB53B9AA941A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7FCF-9B89-4A36-8A02-25E981A7D4A6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45D9-C523-4E28-BF5B-207B67E6E3F3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A0B3-B167-4D3E-9E5C-36A261C04BF8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F9C5-98B2-42E7-B404-BBDAB4186C49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CB9E-1A2C-4514-803F-B09905AA492C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6394-EF8B-45D7-834B-560526A93191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2DD3-57A5-4B47-98CD-BB5B9112748F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D72E-0567-4D20-83B8-913A9AE8513D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9D11-0269-4142-AC13-B42E1FA52FAE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4443-D5AE-4D7F-8645-32F8F19E6D2A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12A5-1062-4C03-A192-3EA602C282ED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F874-C014-464A-93D4-7FC91F446567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C6B8-0ED5-4269-930D-2D5B3D39AD4D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BB90-D1CE-433D-AC30-E235114EAA8A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E017-251C-4774-B218-83F9BF1B8E3F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48BA-E5A2-4116-A944-769BA09B03A7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895B-37C8-4851-A32B-43F3DE6FAFBC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01F7-3BEC-47C1-903E-7DCBEC6C2B47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900C-E32C-4D63-A5C2-2C531A7ECE4A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11CB-5D50-452C-AEBD-C26729F39C2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AED0-56A5-4939-AB7B-0DC70737F085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EF94-65BD-4860-A554-C3611206E722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5C1D-2904-4997-8201-1BF11CF7F7E8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1456-50DD-44AC-B3F6-9C14EB20EA8A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EC38-3FF7-4410-A5BF-0937D2EF3E55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174D-216B-463F-A108-7B5CB8DC0B4D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0EAC-0DBD-4F6F-9A04-80EF90CFA3E9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F315-6C27-411D-9BD3-657AD1175A6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AC87-D5F1-48CC-AF63-E197425D1758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DA6F-FF98-47BA-90B9-181B4C229276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00FA-75AF-40D8-95DE-2293D8EC97A8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BEED-F3FE-4A5F-94CD-F626C1757972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3689-8A44-466F-9D52-DF6138B7C3F0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CF90-2498-4EB1-A4F7-6BB039186B4D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6B11-C144-49AE-B924-E1E4D00BA276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21E3-E411-4A39-8F99-058233D18025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5980-EE1C-4EEB-A6F2-D940AAC9127A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F7AD-CBCF-47EF-B6C3-320D9F1B98A3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E9EC-ECB1-4334-B3FA-7C39D0A0CDE7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D0DD-6E02-4D42-9837-5F7200475F60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FB49-9FC1-4855-8F16-DBEBE9EC30DE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7641-082B-4AB9-99E4-F7312D4E4693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E2BF-13B0-42A9-B412-D15B51F4522C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D333-E2E3-476C-B05C-35A59AD13AB1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4633-3F08-4821-926C-D7AB342D1B62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CE9D-90D3-45C6-A8E3-35D06764613D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7516-C615-4848-89CD-1E70F0593EC8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692A-EFFF-4325-9FA0-EDD24F07CC6C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0BBC-1621-447C-B658-E7C5AA4EA6C0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179F-71BB-4A0C-81E3-DBA2AE553F8A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EE68-079C-4522-B851-FEEA6779CB6B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582E-E7E7-4A54-BD95-7D9DBEA366DE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9EA4-CE21-47E2-BA85-2470C371E527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6D90-4002-4A60-83DE-07472C1F860A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0676-D46B-49EA-A870-042FD65F0E63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CBA2-4DAE-4517-AC68-DD7590DA500D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9A4A-8248-414E-9262-FE79154E4091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D94F-44E4-4409-8CC4-A580A51C438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FBE9-7520-47FC-90E6-1F6CDB6C486B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E751-A37F-4A3D-8BEB-CBDBF77AD4FB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8425-E158-4922-99EB-EB9E52FB3C00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28FD-5AE5-42D4-AAF6-8E3C162DC47E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9493-03A9-4680-909A-1A9B8D81E20F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61FC-2F99-406C-82EE-C67370F7EB11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0635-CD32-4727-B676-89FAF7E28CA8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CC17-EDDF-4A9C-B831-EBEC0661151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9C58-7DD2-4C21-BAC8-8F9DCF8E599B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3E65-AD3E-4404-B778-C6051D95E667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A684-A6E2-4606-945E-ACEC8DD1CBA9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9BEF-2E1D-4DA0-A59C-FD506A49B3AD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0A9E-07E3-49BB-B5FD-46D2CDFB7789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1BC6-1AF0-41A2-B06A-E15B2094CE63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5D87-C102-49EC-94D6-53BE9151A436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8DF9-DFEE-48A5-9809-D62613F448A5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338C-9DC0-48DF-9965-71884518C8C4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F108-7EDF-4897-97AB-4531F582FC0C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D8B0-A0AB-4999-AE8F-3016419CBB24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7048-8670-4A87-A914-01178F569A2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1170-BC23-403E-B619-2F8F619CA989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910C-4C56-4FBC-AA14-9631B4316FF0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B6FC-E3D4-456C-84ED-3FA8B0C0ECC5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1C65-2361-42A5-A3B0-533178EFE501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6BBF-2EA9-4572-B6D9-96D9E0367201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0B06-B533-4A08-9771-87B3DF07E3D3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507E-CC93-49E1-9447-1A38B18D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8E4C-2B1F-4986-8169-1510E245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549-499E-4808-8FE5-FA838482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3B26-E5CD-482F-B705-C022E52F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EBAD-090D-40E5-B889-F07397BB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2AD8-BAFA-474D-8BFC-F82208C1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055E-586E-46BF-BFA9-68756459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B566-D500-4277-8F4B-B9474AFF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C0EF-2A98-4174-8776-A18BCCE8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457200"/>
            <a:ext cx="60958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FDC9-BF74-4671-BDF5-39195AE8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B9B2-37B1-46FF-BEDD-92B5F91B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7904-FB2A-4F91-A7BC-2DAEB8C0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3F0E-71A4-4C3C-94F2-A5F0F73A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85BE-19A5-4B92-89E4-8F05BE1B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3858-9DBA-4D46-8A0A-4677C2B7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E0D5-9D26-4089-8FA5-99CD120A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3695-A655-4A9D-B0E7-BA94700B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7F13-278F-48B4-A656-0D199B61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5CB5-F18B-4723-A88B-9EBD926F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689-F188-428B-A32A-B7F338EF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457200"/>
            <a:ext cx="60958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2F7-B47B-4819-8646-21EB38D9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BFFD-77EE-4116-A5CD-E8E12410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DF80-9F8E-4A30-A11A-29D6C074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4E5D-1406-42CF-8B91-8475CA10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8120"/>
              <a:gd name="textAreaBottom" fmla="*/ 6018480 h 6018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3EAD-8913-4FF0-BA07-FEA81E2518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8120"/>
              <a:gd name="textAreaBottom" fmla="*/ 6018480 h 6018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EE61-0D21-483E-9D61-C424DB06D2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4640" y="22824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"/>
              </a:rPr>
              <a:t>Trauma Overview</a:t>
            </a:r>
            <a:endParaRPr b="1" lang="en-US" sz="6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14800" y="1752480"/>
            <a:ext cx="4648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avid B. Reedy, M.D., FACEP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ntra Costa Regional Medical       Cente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ssistant Clinical Professor UCSF/SFGH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038480" y="220968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05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XR-widened mediastinu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2895480" y="2075040"/>
            <a:ext cx="533412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ortic injur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80-90% of patients with thoracic aortic rupture die in the pre-hospital setting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hose who survive may have minimal initial symptom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XR may be first clu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he surgeon who should attempt to suture a wound of the heart would lose the respect of his surgical colleagues” - Theodore Bilroth, 1882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ndications 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enetrating thoracic traumatic arrest with previously witnessed cardiac activit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enetrating thoracic unresponsive hypotens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096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14240" y="13716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85800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ontraindication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Blunt thoracic injuries with no witnessed cardiac activit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ultiple blunt trau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evere head injur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ACLS algorithms do NOT apply to traumatic arrest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FAST Exa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514512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6880" y="18288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ocused Assessment with Sonography for Trauma (FAST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Limited ultrasound exam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Directed solely at identifying the presence of free intraperitoneal or pericardial fluid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Free fluid is usually due to hemorrhage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Helps determine the need for OR, CT, or angiography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is an injury caused by a physical force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tor vehicle collisio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all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un sho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tabb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ur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lunt assaul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AST examines four areas for free flui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140" name="Object 7"/>
          <p:cNvGraphicFramePr/>
          <p:nvPr/>
        </p:nvGraphicFramePr>
        <p:xfrm>
          <a:off x="3809880" y="2847960"/>
          <a:ext cx="4343400" cy="40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847960"/>
                    <a:ext cx="434340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3" name="Picture 9" descr="GelOnProbe"/>
          <p:cNvPicPr/>
          <p:nvPr/>
        </p:nvPicPr>
        <p:blipFill>
          <a:blip r:embed="rId1"/>
          <a:stretch/>
        </p:blipFill>
        <p:spPr>
          <a:xfrm>
            <a:off x="3048120" y="2819520"/>
            <a:ext cx="6095880" cy="38862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5715000" y="1295280"/>
            <a:ext cx="297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Low Frequency Prob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2.5 - 5.0 MHz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issue Penetr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609480" y="228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rauma Ultrasonography 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051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ihepatic and hepato-rena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495324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601956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1" name="Picture 4" descr="03050G10z"/>
          <p:cNvPicPr/>
          <p:nvPr/>
        </p:nvPicPr>
        <p:blipFill>
          <a:blip r:embed="rId1"/>
          <a:stretch/>
        </p:blipFill>
        <p:spPr>
          <a:xfrm>
            <a:off x="2971800" y="2057400"/>
            <a:ext cx="57387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19160" y="16761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4" name="Picture 4" descr="03050G10ZL"/>
          <p:cNvPicPr/>
          <p:nvPr/>
        </p:nvPicPr>
        <p:blipFill>
          <a:blip r:embed="rId1"/>
          <a:stretch/>
        </p:blipFill>
        <p:spPr>
          <a:xfrm>
            <a:off x="3124080" y="1905120"/>
            <a:ext cx="5738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7" name="Picture 4" descr="03080G10z"/>
          <p:cNvPicPr/>
          <p:nvPr/>
        </p:nvPicPr>
        <p:blipFill>
          <a:blip r:embed="rId1"/>
          <a:stretch/>
        </p:blipFill>
        <p:spPr>
          <a:xfrm>
            <a:off x="3048120" y="2057400"/>
            <a:ext cx="5738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0" name="Picture 4" descr="03080G10ZL"/>
          <p:cNvPicPr/>
          <p:nvPr/>
        </p:nvPicPr>
        <p:blipFill>
          <a:blip r:embed="rId1"/>
          <a:stretch/>
        </p:blipFill>
        <p:spPr>
          <a:xfrm>
            <a:off x="2971800" y="2057400"/>
            <a:ext cx="5738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pleno-rena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6" name="Picture 4" descr="03325G30ZL"/>
          <p:cNvPicPr/>
          <p:nvPr/>
        </p:nvPicPr>
        <p:blipFill>
          <a:blip r:embed="rId1"/>
          <a:stretch/>
        </p:blipFill>
        <p:spPr>
          <a:xfrm>
            <a:off x="2971800" y="1676520"/>
            <a:ext cx="5738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66880" y="1676160"/>
            <a:ext cx="609624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9" name="Picture 4" descr="03380G10ZL"/>
          <p:cNvPicPr/>
          <p:nvPr/>
        </p:nvPicPr>
        <p:blipFill>
          <a:blip r:embed="rId1"/>
          <a:stretch/>
        </p:blipFill>
        <p:spPr>
          <a:xfrm>
            <a:off x="3124080" y="1905120"/>
            <a:ext cx="57387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42840" y="457200"/>
            <a:ext cx="6095880" cy="13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Advanced Trauma Life Suppor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merican College of Surgeo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ovides a framework for the management of the injured pati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tended to allow the single doctor in a rural hospital to assess and manage trauma patien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lvi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5" name="Picture 4" descr="03530G10ZL"/>
          <p:cNvPicPr/>
          <p:nvPr/>
        </p:nvPicPr>
        <p:blipFill>
          <a:blip r:embed="rId1"/>
          <a:stretch/>
        </p:blipFill>
        <p:spPr>
          <a:xfrm>
            <a:off x="3048120" y="2209680"/>
            <a:ext cx="57387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8" name="Picture 4" descr="03550G30ZL"/>
          <p:cNvPicPr/>
          <p:nvPr/>
        </p:nvPicPr>
        <p:blipFill>
          <a:blip r:embed="rId1"/>
          <a:stretch/>
        </p:blipFill>
        <p:spPr>
          <a:xfrm>
            <a:off x="3048120" y="2209680"/>
            <a:ext cx="57387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icardiu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541008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84" name="pericard effusion.mov" descr="Macintosh HD:Users:davidreedy:Desktop:Trauma US Video 2.1:pericard effusion.mov"/>
          <p:cNvPicPr/>
          <p:nvPr/>
        </p:nvPicPr>
        <p:blipFill>
          <a:blip r:embed="rId1"/>
          <a:stretch/>
        </p:blipFill>
        <p:spPr>
          <a:xfrm>
            <a:off x="3733920" y="2362320"/>
            <a:ext cx="44956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538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lunt Abdominal Traum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Not for bowel injury, solid organ injury, or retroperitoneal injury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Detection of free intraperitoneal or pericardial fluid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026" descr=""/>
          <p:cNvPicPr/>
          <p:nvPr/>
        </p:nvPicPr>
        <p:blipFill>
          <a:blip r:embed="rId1"/>
          <a:stretch/>
        </p:blipFill>
        <p:spPr>
          <a:xfrm>
            <a:off x="1395360" y="379440"/>
            <a:ext cx="63514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395360" y="379440"/>
            <a:ext cx="63514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19160" y="1522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742840" y="1371240"/>
            <a:ext cx="6095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Fast Exa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xtended Fast Exa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Anterior lung apices for pneumothorax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Lung bases for pleural fluid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564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191" name="Object 0"/>
          <p:cNvGraphicFramePr/>
          <p:nvPr/>
        </p:nvGraphicFramePr>
        <p:xfrm>
          <a:off x="3276720" y="2971800"/>
          <a:ext cx="38671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971800"/>
                    <a:ext cx="38671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Rectangle 9"/>
          <p:cNvSpPr/>
          <p:nvPr/>
        </p:nvSpPr>
        <p:spPr>
          <a:xfrm>
            <a:off x="4800600" y="3733920"/>
            <a:ext cx="7632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42840" y="-36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19160" y="1066680"/>
            <a:ext cx="609588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96" name="PTX normal.mov" descr="Macintosh HD:Users:davidreedy:Desktop:Trauma US Video 2.1:PTX normal.mov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945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ATLS Origins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ebraska, 1976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lane crash in a Nebraska field changed the face of trauma care throughout the worl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dical, EMS, and Nursing groups began to collate protocols for trauma managem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CS publishes ATLS in 1980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90560" y="1143000"/>
            <a:ext cx="609588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99" name="PTX positive.mov" descr="Macintosh HD:Users:davidreedy:Desktop:Trauma US Video 2.1:PTX positive.mov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4946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2819520" y="6094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                          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linician based ultrasound has changed the way trauma care is practiced and is rapidly becoming standard of car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Noninvasive, straightforward, relatively short training period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Multiple training courses exist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Focused exam, goal specific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90920" y="53352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ATLS 8th Edition, 2008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30 year anniversar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est evidence” based (i.e. spinal steroids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vised pediatric guidelin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isaster managem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he Knife and Gun Club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14800" y="1904760"/>
            <a:ext cx="35812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4149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819520" y="1839960"/>
            <a:ext cx="609588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irwa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Look for associated injurie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Remember c-spin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495680" y="3048120"/>
            <a:ext cx="1490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reath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Respiratory rat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Paradoxical mot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repitu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ubcutaneous air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Auscultat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28440" y="137160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XR-pneumothorax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Tracheal deviation, hypotension, hypoxemia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7116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ircul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Hypotens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Hypovolem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neumothorax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rdiac tamponad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ortic Injur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Blunt cardiac injur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rrhythmi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SR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0:14:08Z</dcterms:created>
  <dc:creator>dave</dc:creator>
  <dc:description/>
  <dc:language>en-US</dc:language>
  <cp:lastModifiedBy>HCMARTINEZ</cp:lastModifiedBy>
  <dcterms:modified xsi:type="dcterms:W3CDTF">2009-08-06T19:03:16Z</dcterms:modified>
  <cp:revision>45</cp:revision>
  <dc:subject/>
  <dc:title>Trauma Overview</dc:title>
</cp:coreProperties>
</file>