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.jpeg" ContentType="image/jpeg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6.wmf" ContentType="image/x-wmf"/>
  <Override PartName="/ppt/media/image15.jpeg" ContentType="image/jpeg"/>
  <Override PartName="/ppt/media/image14.png" ContentType="image/png"/>
  <Override PartName="/ppt/media/image2.jpeg" ContentType="image/jpeg"/>
  <Override PartName="/ppt/media/image23.jpeg" ContentType="image/jpeg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C1D2-8EDC-4867-8F00-1E9E5552C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27AB-EA17-4D0F-85A4-B64995109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3820-1562-43F7-9D30-8C4193173B31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D229-E7B4-45B5-B87F-3F414CFFE64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EB13-AB37-4192-B77D-63147DC7E81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B8D9-EBB1-4372-B55E-45037786DFE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9A65-749E-4342-AFAF-DA59B1A13C21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F98F-D9B4-41AA-9060-4692707ED6A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F78F-5076-4C80-AB4F-50E3D6312D27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287B-E20C-4289-A69B-DE5582FE250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3C5C-7D8C-4CE3-908B-69DC6FD4E62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C122-6D97-466E-BBA9-D4E12100A72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028B-6B34-4922-8E3B-4236DB3C69A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6D1D-FEB9-4660-9F7E-CE25060F894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9F7C-00B7-4E09-B81D-EA0190FC161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AB45-72BE-44C4-AB19-6921F8AAC77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5840-4833-4089-B582-788E6859EB42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9803-F2F0-44A2-B6BF-E4DEB20CFDD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7DF1-E10E-49E3-9CB0-167DBD354572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1FDA-19EC-4A6C-82C6-C3325126BFC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B016-C553-4374-B59F-F7BB32A7FA44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07EF-7E67-4C9E-9CEC-E4EA53D6DD7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F866-3F99-4467-BED1-E9670B99D1A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0402-832E-452B-B116-A95B2B63BCC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6874-FA57-461E-8D64-1FAF93D35B0E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52DD-146B-4DE1-BE90-5D6C830D8AA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3EB8-6850-47FB-896D-502F060E195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EF8B-CA12-42CD-9C17-94EA3289700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700C-FC78-4E99-BF0A-AF01D17D0BB7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BD23-5498-4DFF-9F86-82C9D5BC56B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28C2-C7F0-4E8A-B8E7-FAE2ADA764ED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EDF6-5C8E-49FD-9352-102205D1A1B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2642-CDAD-4E7B-B507-681D5FD92DB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A9B4-34D7-4D44-95AA-534398A3CD2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049B-6715-4061-B1C7-F505567636F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AC91-4EC2-40FC-AC00-17A648EB2C0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AFF6-2A81-4EA5-A373-BD2CA7C054FE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9FF5-0A04-4AF0-91AA-0A6846074CE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FE3A-42B4-4376-A6A4-AC79E0723644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BF97-AC89-498B-BCE8-45FA6D44A9F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F987-61CC-4565-890A-3397BA48C2F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ECA9-5645-4E6D-B9C2-5051221D15E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470E-6737-43F2-A66F-3921996E84E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729A-3799-41AA-A379-F9CBFEE8660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DFE2-CF19-42E1-BB02-83B1F5DD31A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D568-0FBD-41F4-98A2-076563C87A8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65B6-093F-4FA9-B921-A9594E2EEC2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60AF-E316-4E28-A4A8-57E54C840C9B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56C1-5E5F-46E7-895B-0C8A7F95964F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A343-9693-4CB7-AA0F-C5BDCA96B567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65A7-4BFE-4242-8E2A-2C4D5D3CA4C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E7FA-A43E-40F8-BEDE-944BE8284CE7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32DC-C677-4243-B574-4325B6121CA3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BC66-C423-42EA-8ED6-F3B4B852B936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1625-F835-4836-B6F3-829107CD96D0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D281-17A6-45B9-83E7-B353FB8E899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1EAF-6217-4709-A32E-D54FBF7D6457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C6C1-BF9E-498C-A16A-6D1A94B23618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2CA1-4912-4282-95F7-F36C39C0ED09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677D-880A-4228-BEF4-24E7758FDE27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7B17-A4E4-4578-B559-890273485CE1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C70E-302A-4513-88FA-A931DE22272D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3C32-5834-49C8-AB29-03A2388E0EA2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2BBD-9C4A-4F75-9286-81BB244282D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1FA7-C2CF-4895-975F-DFAAC03479B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0941-5782-42AB-B07F-D234006E5AB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E7A4-2C94-4B08-96BF-0FD82849E0DA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7DB8-3AC4-447C-9C62-53EDA5C8EA54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6BBC-43CD-4C80-B40B-34CCA0F3E83B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B7FB-6FAC-4F14-BC2C-D386B675EA93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C4ED-5944-4129-A535-DDD889506E67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7581-F6A8-4566-9C8F-368FD93AFD1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34F2-1CD1-43C8-AFFD-65DE2E19967E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6A96-9539-4BF6-90BB-DAA18E787D8C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AA9F-3B01-4467-ABE1-5CEE1A5B5748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62FC-8FAA-4BC5-947A-556DA50A7FB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B85D-024C-4E37-AE89-2D108EF4BA2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99D9-7661-42D7-BD7F-C593434496CF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98BC-04B5-4DAC-8894-270EE4AD0AAD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6959-C700-4291-BEA0-041B577323B9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4290-F5E5-47A3-B464-6D0462E4D8AD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6BEC-6686-4A86-A2E8-B9FD86B17A71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3190-13F0-413C-A833-F5CA92712942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5412-39B5-4E9E-B902-88573FFE5BEE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C2B2-A8B8-4730-BE6E-9C81EA5F9D06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7F89-0253-44E9-BB02-B00993F94BC0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0886-7A86-472A-8531-8507BF4CA3A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EDE6-968B-448F-BA63-52FDAB90B735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D1B-A250-47D5-833B-3480704E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667-2C20-4BCA-BF05-41161B97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746-1FBD-4791-9A61-B3B0348F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A7B-D2EC-435E-9C72-8DC0DA25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C37A-4EC3-4EC1-80A2-5147C0B2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3CEF-6066-461C-B47C-4FF02AF5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07D3-8F29-4469-95F7-D325D597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B24A-CE87-4126-BFFE-97F4355B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EEEB-6FAE-4925-A5BD-A273C7F9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457200"/>
            <a:ext cx="60958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AFB5-4813-44B8-AA2A-D7E1F08F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6627-394C-4EF5-B92E-4B90A59A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E7C-53C9-4FC6-AABF-106F7B95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8E7D-BE07-4A7E-9A2D-7DA9FCCB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CDEF-46F9-4F07-8A0F-015C443A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1EAF-38C4-42D0-9019-1AAA61C0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F825-7E52-4FB1-B6A0-0E864260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CD69-FB97-471E-BF45-81460621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4DB-2DA4-46AB-90EE-C1186A79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07D-9789-4B74-8913-400AAA38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91D-C265-44BC-B9DA-F7EACD01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457200"/>
            <a:ext cx="60958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F18-E689-4FB9-9B4E-5F1CD779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EB6-1CCA-453A-A52D-0A6F7DC7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B7D-A2AE-4599-82B3-287FC763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70C-1A85-480E-A012-B7B5B25F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4DFD-D53E-406A-A83D-30D2BBA032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C8B6-A9BD-404C-9854-05F9D6B7D1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4640" y="22824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"/>
              </a:rPr>
              <a:t>Trauma Overview</a:t>
            </a:r>
            <a:endParaRPr b="1" lang="en-US" sz="6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14800" y="1752480"/>
            <a:ext cx="4648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vid B. Reedy, M.D., FACEP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tra Costa Regional Medical       Cent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ssistant Clinical Professor UCSF/SFGH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038480" y="220968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XR-widened mediastinu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2895480" y="2075040"/>
            <a:ext cx="533412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ortic inju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80-90% of patients with thoracic aortic rupture die in the pre-hospital setting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ose who survive may have minimal initial symptom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XR may be first clu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he surgeon who should attempt to suture a wound of the heart would lose the respect of his surgical colleagues” - Theodore Bilroth, 1882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ndications 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netrating thoracic traumatic arrest with previously witnessed cardiac activ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netrating thoracic unresponsive hypoten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096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4240" y="13716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85800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ontraindication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lunt thoracic injuries with no witnessed cardiac activ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ultiple blunt trau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vere head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Penetrating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mergency Department Thoracotom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CLS algorithms do NOT apply to traumatic arres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FAST Exa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514512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6880" y="18288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cused Assessment with Sonography for Trauma (FAST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imited ultrasound exam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Directed solely at identifying the presence of free intraperitoneal or pericardial fluid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Free fluid is usually due to hemorrhage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356400" indent="-137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Helps determine the need for OR, CT, or angiography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is an injury caused by a physical force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tor vehicle collis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all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un sho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abb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ur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lunt assaul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AST examines four areas for free flui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40" name="Object 7"/>
          <p:cNvGraphicFramePr/>
          <p:nvPr/>
        </p:nvGraphicFramePr>
        <p:xfrm>
          <a:off x="3809880" y="2847960"/>
          <a:ext cx="434340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847960"/>
                    <a:ext cx="43434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3" name="Picture 9" descr="GelOnProbe"/>
          <p:cNvPicPr/>
          <p:nvPr/>
        </p:nvPicPr>
        <p:blipFill>
          <a:blip r:embed="rId1"/>
          <a:stretch/>
        </p:blipFill>
        <p:spPr>
          <a:xfrm>
            <a:off x="3048120" y="2819520"/>
            <a:ext cx="609588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5715000" y="1295280"/>
            <a:ext cx="29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ow Frequency Prob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2.5 - 5.0 MHz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issue Penetr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09480" y="228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rauma Ultrasonography 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051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hepatic and hepato-ren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49532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601956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1" name="Picture 4" descr="03050G10z"/>
          <p:cNvPicPr/>
          <p:nvPr/>
        </p:nvPicPr>
        <p:blipFill>
          <a:blip r:embed="rId1"/>
          <a:stretch/>
        </p:blipFill>
        <p:spPr>
          <a:xfrm>
            <a:off x="2971800" y="205740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4" name="Picture 4" descr="03050G10ZL"/>
          <p:cNvPicPr/>
          <p:nvPr/>
        </p:nvPicPr>
        <p:blipFill>
          <a:blip r:embed="rId1"/>
          <a:stretch/>
        </p:blipFill>
        <p:spPr>
          <a:xfrm>
            <a:off x="3124080" y="1905120"/>
            <a:ext cx="5738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7" name="Picture 4" descr="03080G10z"/>
          <p:cNvPicPr/>
          <p:nvPr/>
        </p:nvPicPr>
        <p:blipFill>
          <a:blip r:embed="rId1"/>
          <a:stretch/>
        </p:blipFill>
        <p:spPr>
          <a:xfrm>
            <a:off x="3048120" y="2057400"/>
            <a:ext cx="5738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0" name="Picture 4" descr="03080G10ZL"/>
          <p:cNvPicPr/>
          <p:nvPr/>
        </p:nvPicPr>
        <p:blipFill>
          <a:blip r:embed="rId1"/>
          <a:stretch/>
        </p:blipFill>
        <p:spPr>
          <a:xfrm>
            <a:off x="2971800" y="2057400"/>
            <a:ext cx="5738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pleno-ren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6" name="Picture 4" descr="03325G30ZL"/>
          <p:cNvPicPr/>
          <p:nvPr/>
        </p:nvPicPr>
        <p:blipFill>
          <a:blip r:embed="rId1"/>
          <a:stretch/>
        </p:blipFill>
        <p:spPr>
          <a:xfrm>
            <a:off x="2971800" y="1676520"/>
            <a:ext cx="5738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66880" y="1676160"/>
            <a:ext cx="609624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9" name="Picture 4" descr="03380G10ZL"/>
          <p:cNvPicPr/>
          <p:nvPr/>
        </p:nvPicPr>
        <p:blipFill>
          <a:blip r:embed="rId1"/>
          <a:stretch/>
        </p:blipFill>
        <p:spPr>
          <a:xfrm>
            <a:off x="3124080" y="190512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42840" y="457200"/>
            <a:ext cx="6095880" cy="13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dvanced Trauma Life Suppor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merican College of Surge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vides a framework for the management of the injured pati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tended to allow the single doctor in a rural hospital to assess and manage trauma patien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lv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5" name="Picture 4" descr="03530G10ZL"/>
          <p:cNvPicPr/>
          <p:nvPr/>
        </p:nvPicPr>
        <p:blipFill>
          <a:blip r:embed="rId1"/>
          <a:stretch/>
        </p:blipFill>
        <p:spPr>
          <a:xfrm>
            <a:off x="3048120" y="220968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78" name="Picture 4" descr="03550G30ZL"/>
          <p:cNvPicPr/>
          <p:nvPr/>
        </p:nvPicPr>
        <p:blipFill>
          <a:blip r:embed="rId1"/>
          <a:stretch/>
        </p:blipFill>
        <p:spPr>
          <a:xfrm>
            <a:off x="3048120" y="2209680"/>
            <a:ext cx="57387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icardiu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4100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84" name="pericard effusion.mov" descr="Macintosh HD:Users:davidreedy:Desktop:Trauma US Video 2.1:pericard effusion.mov"/>
          <p:cNvPicPr/>
          <p:nvPr/>
        </p:nvPicPr>
        <p:blipFill>
          <a:blip r:embed="rId1"/>
          <a:stretch/>
        </p:blipFill>
        <p:spPr>
          <a:xfrm>
            <a:off x="3733920" y="2362320"/>
            <a:ext cx="4495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538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lunt Abdominal Traum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Not for bowel injury, solid organ injury, or retroperitoneal injury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Detection of free intraperitoneal or pericardial flui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026" descr=""/>
          <p:cNvPicPr/>
          <p:nvPr/>
        </p:nvPicPr>
        <p:blipFill>
          <a:blip r:embed="rId1"/>
          <a:stretch/>
        </p:blipFill>
        <p:spPr>
          <a:xfrm>
            <a:off x="1395360" y="379440"/>
            <a:ext cx="63514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395360" y="379440"/>
            <a:ext cx="63514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19160" y="1522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742840" y="1371240"/>
            <a:ext cx="6095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Fast Exa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tended Fast Exa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Anterior lung apices for pneumothorax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Lung bases for pleural fluid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91" name="Object 0"/>
          <p:cNvGraphicFramePr/>
          <p:nvPr/>
        </p:nvGraphicFramePr>
        <p:xfrm>
          <a:off x="3276720" y="2971800"/>
          <a:ext cx="38671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971800"/>
                    <a:ext cx="3867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9"/>
          <p:cNvSpPr/>
          <p:nvPr/>
        </p:nvSpPr>
        <p:spPr>
          <a:xfrm>
            <a:off x="4800600" y="3733920"/>
            <a:ext cx="763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4284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19160" y="1066680"/>
            <a:ext cx="60958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6" name="PTX normal.mov" descr="Macintosh HD:Users:davidreedy:Desktop:Trauma US Video 2.1:PTX normal.mov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945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TLS Origins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ebraska, 1976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lane crash in a Nebraska field changed the face of trauma care throughout the worl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edical, EMS, and Nursing groups began to collate protocols for trauma managem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S publishes ATLS in 1980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90560" y="1143000"/>
            <a:ext cx="609588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9" name="PTX positive.mov" descr="Macintosh HD:Users:davidreedy:Desktop:Trauma US Video 2.1:PTX positive.mov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946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2819520" y="6094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0958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rauma Ultrasonography                          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linician based ultrasound has changed the way trauma care is practiced and is rapidly becoming standard of car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Noninvasive, straightforward, relatively short training perio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Multiple training courses exis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Focused exam, goal specific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90920" y="53352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TLS 8th Edition, 2008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0 year anniversa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est evidence” based (i.e. spinal steroids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vised pediatric guidelin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isaster managem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he Knife and Gun Club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14800" y="1904760"/>
            <a:ext cx="35812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4149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819520" y="1839960"/>
            <a:ext cx="60958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irwa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Look for associated injuri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member c-spin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495680" y="3048120"/>
            <a:ext cx="1490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Respiratory rat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Paradoxical mo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Crepitu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ubcutaneous air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Ausculta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440" y="137160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XR-pneumothorax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Tracheal deviation, hypotension, hypoxemi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116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Blunt Thoracic Trau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ircul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Hypotens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ypovolem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neumothorax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rdiac tampona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ortic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lunt cardiac inju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rrhythmi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S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0:14:08Z</dcterms:created>
  <dc:creator>dave</dc:creator>
  <dc:description/>
  <dc:language>en-US</dc:language>
  <cp:lastModifiedBy>HCMARTINEZ</cp:lastModifiedBy>
  <dcterms:modified xsi:type="dcterms:W3CDTF">2009-08-06T19:03:16Z</dcterms:modified>
  <cp:revision>45</cp:revision>
  <dc:subject/>
  <dc:title>Trauma Overview</dc:title>
</cp:coreProperties>
</file>