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.jpeg" ContentType="image/jpeg"/>
  <Override PartName="/ppt/media/image22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26.wmf" ContentType="image/x-wmf"/>
  <Override PartName="/ppt/media/image15.jpeg" ContentType="image/jpeg"/>
  <Override PartName="/ppt/media/image14.png" ContentType="image/png"/>
  <Override PartName="/ppt/media/image2.jpeg" ContentType="image/jpeg"/>
  <Override PartName="/ppt/media/image23.jpeg" ContentType="image/jpeg"/>
  <Override PartName="/ppt/media/image2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7605-834E-4F4E-BE78-92017A1654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79A3-169B-4758-ACDE-CEE2D0721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2354-5BCE-4073-A169-C7AE4B845178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6E37-343D-40B6-82C7-4C12456E0573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485C-370A-40D9-972F-B1D9F1548EB4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7AB4-D300-424A-B09C-3E5432EE96BC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6656-813F-440F-AC64-A9E25F56FD68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C431-1DAF-43B1-BFBA-0284370772F1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B550-F462-43E9-B03B-D52B42318B17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7962-D8CE-4AB4-917F-3395ED7A1554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88C8-44A3-4F7F-A125-5235D93ABBC5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C3AF-6229-4A31-A5DD-BB7BA9820858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61BD-844D-42D2-A0A2-694B3CEFE2C6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AD6C-CD11-4F81-9331-9531DD18FBED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B256-7587-4ED0-A79A-95C3CCA4E018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7359-EC7B-4714-85BF-5987BE2EDB8D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B389-45B1-4736-B3AF-9F5A27FDE669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D3B7-40D5-41FD-9C79-02D5DB1987EC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6CCA-F25F-47D6-A490-6331D0EEC1B0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12CF-E695-4F04-9392-575B4F9BF55F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49BB-008C-4BE8-8CA9-9B7DCDF4C2A2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1D09-0C49-4EAD-95C0-6CFFC898FF51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BA1E-236F-4D33-9170-C4FDEE125889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0A61-1F06-4D16-B593-53985E8757DD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3B9D-1596-4907-BBF0-790EDB159453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6FD9-D066-43A9-82D2-EEDF99FAD221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49F4-B07C-4155-B55D-84CDC406824B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410A-CFBA-422D-8935-4FB903167E92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F301-AC83-4F74-AB1E-3AE769ED9573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B94E-778C-4127-98A2-CFC24631E23B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8AFF-258A-4EE6-B99B-22505906B585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282F-30FD-4CBB-90CC-EBCCB6CAF707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722A-DAFC-4A52-87F5-B580CE43EF4E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D0E4-7A00-45D0-B95A-F7BE45A1281E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556E-714B-4054-A90E-049CEA37113B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A6ED-6628-4B8B-A331-D7D5CB8044E5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5E2F-D90A-42C0-B755-D719A37CC6C6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E8F2-D43F-41E1-98EA-F9B16ED6E852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E389-4E39-45E2-8436-3D396AF70F18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78FF-0FA4-46FD-A379-404DE6BD0939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A860-544F-4384-BBDD-B424AC18EC43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DD00-A478-4BA6-9887-9CD117AE9EE2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87B6-4B2E-4408-BA61-6C7866D73104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B786-CAB8-4347-AA40-1C89BE374D3A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EA25-59EE-41A9-A5E4-CCE0C30B92BE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5971-ED8E-487C-A650-F87887F67D6D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822C-E652-4071-86B2-D02764BCED55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32B3-ACD1-43A4-8B70-CB00D79B586D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8663-801F-48D7-B0AE-3C10822346FB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1B10-2568-409C-B1B1-E11BB1DA8AF0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DD1A-F1C3-432F-90B3-9D32884F3E95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AF99-ECBB-48B2-9FE5-7C18EE5455A0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F16B-9219-44EA-8528-4DEB5DA265E0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AF30-9E8C-4DA0-AC89-A52252DFB40C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047B-283F-45DE-B581-FC1DBBBA7722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B6ED-BBCA-4F48-BD93-20D6C8012293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ECC9-C365-4E0A-8DA0-B9CE6CA54015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5AA6-7F2D-430E-8D2E-F64BEBD487CB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BFEA-1B70-445A-B22E-CF550BBC900B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54B3-3F03-40BC-8C7F-7C8F4139F6C6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0504-A01C-4CFB-994A-A2E354E38AD5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B8B1-05F4-4676-85C9-E1FD0FCDC9D7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8783-CC02-4A6F-AF5B-0B59ACF0FEEA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C521-F2D4-49CE-A51D-454A35369159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B42C-F1B1-419F-852A-F50F860022FE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B26E-35C2-45A0-8CEA-F93436622FAD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98EC-8A55-4D6F-8433-450F53939144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5045-B414-488B-A29A-181851A7289E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EDB3-5DF5-40E9-A32D-A098168A6650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3A21-091B-419A-A086-D98A54F9530D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2E92-AD67-4A85-8B2C-2AFFB12A6D19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50FC-19DE-40F4-872E-B347A1C79585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344C-13D4-4740-9BE5-976DDE454D00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DC45-52F9-4C13-B1C9-BDBCE8798648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BF33-4658-46F1-AD5C-820C64DDC48D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02DF-3403-4EB1-B007-12F95D88E6CB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8F8E-2F74-4F61-B16D-CA12DDCD66B5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8493-596F-4537-AFC8-1B0F4956555F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79FC-3F69-4602-A52E-B66A7CB6D305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E483-D09A-49FC-B979-789C02CD376B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0EDE-6D92-4EA4-9175-827C7E7CD6E3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426D-35A6-4D82-A9B3-AAAB8A0F73DA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842F-D91B-4506-B99F-6A69B1DBA914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5099-DAE3-43C7-A465-9177855D7D24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528E-1C11-4181-85AB-CB7BB250B3D5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E0AB-E32D-4FC3-BE98-4AB1E6BD8254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CBD1-586D-43BE-9752-5C743ACE403D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2959-03B8-4B26-9768-60CF934CD467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E285-FA6C-459D-97FA-CBB267B5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44A5-2801-4CDC-B8E8-3183F1DF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322B-A57F-4DA8-9E1B-8D2BC7BA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E266-FD17-4027-8297-47138AC8E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1AB4-3B9E-43EF-9A62-0C001281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822A-BC76-4020-81AC-8F048C2F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2241-0A60-48B0-985F-2FF7D9B0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EEFD-B012-4297-B88C-FB99A4E7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3A7E-2CA5-4BBB-BFBA-9A9BC9F3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457200"/>
            <a:ext cx="60958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5507-BE0F-42F0-96E8-8CBA4E13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6423-EF02-4291-A97E-F8884AAE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4B9B-17D2-4442-BC42-7AE81909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48CC-E17E-4F85-9A86-8C32A1EC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6A70-BD34-4A80-A73E-63D58FD4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7FDD-49DA-48B2-9A9E-FBF9B6A8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4EFF-D936-44A3-9F7C-854BB63C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37BE-419B-42D5-B328-C049B619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14FD-3BE5-429F-9961-942A771E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4613-8EA0-4A3A-B993-AA349A42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7CF6-7D51-47B7-89A9-E00E9963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457200"/>
            <a:ext cx="60958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0D2E-C99D-4C11-9C24-6E1416C8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A45D-887F-4951-96DB-E40DCEC4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9D20-06DE-45CA-9F01-30B15EDA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4C92-44DF-4372-9E71-923DC293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18120"/>
              <a:gd name="textAreaBottom" fmla="*/ 6018480 h 6018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DB53-FF1B-4D8C-899C-67C8DB212A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5480" cy="60181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18120"/>
              <a:gd name="textAreaBottom" fmla="*/ 6018480 h 6018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0B8F-C814-4975-BEF8-7D762CCDA1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4640" y="22824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"/>
              </a:rPr>
              <a:t>Trauma Overview</a:t>
            </a:r>
            <a:endParaRPr b="1" lang="en-US" sz="6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14800" y="1752480"/>
            <a:ext cx="4648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avid B. Reedy, M.D., FACEP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ntra Costa Regional Medical       Cente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ssistant Clinical Professor UCSF/SFGH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038480" y="220968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05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XR-widened mediastinu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2895480" y="2075040"/>
            <a:ext cx="533412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ortic injur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80-90% of patients with thoracic aortic rupture die in the pre-hospital setting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hose who survive may have minimal initial symptom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CXR may be first clu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he surgeon who should attempt to suture a wound of the heart would lose the respect of his surgical colleagues” - Theodore Bilroth, 1882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ndications 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enetrating thoracic traumatic arrest with previously witnessed cardiac activit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enetrating thoracic unresponsive hypotens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096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14240" y="13716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85800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Contraindication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Blunt thoracic injuries with no witnessed cardiac activit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ultiple blunt trau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evere head injur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ACLS algorithms do NOT apply to traumatic arrest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FAST Exa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3352680" y="2590920"/>
            <a:ext cx="514512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66880" y="18288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8000"/>
          </a:bodyPr>
          <a:p>
            <a:pPr marL="164520" indent="-16452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ocused Assessment with Sonography for Trauma (FAST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356400" indent="-13716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Limited ultrasound exam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356400" indent="-13716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Directed solely at identifying the presence of free intraperitoneal or pericardial fluid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356400" indent="-13716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Free fluid is usually due to hemorrhage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356400" indent="-13716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Helps determine the need for OR, CT, or angiography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is an injury caused by a physical force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tor vehicle collisio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all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un sho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tabb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ur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lunt assaul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AST examines four areas for free flui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140" name="Object 7"/>
          <p:cNvGraphicFramePr/>
          <p:nvPr/>
        </p:nvGraphicFramePr>
        <p:xfrm>
          <a:off x="3809880" y="2847960"/>
          <a:ext cx="4343400" cy="40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847960"/>
                    <a:ext cx="434340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3" name="Picture 9" descr="GelOnProbe"/>
          <p:cNvPicPr/>
          <p:nvPr/>
        </p:nvPicPr>
        <p:blipFill>
          <a:blip r:embed="rId1"/>
          <a:stretch/>
        </p:blipFill>
        <p:spPr>
          <a:xfrm>
            <a:off x="3048120" y="2819520"/>
            <a:ext cx="6095880" cy="38862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5715000" y="1295280"/>
            <a:ext cx="297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Low Frequency Prob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2.5 - 5.0 MHz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issue Penetr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609480" y="228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rauma Ultrasonography 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051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rihepatic and hepato-rena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3352680" y="2590920"/>
            <a:ext cx="495324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19160" y="1828440"/>
            <a:ext cx="601956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1" name="Picture 4" descr="03050G10z"/>
          <p:cNvPicPr/>
          <p:nvPr/>
        </p:nvPicPr>
        <p:blipFill>
          <a:blip r:embed="rId1"/>
          <a:stretch/>
        </p:blipFill>
        <p:spPr>
          <a:xfrm>
            <a:off x="2971800" y="2057400"/>
            <a:ext cx="57387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19160" y="16761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4" name="Picture 4" descr="03050G10ZL"/>
          <p:cNvPicPr/>
          <p:nvPr/>
        </p:nvPicPr>
        <p:blipFill>
          <a:blip r:embed="rId1"/>
          <a:stretch/>
        </p:blipFill>
        <p:spPr>
          <a:xfrm>
            <a:off x="3124080" y="1905120"/>
            <a:ext cx="5738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7" name="Picture 4" descr="03080G10z"/>
          <p:cNvPicPr/>
          <p:nvPr/>
        </p:nvPicPr>
        <p:blipFill>
          <a:blip r:embed="rId1"/>
          <a:stretch/>
        </p:blipFill>
        <p:spPr>
          <a:xfrm>
            <a:off x="3048120" y="2057400"/>
            <a:ext cx="5738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0" name="Picture 4" descr="03080G10ZL"/>
          <p:cNvPicPr/>
          <p:nvPr/>
        </p:nvPicPr>
        <p:blipFill>
          <a:blip r:embed="rId1"/>
          <a:stretch/>
        </p:blipFill>
        <p:spPr>
          <a:xfrm>
            <a:off x="2971800" y="2057400"/>
            <a:ext cx="5738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pleno-rena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6" name="Picture 4" descr="03325G30ZL"/>
          <p:cNvPicPr/>
          <p:nvPr/>
        </p:nvPicPr>
        <p:blipFill>
          <a:blip r:embed="rId1"/>
          <a:stretch/>
        </p:blipFill>
        <p:spPr>
          <a:xfrm>
            <a:off x="2971800" y="1676520"/>
            <a:ext cx="5738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66880" y="1676160"/>
            <a:ext cx="609624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9" name="Picture 4" descr="03380G10ZL"/>
          <p:cNvPicPr/>
          <p:nvPr/>
        </p:nvPicPr>
        <p:blipFill>
          <a:blip r:embed="rId1"/>
          <a:stretch/>
        </p:blipFill>
        <p:spPr>
          <a:xfrm>
            <a:off x="3124080" y="1905120"/>
            <a:ext cx="57387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42840" y="457200"/>
            <a:ext cx="6095880" cy="13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Advanced Trauma Life Suppor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merican College of Surgeo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ovides a framework for the management of the injured patien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tended to allow the single doctor in a rural hospital to assess and manage trauma patien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lvi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75" name="Picture 4" descr="03530G10ZL"/>
          <p:cNvPicPr/>
          <p:nvPr/>
        </p:nvPicPr>
        <p:blipFill>
          <a:blip r:embed="rId1"/>
          <a:stretch/>
        </p:blipFill>
        <p:spPr>
          <a:xfrm>
            <a:off x="3048120" y="2209680"/>
            <a:ext cx="57387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78" name="Picture 4" descr="03550G30ZL"/>
          <p:cNvPicPr/>
          <p:nvPr/>
        </p:nvPicPr>
        <p:blipFill>
          <a:blip r:embed="rId1"/>
          <a:stretch/>
        </p:blipFill>
        <p:spPr>
          <a:xfrm>
            <a:off x="3048120" y="2209680"/>
            <a:ext cx="57387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ricardiu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541008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84" name="pericard effusion.mov" descr="Macintosh HD:Users:davidreedy:Desktop:Trauma US Video 2.1:pericard effusion.mov"/>
          <p:cNvPicPr/>
          <p:nvPr/>
        </p:nvPicPr>
        <p:blipFill>
          <a:blip r:embed="rId1"/>
          <a:stretch/>
        </p:blipFill>
        <p:spPr>
          <a:xfrm>
            <a:off x="3733920" y="2362320"/>
            <a:ext cx="44956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538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lunt Abdominal Traum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Not for bowel injury, solid organ injury, or retroperitoneal injury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Detection of free intraperitoneal or pericardial fluid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026" descr=""/>
          <p:cNvPicPr/>
          <p:nvPr/>
        </p:nvPicPr>
        <p:blipFill>
          <a:blip r:embed="rId1"/>
          <a:stretch/>
        </p:blipFill>
        <p:spPr>
          <a:xfrm>
            <a:off x="1395360" y="379440"/>
            <a:ext cx="63514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395360" y="379440"/>
            <a:ext cx="63514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19160" y="1522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742840" y="1371240"/>
            <a:ext cx="6095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Fast Exa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xtended Fast Exa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Anterior lung apices for pneumothorax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Lung bases for pleural fluid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564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191" name="Object 0"/>
          <p:cNvGraphicFramePr/>
          <p:nvPr/>
        </p:nvGraphicFramePr>
        <p:xfrm>
          <a:off x="3276720" y="2971800"/>
          <a:ext cx="38671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971800"/>
                    <a:ext cx="38671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Rectangle 9"/>
          <p:cNvSpPr/>
          <p:nvPr/>
        </p:nvSpPr>
        <p:spPr>
          <a:xfrm>
            <a:off x="4800600" y="3733920"/>
            <a:ext cx="7632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42840" y="-36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19160" y="1066680"/>
            <a:ext cx="609588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96" name="PTX normal.mov" descr="Macintosh HD:Users:davidreedy:Desktop:Trauma US Video 2.1:PTX normal.mov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945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ATLS Origins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ebraska, 1976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lane crash in a Nebraska field changed the face of trauma care throughout the worl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edical, EMS, and Nursing groups began to collate protocols for trauma managemen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CS publishes ATLS in 1980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90560" y="1143000"/>
            <a:ext cx="609588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99" name="PTX positive.mov" descr="Macintosh HD:Users:davidreedy:Desktop:Trauma US Video 2.1:PTX positive.mov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4946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2819520" y="6094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                          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Clinician based ultrasound has changed the way trauma care is practiced and is rapidly becoming standard of car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Noninvasive, straightforward, relatively short training period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Multiple training courses exist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Focused exam, goal specific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90920" y="533520"/>
            <a:ext cx="63244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ATLS 8th Edition, 2008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30 year anniversar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est evidence” based (i.e. spinal steroids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vised pediatric guidelin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isaster managemen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he Knife and Gun Club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14800" y="1904760"/>
            <a:ext cx="35812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3886200" y="1143000"/>
            <a:ext cx="4149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819520" y="1839960"/>
            <a:ext cx="609588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irwa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Look for associated injurie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Remember c-spin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495680" y="3048120"/>
            <a:ext cx="1490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reath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Respiratory rat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Paradoxical mot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Crepitu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ubcutaneous air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Auscultat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28440" y="137160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XR-pneumothorax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Tracheal deviation, hypotension, hypoxemia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7116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ircul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Hypotens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Hypovolemi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neumothorax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rdiac tamponad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ortic Injur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Blunt cardiac injur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rrhythmi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SR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0:14:08Z</dcterms:created>
  <dc:creator>dave</dc:creator>
  <dc:description/>
  <dc:language>en-US</dc:language>
  <cp:lastModifiedBy>HCMARTINEZ</cp:lastModifiedBy>
  <dcterms:modified xsi:type="dcterms:W3CDTF">2009-08-06T19:03:16Z</dcterms:modified>
  <cp:revision>45</cp:revision>
  <dc:subject/>
  <dc:title>Trauma Overview</dc:title>
</cp:coreProperties>
</file>