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7E33-7B10-43F9-AAFB-AD7BFBD0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370-5991-4EB5-A8AA-9941EDF5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8261-8B55-488D-88FF-6A5C6566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7C64-FF94-4477-8B08-62EB821E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511-9AE5-4048-86D7-8A57FC7D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3FFA-1569-44AE-9227-64028EA5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793-A3B7-4D4A-878A-402422C6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366-CF88-4F6A-803A-F8A1883E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9EFA-F933-41BC-9AB1-48968E90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95AA-188D-4E59-AECA-BF9F9537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EB7A-0916-4032-897F-806BDB00A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189-AF8E-49B6-B908-A583E032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8E1-E283-4FB5-A684-DE45F101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6CD8-A214-4CF8-B15E-420550ECD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F59-AAD8-43E6-8A3B-BFFB0ECA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6AA5-5E79-46CE-99B1-F7F300F9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4943-C7C7-49C8-8321-898E8ADF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DC1-00A6-4E09-B046-3199C0D9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A4D5-4EF7-4104-B24F-61F04BC9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1D29-BD53-42F6-93B0-61B3FD2D93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F926-B00B-4262-A5FC-10D4658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E4E0-6818-4A73-83B5-61640D0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8E9F-10B8-4124-98BE-2C43268ED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EB429-89EE-4FB7-BDBE-E0C7D49E6D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4106-5EF1-426F-ADD8-16D907B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5C239-EE5C-43EB-8C79-1CBEF839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A334-3094-4817-8BDC-7F9A5319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26BB5-A452-4D86-88AB-FBDC5706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06440-7555-4352-A68E-7D34830F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CC3E1-E6B0-4CDA-AFE5-BB07275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3CC8-30FD-43C1-8CFB-457EF1F2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5C8C0-8367-4312-A7A8-6BEAE7D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D4592-2341-4F99-A4D0-B76EB87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85823-C489-4E6E-9FF1-D0D686F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0769-77DE-4291-A319-7ED5260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18284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4073040"/>
            <a:ext cx="25272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78EE-9803-4F99-AEB9-DAC8B2C24E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C6B0-2535-4EF1-A868-A2C22AD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1B3A-29EA-4DE3-B6D4-445D822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C1EE-62AF-4156-873C-512A36F2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533160"/>
            <a:ext cx="78487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2EF4-2C94-4F4A-A95F-E45E1CA2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0439-AB72-43DC-95DE-2787D6CD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40730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7125-3224-4F4E-B0F9-F39A4E13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1828440"/>
            <a:ext cx="38300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73040"/>
            <a:ext cx="78487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EDAB-FB5C-4FF5-A2FD-3B32B845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T_background"/>
          <p:cNvPicPr/>
          <p:nvPr/>
        </p:nvPicPr>
        <p:blipFill>
          <a:blip r:embed="rId2"/>
          <a:srcRect l="5701" t="0" r="877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66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E12-2375-4AB1-A548-41C5C8A7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PT_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D8BD-098C-4712-97DE-79CDE11CA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19720" y="2130120"/>
            <a:ext cx="449568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971c"/>
                </a:solidFill>
                <a:latin typeface="Arial"/>
              </a:rPr>
              <a:t>Transitioning to Life After Residenc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dc3"/>
                </a:solidFill>
                <a:latin typeface="Arial"/>
              </a:rPr>
              <a:t>Presented by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dc3"/>
                </a:solidFill>
                <a:latin typeface="Arial"/>
              </a:rPr>
              <a:t>Lorna Linds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Medical Societ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Placement Service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istings Not Servi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st Be Membe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Job Open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List Of Physicians’ Names            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algun Gothic"/>
              </a:rPr>
              <a:t>(Some Provide Abbreviated CV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scover Opportunities &amp; Make Yourself Known Through Word Of Mou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ttending Physicians &amp; Former Resid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llied Health Professions And Pharmaceutical Representa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troductions Serve As Impli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rivate Placement Servic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gency Personnel Find &amp; Pursue Opportunities For Yo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taffed By Motivated Professio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ree – Fees Paid By Emplo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gwork Done For Yo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Evaluating Search Firm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How Long In Busin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Who Pays Fe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Geographic Coverage Ar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ypes Of Practices Represen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Guaranteed Confidentialit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an you talk with physicians previously placed by the fir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Real World Exper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verse Practice Set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Variety Of Lo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Schedule That Fits Your Lifesty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ool For Locating Practice Opportun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roadens Clinical Exp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verhead-Free In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Freedom &amp; Flex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Malpractice Insuran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ypes of Coverag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ims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ccurrenc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overage Limi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er Claim And Aggreg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Licensing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ates Have Different Rules And Regul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sts Diff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cessing Time Va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t Notarized Copies Of Important Docu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DEA Registra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llow Time For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st Office Cannot Forward Renewal Pack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No Grace Period For Renew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pires After Three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hoosing Your Pract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ne Of The Most Important Decisions Of Your Care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Never Too Soon To Gather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Over 50% Of Young Physicians Change Practices Within Two Years Of Trai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Sans"/>
              </a:rPr>
              <a:t>Know And Understand Your O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Needs Assessmen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Begin With Goals And Work Backw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Understa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Who You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How You Like To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yers Briggs Type Indicator T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ndispensable To Self-Analy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vailable For Self-Administration On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wo Levels Of Self-Examin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1 – Introsp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undamentals Of Who You Are And How You Like To Fun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 You Live to Work Or Work To Liv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Level 2 – External Facto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oes Your Job Allow You To Pursue Hobbies And Personal Interest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oney/Time-Off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earch/Time With Pati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hie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utonomy And Pow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dom And Secu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estige And Recogn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Tangible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on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Free Ti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ork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pecial Medical Intere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Personal Ne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pouse’s Expec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mands Of Practice vs. Demands Of Spo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He/She Satisfied With Loca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Family Ne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pecial 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lder C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nterests: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ligion – Education - Recre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Tools For Loca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Practice Opportuni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48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rect Mail Adverti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000" y="1828440"/>
            <a:ext cx="38480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rch Fir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ocum Ten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ociety/Residency Program Placement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acticeMa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Classifie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esigned To Generate Lea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Do Not Provide Actual Job Descrip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General Medical Journ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tate &amp; County Medical Society Periodical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"/>
              </a:rPr>
              <a:t>Specialty Clinical Public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ay Already Be Fil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Direct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apidly Growing Resou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obs Are Curr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ster Form Of Commun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Key To Success – Taking &amp; Sustaining Initi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ac143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egwork Re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58:01Z</dcterms:created>
  <dc:creator>Lorna Lindsey</dc:creator>
  <dc:description/>
  <dc:language>en-US</dc:language>
  <cp:lastModifiedBy>lthomas</cp:lastModifiedBy>
  <dcterms:modified xsi:type="dcterms:W3CDTF">2009-12-29T17:30:23Z</dcterms:modified>
  <cp:revision>7</cp:revision>
  <dc:subject/>
  <dc:title>Slide 1</dc:title>
</cp:coreProperties>
</file>