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9A43-EFE9-42C8-A9A8-5DFD0666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4FF7-A380-4BFA-8564-F2747311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D84-4706-45A3-AB1A-61BC98AA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1925-806D-45E8-8816-C455F1B7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C337-755B-440D-9222-7B531213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182A-BF89-4002-BE24-A56529E0A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51F-5317-4E33-972A-57764BD3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E370-0BAF-4563-A038-2B9EC6D4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830-4F73-44E0-8F7E-7AC8E5020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95D-5255-492D-B054-DE3ECF1F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A7A-0D46-4B21-BC10-7CFCA35F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0922-AE08-4CE0-B9B0-84184E66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8A53-034A-4862-8463-204BD02F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60B6-DE26-498C-92EE-F5A2BAB57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8C5-C9F9-47A0-92D6-6FE61309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967-BF0D-4C41-8216-3F034ADA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4953-50D4-4B22-AA6B-9B726E4D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C824-FF02-419B-9C37-6A6B8F76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0D48-30C7-408E-8F08-FD9DF04A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F93E-4245-42F5-BCEB-306E0ABD7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7967-4544-4E1C-860C-69B54D02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C610-0E0B-436C-A741-97FB76C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60BB-34D2-4389-83FA-1545C800D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25F56-EB9B-42D8-9256-AE923AC7EF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2AC1B-4B90-49C6-97AA-E435CE0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8BD2-E3A9-47A0-BCEB-7687F57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6EB6C-F1C0-4A31-B673-9E86F2F8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2940-E393-46C7-A44B-43E8C5E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0534-959A-40A0-9B2E-559800E4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F0FBD-8BA1-4DBF-9B52-884757A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FA60-495B-4D22-AC25-FB014A9E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7940F-F270-4A41-887E-D07841D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FC83B-127D-44BA-B4A5-E8F98D49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1717C-2D61-423F-BA09-AAAE6183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F6959-2CBC-4998-8DC9-8CF92219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F3938-6E41-44B2-991C-7BAF846B6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95D2-880F-4FF1-B975-156E6BA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A26E-CF58-40BF-9F26-2E5F1DDB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3CA2-5CB8-48F1-B30F-4C629A51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E981-E6FD-448E-B403-DD6260E5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4A57-A054-4489-A6E4-F66BD6E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3D47-26E9-4A0A-BFC6-99ED444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67EA-BA39-4E0D-8E25-58F4EC0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ckground"/>
          <p:cNvPicPr/>
          <p:nvPr/>
        </p:nvPicPr>
        <p:blipFill>
          <a:blip r:embed="rId2"/>
          <a:srcRect l="5701" t="0" r="877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BC27-036D-4780-8D93-12ED16ED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C16-C24F-453F-B279-E3034775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720" y="2130120"/>
            <a:ext cx="449568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971c"/>
                </a:solidFill>
                <a:latin typeface="Arial"/>
              </a:rPr>
              <a:t>Transitioning to Life After Residenc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dc3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dc3"/>
                </a:solidFill>
                <a:latin typeface="Arial"/>
              </a:rPr>
              <a:t>Lorna Linds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Medical Socie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Placement Servic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istings Not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st Be Memb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Job Open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Physicians’ Names           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(Some Provide Abbreviated CV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cover Opportunities &amp; Make Yourself Known Through Word Of Mou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ttending Physicians &amp; Former Resi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llied Health Professions And Pharmaceutical Representa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roductions Serve As Impli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rivate Placement Servic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gency Personnel Find &amp; Pursue Opportunities For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affed By Motivated Professio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ee – Fees Paid By Emplo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gwork Done For Yo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Evaluating Search Fi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ow Long In Busin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ho Pays Fe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eographic Coverage Ar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ypes Of Practices Represen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uaranteed Confidentialit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n you talk with physicians previously placed by the fir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al World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verse Practice Set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ety Of Lo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hedule That Fits Your Lifesty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ol For Locating Practice Opport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roadens Clinical Exp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head-Free In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reedom &amp; Flex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Malpractice Insur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ypes of Covera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ims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ccurr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overage Limi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 Claim And Aggreg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ates Have Different Rules And Regu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sts Diff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cessing Time Va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t Notarized Copies Of Important Doc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DEA Registra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llow Time For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st Office Cannot Forward Renewal Pac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No Grace Period For Renew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pires After Three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hoosing Your Pract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ne Of The Most Important Decisions Of Your Care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Never Too Soon To Gather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ver 50% Of Young Physicians Change Practices Within Two Years Of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Know And Understand Your O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egin With Goals And Work Backw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dersta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o You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You Like To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yers Briggs Type Indicator 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dispensable To Self-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vailable For Self-Administration O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wo Levels Of Self-Examin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1 – Introsp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undamentals Of Who You Are And How You Like To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 You Live to Work Or Work To Li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2 – External Fa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Your Job Allow You To Pursue Hobbies And Personal Interes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ney/Time-Of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earch/Time With Pati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utonomy And Pow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dom And Secu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estige And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ork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pecial Medical Inter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ersonal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pouse’s Expec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Of Practice vs. Demands Of Sp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/She Satisfied With Loc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amily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lder C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terests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ligion – Education - Recre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ools For Loc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Practice Opportuni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rect Mail Adverti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rch Fi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ety/Residency Program Placement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acticeMa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signed To Generate L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Do Not Provide Actual Job Descrip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General Medical Journ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tate &amp; County Medical Society Periodic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pecialty Clinical Public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y Already Be Fi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irect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pidly Growing Re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obs Are Curr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ster Form Of Commun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Key To Success – Taking &amp; Sustaining Initi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egwork Re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58:01Z</dcterms:created>
  <dc:creator>Lorna Lindsey</dc:creator>
  <dc:description/>
  <dc:language>en-US</dc:language>
  <cp:lastModifiedBy>lthomas</cp:lastModifiedBy>
  <dcterms:modified xsi:type="dcterms:W3CDTF">2009-12-29T17:30:23Z</dcterms:modified>
  <cp:revision>7</cp:revision>
  <dc:subject/>
  <dc:title>Slide 1</dc:title>
</cp:coreProperties>
</file>