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B265-6D40-4EC7-AEC9-FF226FC32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72B6-DED1-49DE-A189-AC71E9935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A8A1-398D-4A0A-8D48-28BF0B15A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E03B-B69C-4302-98D4-DF8F98C47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A5C7-ACD4-4F38-A30E-D574F5216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4DB0-507C-4DCC-A46C-FB492A689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7190-89DB-443F-B0AB-191CF01F5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E19A-BAEA-4C81-8725-4CCAD7D0B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F094-ABA8-473F-80C4-9549BAC1A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7B68-24EA-49CD-AF78-0D6FB597A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CDDF-912F-4297-B944-B3C52D946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F5F7-05D8-463D-A309-CC1A5F7A8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A13D-6868-4B98-99B0-6888FB074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B0F7-99A5-4414-A3E7-F10BF948F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153A-1B27-4969-97D9-0FA3F2C89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0995-2373-4EE2-88C9-2E1066D7A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409F-87CC-4410-8C0C-DC6F35CA9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011F-14C9-4944-9786-E225079A2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03D4-C918-4495-BAEA-5747CBC2A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CD4E5-64ED-4DBD-91E9-ABAF8E89A2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073040"/>
            <a:ext cx="78487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60F99-8A03-43F1-9A3D-6C04D5F9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860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0730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88600" y="40730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FF7A7-104F-4B70-8205-5D70092B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0600" y="18284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4520" y="18284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0730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0600" y="40730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4520" y="40730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C9E68-5E4B-4A65-8848-0CE623302C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FE379D-98B8-4E8E-8C48-288A877514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2867A-FB15-4853-A352-37475CB9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C0D2F-7940-4535-92CC-5236C732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300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88600" y="1828440"/>
            <a:ext cx="38300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5E1C4-888D-4CEA-A373-6173B0477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3DD4F4-5A06-47B3-A9C6-C5AEAD361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533160"/>
            <a:ext cx="78487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B939B6-A4EE-486D-BC49-AF2B29B18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88600" y="1828440"/>
            <a:ext cx="38300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680" y="40730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75AC0B-C2D6-46FE-9BCF-00D29AE1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FEA84-D19F-49BE-9A91-53BC6847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300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88600" y="40730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6170D2-183D-4EC4-8023-13B81A70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073040"/>
            <a:ext cx="78487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D3EC7A-6E1A-492A-92D4-EE3EDDE6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680" y="4073040"/>
            <a:ext cx="78487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D1986D-6F02-4841-9802-0A273C5A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8860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680" y="40730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88600" y="40730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4D9544-E5C8-46C7-B1DA-B4F2CF59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0600" y="18284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74520" y="18284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680" y="40730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20600" y="40730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74520" y="40730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94663-2FC3-42F5-8DE4-0B166F3A61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C0B34-E3C9-4243-8A0F-BD141B12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300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88600" y="1828440"/>
            <a:ext cx="38300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7FE85-8B3A-450F-9218-17F65B25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F300B-8264-45B6-B0C5-59D6F18A2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533160"/>
            <a:ext cx="78487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D6B47-0D39-4CE3-BF9F-91981C85D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88600" y="1828440"/>
            <a:ext cx="38300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0730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F885D-4927-4A27-9B8B-11E2A798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300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8860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88600" y="40730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3B720-808D-4AAB-90B3-FEDFF541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8860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073040"/>
            <a:ext cx="78487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FE357-31D6-4656-990A-F7EA4699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PT_background"/>
          <p:cNvPicPr/>
          <p:nvPr/>
        </p:nvPicPr>
        <p:blipFill>
          <a:blip r:embed="rId2"/>
          <a:srcRect l="5701" t="0" r="877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066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CCE4-2411-4B33-B17F-A9A8229C2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PPT_titl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066C-EE59-49C6-A8CF-A44D44EB1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19720" y="2130120"/>
            <a:ext cx="4495680" cy="137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971c"/>
                </a:solidFill>
                <a:latin typeface="Arial"/>
              </a:rPr>
              <a:t>Transitioning to Life After Residency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240" y="41148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dc3"/>
                </a:solidFill>
                <a:latin typeface="Arial"/>
              </a:rPr>
              <a:t>Presented by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dc3"/>
                </a:solidFill>
                <a:latin typeface="Arial"/>
              </a:rPr>
              <a:t>Lorna Lindse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"/>
              </a:rPr>
              <a:t>Medical Societ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Lucida Sans"/>
              </a:rPr>
              <a:t>Placement Services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Listings Not Servic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Must Be Member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Prov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lgun Gothic"/>
              </a:rPr>
              <a:t>List Of Job Opening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lgun Gothic"/>
              </a:rPr>
              <a:t>List Of Physicians’ Names             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lgun Gothic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Malgun Gothic"/>
              </a:rPr>
              <a:t>(Some Provide Abbreviated CV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Networking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Discover Opportunities &amp; Make Yourself Known Through Word Of Mout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Attending Physicians &amp; Former Resid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Allied Health Professions And Pharmaceutical Representativ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Introductions Serve As Impli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Private Placement Service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Agency Personnel Find &amp; Pursue Opportunities For You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taffed By Motivated Professiona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Free – Fees Paid By Employ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egwork Done For You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Evaluating Search Firm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48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How Long In Busines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Who Pays Fee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Geographic Coverage Area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7000" y="1828440"/>
            <a:ext cx="384804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ypes Of Practices Represented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Guaranteed Confidentiality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an you talk with physicians previously placed by the firm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Locum Tenen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48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Real World Experie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Diverse Practice Setting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Variety Of Loc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chedule That Fits Your Lifesty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67000" y="1828440"/>
            <a:ext cx="384804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ool For Locating Practice Opportunit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Broadens Clinical Expos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Overhead-Free Inco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Freedom &amp; Flexibil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Malpractice Insurance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Types of Coverag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laims Mad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Occurrenc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Coverage Limit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er Claim And Aggrega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Licensing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States Have Different Rules And Regula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Costs Diff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Processing Time Vari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Get Notarized Copies Of Important Documen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DEA Registration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Allow Time For Process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Post Office Cannot Forward Renewal Packe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No Grace Period For Renewa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Expires After Three Yea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Choosing Your Practice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Sans"/>
              </a:rPr>
              <a:t>One Of The Most Important Decisions Of Your Care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Sans"/>
              </a:rPr>
              <a:t>Never Too Soon To Gather Informa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Sans"/>
              </a:rPr>
              <a:t>Over 50% Of Young Physicians Change Practices Within Two Years Of Training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Sans"/>
              </a:rPr>
              <a:t>Know And Understand Your Option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Needs Assessment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Begin With Goals And Work Backwar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Understan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Who You A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How You Like To Fun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Myers Briggs Type Indicator Te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Indispensable To Self-Analys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Available For Self-Administration On Intern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Two Levels Of Self-Examinatio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Level 1 – Introspec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Fundamentals Of Who You Are And How You Like To Fun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o You Live to Work Or Work To Live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Level 2 – External Facto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oes Your Job Allow You To Pursue Hobbies And Personal Interest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oney/Time-Off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Research/Time With Pati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Intangible Need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Achieve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Succes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Competen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Autonomy And Pow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Freedom And Securi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Prestige And Recogni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Tangible Need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Mone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Free Tim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Work Environ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Special Medical Interes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Personal Need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Spouse’s Expect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emands Of Practice vs. Demands Of Spou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He/She Satisfied With Location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Family Nee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pecial Educ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lder Ca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Interests: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Religion – Education - Recre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Tools For Locating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Practice Opportuniti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48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lassifie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irect Mail Advertis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Network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7000" y="1828440"/>
            <a:ext cx="384804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arch Fir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ocum Tene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ociety/Residency Program Placement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racticeMatc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Classified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Designed To Generate Lea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"/>
              </a:rPr>
              <a:t>Do Not Provide Actual Job Descriptions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"/>
              </a:rPr>
              <a:t>General Medical Journals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"/>
              </a:rPr>
              <a:t>State &amp; County Medical Society Periodicals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"/>
              </a:rPr>
              <a:t>Specialty Clinical Publications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May Already Be Fill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Direct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Internet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Rapidly Growing Resour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Jobs Are Curr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aster Form Of Communic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Key To Success – Taking &amp; Sustaining Initiativ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Legwork Requir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20:58:01Z</dcterms:created>
  <dc:creator>Lorna Lindsey</dc:creator>
  <dc:description/>
  <dc:language>en-US</dc:language>
  <cp:lastModifiedBy>lthomas</cp:lastModifiedBy>
  <dcterms:modified xsi:type="dcterms:W3CDTF">2009-12-29T17:30:23Z</dcterms:modified>
  <cp:revision>7</cp:revision>
  <dc:subject/>
  <dc:title>Slide 1</dc:title>
</cp:coreProperties>
</file>