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879C-2912-4187-87BF-DD380D01A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B228-420B-4970-8F96-1E73C1C8A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8283-9619-4796-A335-5749E757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82EC-E50B-4E96-8EC9-F9D0F3615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289-E359-4220-B95F-150FE80C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8317-A324-4E5F-A94F-22A9642E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97B5-40FE-4BFB-8FBC-0541D047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C9F5-47A6-4529-98EF-FF36A92CF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73E0-A781-4DC2-86AF-EF769338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F851-46B5-479D-8FCC-B50D40BC6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1EBE-0C09-4A7D-B2C9-C163FF83D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2B65-9820-458B-8951-F8065BDC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FB51-5C34-4E15-AE58-5F33342C7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3DFF-F7CE-476D-A5F2-5665818A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A1D3-FE9B-4B51-AE41-3DCADBFC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FF4-14E2-4B48-A74C-3FBC52A5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DBFE-C56E-439B-B566-7E7ED675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ADB6-7E5A-48F6-B2FD-F043F5CC1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2D6D-E91D-4521-A37E-3C02446A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C697-4ABB-4D4C-B7D0-955DC84CE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BE7E-0ACE-4836-A784-1350CE3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48BC-7467-4BC3-AF95-22A7B57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B3E7-3D2C-40C3-B7B8-BD2DFB7452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D6F9A-7947-4ED6-A87E-E24593BD58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5B3AE-B8FD-46A0-9A3A-FB126E6F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D16AC-89CF-4030-A0BA-6F0966C1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51ED2-C20F-4077-A17A-DD06B8C7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87CB3-3511-46C1-ABC7-1C813436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A42B3-40AB-4B44-B02A-FE133478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04E52-FA88-4FE9-BF9F-F8F8443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24AF-570B-41A9-B2D5-906087DC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C4F1A-ABDC-4C96-A788-25D37A4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0FAC5-1314-4BE9-BE99-BB8B452C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01D2A-A9C2-46FC-9C90-D3DCE0BA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CC828-4DA9-446F-9230-16CF52C2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78C31-5070-46AD-B2E1-95A337734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7EA9-99FD-41D4-A9DA-58852FDE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835C-B747-4EFE-9CE3-D1C81BE2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F844-3666-4DF7-96F3-0408B584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9A25-F092-46B2-B41D-FDCB945B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0664-5136-4D38-B792-3A35CB84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FAC3-AE1E-497B-8414-8378EAA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2CC2-1296-4D76-BCDA-DE015C13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background"/>
          <p:cNvPicPr/>
          <p:nvPr/>
        </p:nvPicPr>
        <p:blipFill>
          <a:blip r:embed="rId2"/>
          <a:srcRect l="5701" t="0" r="877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66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162E-485D-4400-8946-91CDA8E91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_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F666-115C-42C6-A81D-E7DBED15E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19720" y="2130120"/>
            <a:ext cx="449568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971c"/>
                </a:solidFill>
                <a:latin typeface="Arial"/>
              </a:rPr>
              <a:t>Transitioning to Life After Residenc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dc3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dc3"/>
                </a:solidFill>
                <a:latin typeface="Arial"/>
              </a:rPr>
              <a:t>Lorna Linds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Medical Socie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Placement Servic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istings Not Servi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ust Be Memb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Job Open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Physicians’ Names           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(Some Provide Abbreviated CV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scover Opportunities &amp; Make Yourself Known Through Word Of Mou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ttending Physicians &amp; Former Resid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llied Health Professions And Pharmaceutical Representati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roductions Serve As Impli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rivate Placement Servic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gency Personnel Find &amp; Pursue Opportunities For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taffed By Motivated Profession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ree – Fees Paid By Emplo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gwork Done For Yo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Evaluating Search Fi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How Long In Busin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Who Pays Fe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Geographic Coverage Are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ypes Of Practices Represen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Guaranteed Confidentialit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an you talk with physicians previously placed by the fir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al World Exper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verse Practice Sett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Variety Of Lo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chedule That Fits Your Lifesty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ool For Locating Practice Opport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roadens Clinical Exp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head-Free In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reedom &amp; Flex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Malpractice Insur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ypes of Coverag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ims Ma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ccurren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overage Limi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 Claim And Aggreg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icens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ates Have Different Rules And Regul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sts Diff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cessing Time Var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et Notarized Copies Of Important Docu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DEA Registration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llow Time For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st Office Cannot Forward Renewal Pack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No Grace Period For Renew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pires After Three Ye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hoosing Your Pract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ne Of The Most Important Decisions Of Your Care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Never Too Soon To Gather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ver 50% Of Young Physicians Change Practices Within Two Years Of Trai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Know And Understand Your Op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egin With Goals And Work Backw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Understa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o You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You Like To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yers Briggs Type Indicator T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dispensable To Self-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vailable For Self-Administration On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wo Levels Of Self-Examin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1 – Introsp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undamentals Of Who You Are And How You Like To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 You Live to Work Or Work To Li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2 – External Fac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Your Job Allow You To Pursue Hobbies And Personal Interest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ney/Time-Of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search/Time With Pati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hie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utonomy And Pow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dom And Secu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estige And Recogn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ork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pecial Medical Intere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ersonal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pouse’s Expec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mands Of Practice vs. Demands Of Spo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/She Satisfied With Loca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amily Ne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cial 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lder C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terests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ligion – Education - Recre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ools For Loc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Practice Opportuni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rect Mail Adverti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rch Fi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ciety/Residency Program Placement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acticeMa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esigned To Generate Lea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Do Not Provide Actual Job Descrip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General Medical Journ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tate &amp; County Medical Society Periodic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pecialty Clinical Publica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y Already Be Fil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irect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pidly Growing Re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Jobs Are Curr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ster Form Of Commun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Key To Success – Taking &amp; Sustaining Initi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egwork Requi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58:01Z</dcterms:created>
  <dc:creator>Lorna Lindsey</dc:creator>
  <dc:description/>
  <dc:language>en-US</dc:language>
  <cp:lastModifiedBy>lthomas</cp:lastModifiedBy>
  <dcterms:modified xsi:type="dcterms:W3CDTF">2009-12-29T17:30:23Z</dcterms:modified>
  <cp:revision>7</cp:revision>
  <dc:subject/>
  <dc:title>Slide 1</dc:title>
</cp:coreProperties>
</file>