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8876-08B6-4FCA-840D-7B840914B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CYTOPENIA:  Heparin/PF4 complex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go aggregation and are removed prematurely from the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MBOSIS:  HIT antibodies of IgG bind to complexes of platelet factor 4 (PF4) and heparin on platelet surfaces, resulting in platelet activation/generation of microparticles which enhanced coagulation reactions and production of thrombi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techiae are due to the presence of red cells which have extravasated from capillaries; they are nontender and do not blanch under pressure. They are asymptomatic and not pal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rpura is a purplish discoloration of the skin due to the presence of confluent petech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peripheral smear from a patient with bone marrow fibrosis shows numerous teardrop-shaped red cells (arrows). Note that the teardrops are pointed in several different directions, ruling out an artifact due to preparation of the smear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F45-375A-4488-9F57-0DD38AC1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1CE-E327-4DC5-A97F-F391579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66E-40D0-4E4F-8437-43A87CCB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A3B-2468-424D-B0ED-15CA35C6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2EE-1F61-4F3A-93C9-73667879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FBC-5F3B-4C57-9D0C-5E9FD763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E70-1E92-429D-B8C7-86EAED1C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938-73F0-43CA-9C10-D42C25DE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DBA-5F27-4F67-9D03-0C200204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F2B-9398-4230-B556-9CB1B45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56A-F510-4CB2-8A9E-769D0819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284-B170-467B-8820-8558662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003-929C-48EE-B4D4-ED956E8A1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irc.ahajournals.org/content/vol110/issue18/images/large/32FF1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nterforti.com/STOCKPHOTOGRAPHY/scripts/imageFolio.cgi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1186154&amp;id=142762200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op=1&amp;view=global&amp;subj=1617347670&amp;pid=1244251&amp;id=1198833912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,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f I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gt; 20,000 and no bleeding…generally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roids, benefit approx 2/3 of patients…but takes 3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IG works more quickly (several days, and lasts several weeks)…used generally in actively bleeding patients while waiting for steroids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osupressive agents/splen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 induced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lls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1508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of 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 is accelerated plt destruction via drug dep anti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forget about OTC meds,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A, NS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nine (tonic w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, many meds can cause thrombocytopenia…and list constantly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 recovery after d/c of med is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ts &lt;10,000 or bleeding…transf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ass 1B r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Offe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rin*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ioda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proic acid/Carbamazep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mphoterici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ld sa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Vancomy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inine/quinid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ime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rim/sulfonam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henyt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nicillin/Beta lact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lopidogri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e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Digox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P 2b/3a inhibitor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abciximab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zol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nitit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:  Heparin induced thro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ferred to as Heparin induced thrombocytopen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thromb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HITT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1:  Minimal fall of platelets within 2 days of heparin, then returns to normal…non-immune, not clinically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 II:  immune mediated fall of platelets generally occurring within 5-10 days after hepa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ssociated with minimal use of heparin (even with IV flushes…why we now use sa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2FF1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685800"/>
            <a:ext cx="447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:  0.2-5% of patients exposed to Hep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disposing one to H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of Hepar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UFH (rather than LMWH/loveno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 patient &gt; medical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&gt;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 susp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heparin, started &gt;5 days prior (or less if re-exposed to hepar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fall or more from a prior value (even if still within normal 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thrombosis (venous or arter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skin necrosis at site of heparin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, you suspect it…now calculate a pretest probability:  The 4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50% fall and nadir &gt;20K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-50% fa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10-19K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30%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dir &lt; 10K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onset between day 5-10 post heparin (or w/in 1 day if heparin previously w/in 30days)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” between 5-10 days, but missing data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let fall &lt; 4 days post heparin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two 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mbos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hrombosis/necrosis/systemic reaction (after IV bolus): 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essive/recurrent thrombosis, suspected thrombosis, or non-necrotizing skin lesions: 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above: 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auses for Thrombocytop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: 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: 1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: 0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tt Akin, M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00helishark" descr="Great White Shark, Farallon Is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84320"/>
            <a:ext cx="6477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0-3 points= low probability (0.9% pre-test probability)  Evaluate for other causes, don’t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4-5 points= intermediate (11% pre-test pro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6-8 points= high probability (34% pre-test prob) stop heparin, order HIT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hepar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arfarin pending rebound of platelet count (give vitamin K if warfarin already star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hecking for lower extremity DV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ransfuse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leeding (may precipitate thrombosis)…but consider in patients who “are bleeding or are deemed to be at high risk of bleeding.” (2008 ACCP guide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nonheparin anticoagulant if HIT antibodies positive (take 2-3 day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nonheparin anticoagu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rudin, argatroban, danaparoid, fondaparinux,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renal fxn: Argatroban (or lepirudin at reduced do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bnormal hepatic function: lepirudin, danaparoid, fondapar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oth:  Argatroban, or reduced dose bivaliru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oagulation (with warfarin) for 2-3 months if no thrombotic event, 3-6 months if thrombotic event (grade 2C ev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-479520"/>
            <a:ext cx="91440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880" y="-479520"/>
            <a:ext cx="6429600" cy="360"/>
          </a:xfrm>
          <a:prstGeom prst="rect">
            <a:avLst/>
          </a:prstGeom>
          <a:solidFill>
            <a:srgbClr val="879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5768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5510_1454329124705_1427622005_31186153_1621402_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ore Causes of thrombocytope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l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ive blood loss with transfusion (few platelets in PRBC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ly 1/3 of platelets are sequestered in spl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rtal HT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ve splenomega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sequestration (up to 90%) in splee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 plt count in peripheral blood (but available platelet mass normal, therefore rarely bleed).  Note that platelet count usually in 50-100K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common cause of “thrombocytopeni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atelet_clumping_in_EDTA" descr="Image"/>
          <p:cNvPicPr/>
          <p:nvPr/>
        </p:nvPicPr>
        <p:blipFill>
          <a:blip r:embed="rId1"/>
          <a:stretch/>
        </p:blipFill>
        <p:spPr>
          <a:xfrm>
            <a:off x="2057400" y="2438280"/>
            <a:ext cx="49150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ule o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seudothrombocytop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DTA agglutinin autoantibody mediated Platelet clumping seen in 0.1%-0.2% of all blood dra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Examine the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heparinized/citrate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Repeat with fingerstick directly applied to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ote: pseudothrombocytopenia often accompanied by falsely high WBC (machine counts plt clumps as WB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, meds m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 ris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” symptom assessment (? Occult malign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eding history (gums, menses, surgical complic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spl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skin exam, looking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echiae: Red pin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ura: Purple confluent petecha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chymo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lymphadeno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orph050" descr=""/>
          <p:cNvPicPr/>
          <p:nvPr/>
        </p:nvPicPr>
        <p:blipFill>
          <a:blip r:embed="rId1"/>
          <a:stretch/>
        </p:blipFill>
        <p:spPr>
          <a:xfrm>
            <a:off x="1674720" y="1496880"/>
            <a:ext cx="5794560" cy="38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85m" descr=""/>
          <p:cNvPicPr/>
          <p:nvPr/>
        </p:nvPicPr>
        <p:blipFill>
          <a:blip r:embed="rId1"/>
          <a:stretch/>
        </p:blipFill>
        <p:spPr>
          <a:xfrm>
            <a:off x="2378160" y="1782720"/>
            <a:ext cx="4389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rombocyt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use or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latelets (hign MPV on CBC) imply increased destructio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release from marrow (I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mall platelets suggest reduced BM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istocytes (fragmented RBCs):  M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veal 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rdrop RBC, nucleated RBCs can suggest marrow invasion (tumor/fibrosis/granul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rocytosis with hypersegmented polys can suggest Vitamin B/folate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chistocytes" descr="Image"/>
          <p:cNvPicPr/>
          <p:nvPr/>
        </p:nvPicPr>
        <p:blipFill>
          <a:blip r:embed="rId1"/>
          <a:stretch/>
        </p:blipFill>
        <p:spPr>
          <a:xfrm>
            <a:off x="2457360" y="2006640"/>
            <a:ext cx="42292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28880" y="2398680"/>
            <a:ext cx="2901960" cy="18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0" rIns="158400" tIns="158400" bIns="8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Tear_drop_cells" descr="Image"/>
          <p:cNvPicPr/>
          <p:nvPr/>
        </p:nvPicPr>
        <p:blipFill>
          <a:blip r:embed="rId2"/>
          <a:stretch/>
        </p:blipFill>
        <p:spPr>
          <a:xfrm>
            <a:off x="2828880" y="1782720"/>
            <a:ext cx="3486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/PTT (high in MAHA/DIC…liver 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H (hemolysis/MAH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/Creatinine (HUS/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,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oxo, EBV, CMV serologies if lymphadenopathy, splenomegaly, or “B” symp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IV(initial disease manifestation in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NA if clinical susp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up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e marrow biops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efinitively answers the “production vs. destruction”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indicated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xplai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mocytopenia if platelet count low enough (5-10K) to be at risk for major bleed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UNLESS age &lt; 60, thrombocytopenia is isolat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history/PE, and smear suggest the diagnosis (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clusion) of I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If age &gt; 60, and suspect likely ITP, BM biopsy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enerally indicated to r/o myleodys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latelet level is “safe”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gt; 50K:  surgery safe (except neuros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30-50K: risk of major bleeding low.  Rarely have purp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10-30K: risk of mild-moderate bleeding (especially with more extensive trau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ts &lt;10K: high risk for spontaneous hemorrhage (esp if &lt;5K).  These patients have spontaneous bruising, and maybe petechia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IM injections, rectal exams, en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2a9a759ab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NOT to transfuse platele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usions may induce immune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transfusions not given in conditions of platelet destr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S/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 se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NS blee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rgent inva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I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transfuse plate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latelets &lt; 10,000 (risk of spont. Blee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20,0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ive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40-50,000 prior to an invasive proced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ooth ex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e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&lt;100,000 prior to neurosurgery/epidural anesth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“unit” of platelets (“phoresed unit”) raises platelet count by about 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thrombocytopenia in terms of etiology (destruction, decreased production, and “other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(especially MEDS)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ule out psuedo-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 smear tells you a 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before you transf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mbocytope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 platelets &lt; 15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latelets 150,000 - 450,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ur lab 130-4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 of the normal population will have platelet count lower than “normal” which is NOT ab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can fall by half, and still be in normal range…which is NOT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lets live for 8-10 d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er platelets are larger and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4117_1433573838210_1198833912_1244250_3325866_n" descr="">
            <a:hlinkClick r:id="rId1"/>
          </p:cNvPr>
          <p:cNvPicPr/>
          <p:nvPr/>
        </p:nvPicPr>
        <p:blipFill>
          <a:blip r:embed="rId2"/>
          <a:srcRect l="-2772" t="-2776" r="0" b="0"/>
          <a:stretch/>
        </p:blipFill>
        <p:spPr>
          <a:xfrm>
            <a:off x="1066680" y="1676520"/>
            <a:ext cx="71629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Thrombocytopenia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reased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ow suppression (usually pancytopeni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viral: parvo, Hep B/C, EBV, varicella, measles, mumps, rubella, MMR vaccine, CMV, toxo, mono, infl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as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gakaryocyte damage:  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toxicity to bone marrow:  XRT, chemo, 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ow infiltration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mphoma, Myelofibrosis, mets, 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s with toxic effect: (non immune medi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azides, estrogens, septra, chemo, cimetidine, famotid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reased Productio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ignancies:  Myelodysplasia syndrome (age &gt;60…usually anemic/leukopenic), leukemia, myel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12 or Folate deficiency (r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enital (Wiskott-Aldrich, Fanconi syndrome, Bernard-Soul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:  Increased De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e 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P*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 induced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um:  SLE, RA, APL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V (40% of 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rans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m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P/HUS (suspect when low platelets and MAH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eclamp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xic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cul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hem110" descr=""/>
          <p:cNvPicPr/>
          <p:nvPr/>
        </p:nvPicPr>
        <p:blipFill>
          <a:blip r:embed="rId1"/>
          <a:stretch/>
        </p:blipFill>
        <p:spPr>
          <a:xfrm>
            <a:off x="2571840" y="2039760"/>
            <a:ext cx="4000320" cy="27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Destruction:  IT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diopathic throbocytopenic purpur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of exclusi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throbocytopenia      -history of no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r sm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ding m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splee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old standard for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HIV test if risk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bone marrow biopsy if age &gt;60 to rule out M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-platelet antibody panel not generally recommended (low sensitivity and specifi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alth Services Department</cp:lastModifiedBy>
  <dcterms:modified xsi:type="dcterms:W3CDTF">2010-05-12T18:50:22Z</dcterms:modified>
  <cp:revision>17</cp:revision>
  <dc:subject/>
  <dc:title>PowerPoint Presentation</dc:title>
</cp:coreProperties>
</file>