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44E1-DE57-4B86-A703-B618BEC36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MBOCYTOPENIA:  Heparin/PF4 complex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go aggregation and are removed prematurely from the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MBOSIS:  HIT antibodies of IgG bind to complexes of platelet factor 4 (PF4) and heparin on platelet surfaces, resulting in platelet activation/generation of microparticles which enhanced coagulation reactions and production of thrombi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techiae are due to the presence of red cells which have extravasated from capillaries; they are nontender and do not blanch under pressure. They are asymptomatic and not palp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rpura is a purplish discoloration of the skin due to the presence of confluent petechi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eripheral smear from a patient with bone marrow fibrosis shows numerous teardrop-shaped red cells (arrows). Note that the teardrops are pointed in several different directions, ruling out an artifact due to preparation of the smear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721E-3637-42A5-90A2-437EF0A0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DD42-70F8-4440-9FD3-B19EED43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8ED0-4FB4-4AB9-9E08-1322AB86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B1E-724E-43B2-9A72-160441B8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4D5-8A17-4A50-9515-04B9D2EB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4F0-6102-4B7B-B52C-B1E29E48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940D-AD41-4ED1-A879-5660AF09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B60-6301-47E0-AE8E-2EC4BB38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B91B-FA44-4617-B283-B98E0DAD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552A-C637-4B96-86EC-9BCC8820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0F5F-69BE-4FD8-A30E-62D0C987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DCC-E75C-47D9-B4F2-0AC71708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89A6-4FCE-4D6D-97A8-56A39D85B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irc.ahajournals.org/content/vol110/issue18/images/large/32FF1.jpe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terforti.com/STOCKPHOTOGRAPHY/scripts/imageFolio.cgi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pid=31186154&amp;id=1427622005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op=1&amp;view=global&amp;subj=1617347670&amp;pid=1244251&amp;id=1198833912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, M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I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latelets &gt; 20,000 and no bleeding…generally obse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oids, benefit approx 2/3 of patients…but takes 3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IG works more quickly (several days, and lasts several weeks)…used generally in actively bleeding patients while waiting for steroids to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osupressive agents/splenec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tion induced 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lls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491508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ed Destruc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TIONS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sm of me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cytopenia is accelerated plt destruction via drug dep anti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forget about OTC meds, reme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A, NSA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nine (tonic wa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, many meds can cause thrombocytopenia…and list constantly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 recovery after d/c of med is 5-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lts &lt;10,000 or bleeding…transfu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lass 1B r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Offen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parin*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mioda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proic acid/Carbamazep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mphotericin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ld sal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Vancomy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inine/quinid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imetid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trim/sulfonami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henyt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nicillin/Beta lact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lopidogri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er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Digox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P 2b/3a inhibitor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bciximab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zo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Ranititid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:  Heparin induced thro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referred to as Heparin induced thrombocytopeni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thromb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“HITT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T 1:  Minimal fall of platelets within 2 days of heparin, then returns to normal…non-immune, not clinically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T II:  immune mediated fall of platelets generally occurring within 5-10 days after hepar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associated with minimal use of heparin (even with IV flushes…why we now use sal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32FF1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685800"/>
            <a:ext cx="4479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ce:  0.2-5% of patients exposed to Hepa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s predisposing one to H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r duration of Hepar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UFH (rather than LMWH/loveno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 patient &gt; medical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male &gt; 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o susp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on heparin, started &gt;5 days prior (or less if re-exposed to hepar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 fall or more from a prior value (even if still within normal ran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thrombosis (venous or arter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skin necrosis at site of heparin in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, you suspect it…now calculate a pretest probability:  The 4 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50% fall and nadir &gt;20K: 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-50% fa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dir 10-19K: 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30%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dir &lt; 10K: 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r onset between day 5-10 post heparin (or w/in 1 day if heparin previously w/in 30days):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with” between 5-10 days, but missing data: 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elet fall &lt; 4 days post heparin: 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xt two 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mbos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Thrombosis/necrosis/systemic reaction (after IV bolus): 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essive/recurrent thrombosis, suspected thrombosis, or non-necrotizing skin lesions: 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 of above: 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auses for Thrombocytopen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: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: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e: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tt Akin, M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400helishark" descr="Great White Shark, Farallon Islan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984320"/>
            <a:ext cx="64771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0-3 points= low probability (0.9% pre-test probability)  Evaluate for other causes, don’t order HIT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4-5 points= intermediate (11% pre-test pro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heparin, order HIT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6-8 points= high probability (34% pre-test prob) stop heparin, order HIT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hepar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warfarin pending rebound of platelet count (give vitamin K if warfarin already start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checking for lower extremity DV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transfuse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bleeding (may precipitate thrombosis)…but consider in patients who “are bleeding or are deemed to be at high risk of bleeding.” (2008 ACCP guideli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nonheparin anticoagulant if HIT antibodies positive (take 2-3 day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nonheparin anticoagu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pirudin, argatroban, danaparoid, fondaparinux, bivalirud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bnormal renal fxn: Argatroban (or lepirudin at reduced do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bnormal hepatic function: lepirudin, danaparoid, fondapar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oth:  Argatroban, or reduced dose bivalirud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oagulation (with warfarin) for 2-3 months if no thrombotic event, 3-6 months if thrombotic event (grade 2C evi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More Causes of 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3880" y="-479520"/>
            <a:ext cx="9144000" cy="360"/>
          </a:xfrm>
          <a:prstGeom prst="rect">
            <a:avLst/>
          </a:prstGeom>
          <a:solidFill>
            <a:srgbClr val="879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5768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3880" y="-479520"/>
            <a:ext cx="9144000" cy="360"/>
          </a:xfrm>
          <a:prstGeom prst="rect">
            <a:avLst/>
          </a:prstGeom>
          <a:solidFill>
            <a:srgbClr val="879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5768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3880" y="-479520"/>
            <a:ext cx="6429600" cy="360"/>
          </a:xfrm>
          <a:prstGeom prst="rect">
            <a:avLst/>
          </a:prstGeom>
          <a:solidFill>
            <a:srgbClr val="879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5768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25510_1454329124705_1427622005_31186153_1621402_n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9051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More Causes of 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lu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ive blood loss with transfusion (few platelets in PRBC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ly 1/3 of platelets are sequestered in spl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portal HT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ve splenomegal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sequestration (up to 90%) in splee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w plt count in peripheral blood (but available platelet mass normal, therefore rarely bleed).  Note that platelet count usually in 50-100K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ERY common cause of “thrombocytopen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latelet_clumping_in_EDTA" descr="Image"/>
          <p:cNvPicPr/>
          <p:nvPr/>
        </p:nvPicPr>
        <p:blipFill>
          <a:blip r:embed="rId1"/>
          <a:stretch/>
        </p:blipFill>
        <p:spPr>
          <a:xfrm>
            <a:off x="2057400" y="2438280"/>
            <a:ext cx="49150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rule ou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seudothrombocytope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DTA agglutinin autoantibody mediated Platelet clumping seen in 0.1%-0.2% of all blood dra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Examine the sm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epeat with heparinized/citrated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epeat with fingerstick directly applied to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Note: pseudothrombocytopenia often accompanied by falsely high WBC (machine counts plt clumps as WB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s, meds m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tr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V risk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” symptom assessment (? Occult malignan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eeding history (gums, menses, surgical complication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mily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spl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skin exam, looking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techiae: Red pinh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pura: Purple confluent petecha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chymo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lymphadenopa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orph050" descr=""/>
          <p:cNvPicPr/>
          <p:nvPr/>
        </p:nvPicPr>
        <p:blipFill>
          <a:blip r:embed="rId1"/>
          <a:stretch/>
        </p:blipFill>
        <p:spPr>
          <a:xfrm>
            <a:off x="1674720" y="1496880"/>
            <a:ext cx="579456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85m" descr=""/>
          <p:cNvPicPr/>
          <p:nvPr/>
        </p:nvPicPr>
        <p:blipFill>
          <a:blip r:embed="rId1"/>
          <a:stretch/>
        </p:blipFill>
        <p:spPr>
          <a:xfrm>
            <a:off x="2378160" y="1782720"/>
            <a:ext cx="43894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hrombocytop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cau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d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 wo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ransfuse or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pheral sm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platelets (hign MPV on CBC) imply increased destructio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release from marrow (I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/small platelets suggest reduced BM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istocytes (fragmented RBCs):  MA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veal bl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rdrop RBC, nucleated RBCs can suggest marrow invasion (tumor/fibrosis/granulo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rocytosis with hypersegmented polys can suggest Vitamin B/folate de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Schistocytes" descr="Image"/>
          <p:cNvPicPr/>
          <p:nvPr/>
        </p:nvPicPr>
        <p:blipFill>
          <a:blip r:embed="rId1"/>
          <a:stretch/>
        </p:blipFill>
        <p:spPr>
          <a:xfrm>
            <a:off x="2457360" y="2006640"/>
            <a:ext cx="422928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28880" y="2398680"/>
            <a:ext cx="2901960" cy="183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0" rIns="158400" tIns="158400" bIns="885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Tear_drop_cells" descr="Image"/>
          <p:cNvPicPr/>
          <p:nvPr/>
        </p:nvPicPr>
        <p:blipFill>
          <a:blip r:embed="rId2"/>
          <a:stretch/>
        </p:blipFill>
        <p:spPr>
          <a:xfrm>
            <a:off x="2828880" y="1782720"/>
            <a:ext cx="34862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T/PTT (high in MAHA/DIC…liver dise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H (hemolysis/MA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n/Creatinine (HUS/T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HIV, ANA if clinical suspi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oxo, EBV, CMV serologies if lymphadenopathy, splenomegaly, or “B” symp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HIV(initial disease manifestation in 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NA if clinical suspi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e marrow biops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definitively answers the “production vs. destruction”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indicated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expl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romocytopenia if platelet count low enough (5-10K) to be at risk for major bleed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UNLESS age &lt; 60, thrombocytopenia is isolate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 history/PE, and smear suggest the diagnosis (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xclusion) of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If age &gt; 60, and suspect likely ITP, BM biopsy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generally indicated to r/o myleodyspl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platelet level is “safe” 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&gt; 50K:  surgery safe (except neurosu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30-50K: risk of major bleeding low.  Rarely have purp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10-30K: risk of mild-moderate bleeding (especially with more extensive traum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&lt;10K: high risk for spontaneous hemorrhage (esp if &lt;5K).  These patients have spontaneous bruising, and maybe petechia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IM injections, rectal exams, en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52a9a759ab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495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NOT to transfuse platele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usions may induce immune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transfusions not given in conditions of platelet destr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S/T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less  sev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NS bleed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rgent inva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e IT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O transfuse plate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latelets &lt; 10,000 (risk of spont. Blee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&lt;20,0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ive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&lt;40-50,000 prior to an invasive proced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hild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 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ooth ex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racen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&lt;100,000 prior to neurosurgery/epidural anesth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“unit” of platelets (“phoresed unit”) raises platelet count by about 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about thrombocytopenia in terms of etiology (destruction, decreased production, and “other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(especially MEDS) ess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ule out psuedo-thrombocytop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pheral smear tells you a 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before you transf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mbocytope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 platelets &lt; 150,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platelets 150,000 - 450,0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ur lab 130-4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% of the normal population will have platelet count lower than “normal” which is NOT ab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elets can fall by half, and still be in normal range…which is NOT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elets live for 8-10 da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nger platelets are larger and work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24117_1433573838210_1198833912_1244250_3325866_n" descr="">
            <a:hlinkClick r:id="rId1"/>
          </p:cNvPr>
          <p:cNvPicPr/>
          <p:nvPr/>
        </p:nvPicPr>
        <p:blipFill>
          <a:blip r:embed="rId2"/>
          <a:srcRect l="-2772" t="-2776" r="0" b="0"/>
          <a:stretch/>
        </p:blipFill>
        <p:spPr>
          <a:xfrm>
            <a:off x="1066680" y="1676520"/>
            <a:ext cx="716292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Thrombocytopenia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reased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row suppression (usually pancytopenic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viral: parvo, Hep B/C, EBV, varicella, measles, mumps, rubella, MMR vaccine, CMV, toxo, mono, influ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astic an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megakaryocyte damage:  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toxicity to bone marrow:  XRT, chemo, 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ow infiltration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ymphoma, Myelofibrosis, mets,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s with toxic effect: (non immune medi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azides, estrogens, septra, chemo, cimetidine, famotid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reased Production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ignancies:  Myelodysplasia syndrome (age &gt;60…usually anemic/leukopenic), leukemia, myel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12 or Folate deficiency (ra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genital (Wiskott-Aldrich, Fanconi syndrome, Bernard-Soul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:  Increased De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e med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P*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ug induced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eum:  SLE, RA, APLA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V (40% of 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rans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ranspla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3124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mm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P/HUS (suspect when low platelets and MAH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eclamp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xic sh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scul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hem110" descr=""/>
          <p:cNvPicPr/>
          <p:nvPr/>
        </p:nvPicPr>
        <p:blipFill>
          <a:blip r:embed="rId1"/>
          <a:stretch/>
        </p:blipFill>
        <p:spPr>
          <a:xfrm>
            <a:off x="2571840" y="2039760"/>
            <a:ext cx="4000320" cy="27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ed Destruction:  IT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diopathic throbocytopenic purpura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is of exclusion wit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ed throbocytopenia      -history of no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r sm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nding m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splee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old standard for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HIV test if risk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bone marrow biopsy if age &gt;60 to rule out M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-platelet antibody panel not generally recommended (low sensitivity and specifi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alth Services Department</cp:lastModifiedBy>
  <dcterms:modified xsi:type="dcterms:W3CDTF">2010-05-12T18:50:22Z</dcterms:modified>
  <cp:revision>17</cp:revision>
  <dc:subject/>
  <dc:title>PowerPoint Presentation</dc:title>
</cp:coreProperties>
</file>