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1DDD-77DF-496F-A232-F1E7505ED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MBOCYTOPENIA:  Heparin/PF4 complex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dergo aggregation and are removed prematurely from the cir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MBOSIS:  HIT antibodies of IgG bind to complexes of platelet factor 4 (PF4) and heparin on platelet surfaces, resulting in platelet activation/generation of microparticles which enhanced coagulation reactions and production of thrombi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techiae are due to the presence of red cells which have extravasated from capillaries; they are nontender and do not blanch under pressure. They are asymptomatic and not palp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rpura is a purplish discoloration of the skin due to the presence of confluent petechi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peripheral smear from a patient with bone marrow fibrosis shows numerous teardrop-shaped red cells (arrows). Note that the teardrops are pointed in several different directions, ruling out an artifact due to preparation of the smear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9831-E473-4E99-B349-18212D637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BFC4-5633-4487-82DF-D7457719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53A3-3AB2-4502-A54C-E50584FB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5C0A-969C-49C9-97F7-9EDE632F4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3372-3EA4-4483-9E27-1E2074CF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1FB0-9326-4037-B2C9-A05A66E6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8A32-B0A6-4728-B315-1A7A56E2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9BF5-87A6-4D9E-95B8-5BEDDF34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10BD-B7C2-4B9F-B07D-FE1C6598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3AB7-CB8B-45D5-BE03-139F70DC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F224-DDBE-491A-87A2-2A323D93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68E2-F1D1-4DE1-B336-C13CB612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507A-99D5-4FE4-B045-F37573A3A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circ.ahajournals.org/content/vol110/issue18/images/large/32FF1.jpeg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nterforti.com/STOCKPHOTOGRAPHY/scripts/imageFolio.cgi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facebook.com/photo.php?pid=31186154&amp;id=1427622005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facebook.com/photo.php?op=1&amp;view=global&amp;subj=1617347670&amp;pid=1244251&amp;id=1198833912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mbocytope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Akin, M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of IT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latelets &gt; 20,000 and no bleeding…generally obse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roids, benefit approx 2/3 of patients…but takes 3 wee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IG works more quickly (several days, and lasts several weeks)…used generally in actively bleeding patients while waiting for steroids to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munosupressive agents/splenect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ation induced Thrombocytope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lls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4915080" cy="46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reased Destruc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ATIONS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chanism of med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mbocytopenia is accelerated plt destruction via drug dep anti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forget about OTC meds, reme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A, NSA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nine (tonic wa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, many meds can cause thrombocytopenia…and list constantly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n recovery after d/c of med is 5-7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lts &lt;10,000 or bleeding…transfu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lass 1B r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in Offen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parin*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Amiodar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lproic acid/Carbamazep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Amphotericin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ld sal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Vancomyc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inine/quinid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Cimetid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ctrim/sulfonamid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henyt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nicillin/Beta lact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Clopidogri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fer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Digox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P 2b/3a inhibitor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bciximab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conaz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zol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Ranititid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T:  Heparin induced throbocytope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referred to as Heparin induced thrombocytopeni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 thrombo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“HITT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T 1:  Minimal fall of platelets within 2 days of heparin, then returns to normal…non-immune, not clinically impor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T II:  immune mediated fall of platelets generally occurring within 5-10 days after hepar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associated with minimal use of heparin (even with IV flushes…why we now use sali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32FF1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685800"/>
            <a:ext cx="4479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idence:  0.2-5% of patients exposed to Hepar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s predisposing one to H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er duration of Hepar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UFH (rather than LMWH/loveno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gical patient &gt; medical pat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male &gt; m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o susp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 on heparin, started &gt;5 days prior (or less if re-exposed to hepar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% fall or more from a prior value (even if still within normal ran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d thrombosis (venous or arteri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d skin necrosis at site of heparin inj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, you suspect it…now calculate a pretest probability:  The 4 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mbocytop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50% fall and nadir &gt;20K:  2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-50% fall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dir 10-19K:  1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 30%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dir &lt; 10K:  0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ear onset between day 5-10 post heparin (or w/in 1 day if heparin previously w/in 30days): 2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stent with” between 5-10 days, but missing data:  1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telet fall &lt; 4 days post heparin:  0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xt two 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mbosi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Thrombosis/necrosis/systemic reaction (after IV bolus):  2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essive/recurrent thrombosis, suspected thrombosis, or non-necrotizing skin lesions:  1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e of above:  0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causes for Thrombocytopen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e: 2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le: 1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ite: 0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mbocytope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tt Akin, M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400helishark" descr="Great White Shark, Farallon Islan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984320"/>
            <a:ext cx="647712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0-3 points= low probability (0.9% pre-test probability)  Evaluate for other causes, don’t order HIT anti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4-5 points= intermediate (11% pre-test pro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 heparin, order HIT anti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6-8 points= high probability (34% pre-test prob) stop heparin, order HIT anti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T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 hepar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 warfarin pending rebound of platelet count (give vitamin K if warfarin already start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checking for lower extremity DV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transfuse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ven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bleeding (may precipitate thrombosis)…but consider in patients who “are bleeding or are deemed to be at high risk of bleeding.” (2008 ACCP guidelin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nonheparin anticoagulant if HIT antibodies positive (take 2-3 day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T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nonheparin anticoagul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pirudin, argatroban, danaparoid, fondaparinux, bivalirud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bnormal renal fxn: Argatroban (or lepirudin at reduced do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bnormal hepatic function: lepirudin, danaparoid, fondapar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oth:  Argatroban, or reduced dose bivalirud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coagulation (with warfarin) for 2-3 months if no thrombotic event, 3-6 months if thrombotic event (grade 2C evid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More Causes of thrombocytope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3880" y="-479520"/>
            <a:ext cx="9144000" cy="360"/>
          </a:xfrm>
          <a:prstGeom prst="rect">
            <a:avLst/>
          </a:prstGeom>
          <a:solidFill>
            <a:srgbClr val="879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5768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3880" y="-479520"/>
            <a:ext cx="9144000" cy="360"/>
          </a:xfrm>
          <a:prstGeom prst="rect">
            <a:avLst/>
          </a:prstGeom>
          <a:solidFill>
            <a:srgbClr val="879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5768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3880" y="-479520"/>
            <a:ext cx="6429600" cy="360"/>
          </a:xfrm>
          <a:prstGeom prst="rect">
            <a:avLst/>
          </a:prstGeom>
          <a:solidFill>
            <a:srgbClr val="879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5768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25510_1454329124705_1427622005_31186153_1621402_n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905120"/>
            <a:ext cx="63244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More Causes of thrombocytope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lu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ive blood loss with transfusion (few platelets in PRBC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ly 1/3 of platelets are sequestered in spl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portal HTN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estive splenomegaly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sequestration (up to 90%) in spleen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w plt count in peripheral blood (but available platelet mass normal, therefore rarely bleed).  Note that platelet count usually in 50-100K r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VERY common cause of “thrombocytopenia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latelet_clumping_in_EDTA" descr="Image"/>
          <p:cNvPicPr/>
          <p:nvPr/>
        </p:nvPicPr>
        <p:blipFill>
          <a:blip r:embed="rId1"/>
          <a:stretch/>
        </p:blipFill>
        <p:spPr>
          <a:xfrm>
            <a:off x="2057400" y="2438280"/>
            <a:ext cx="491508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rule ou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seudothrombocytopen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DTA agglutinin autoantibody mediated Platelet clumping seen in 0.1%-0.2% of all blood draw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Examine the sm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epeat with heparinized/citrated 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epeat with fingerstick directly applied to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Note: pseudothrombocytopenia often accompanied by falsely high WBC (machine counts plt clumps as WB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s, meds m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tr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V risk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” symptom assessment (? Occult malignanc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eeding history (gums, menses, surgical complication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mily Hi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e spl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ed skin exam, looking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techiae: Red pinh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pura: Purple confluent petecha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cchymos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for lymphadenopat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morph050" descr=""/>
          <p:cNvPicPr/>
          <p:nvPr/>
        </p:nvPicPr>
        <p:blipFill>
          <a:blip r:embed="rId1"/>
          <a:stretch/>
        </p:blipFill>
        <p:spPr>
          <a:xfrm>
            <a:off x="1674720" y="1496880"/>
            <a:ext cx="5794560" cy="38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85m" descr=""/>
          <p:cNvPicPr/>
          <p:nvPr/>
        </p:nvPicPr>
        <p:blipFill>
          <a:blip r:embed="rId1"/>
          <a:stretch/>
        </p:blipFill>
        <p:spPr>
          <a:xfrm>
            <a:off x="2378160" y="1782720"/>
            <a:ext cx="438948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thrombocytope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cau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reased 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line wor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transfuse or n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up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pheral sm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platelets (hign MPV on CBC) imply increased destruction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release from marrow (IT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/small platelets suggest reduced BM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istocytes (fragmented RBCs):  MA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reveal bla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rdrop RBC, nucleated RBCs can suggest marrow invasion (tumor/fibrosis/granulo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rocytosis with hypersegmented polys can suggest Vitamin B/folate de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nos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Schistocytes" descr="Image"/>
          <p:cNvPicPr/>
          <p:nvPr/>
        </p:nvPicPr>
        <p:blipFill>
          <a:blip r:embed="rId1"/>
          <a:stretch/>
        </p:blipFill>
        <p:spPr>
          <a:xfrm>
            <a:off x="2457360" y="2006640"/>
            <a:ext cx="422928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828880" y="2398680"/>
            <a:ext cx="2901960" cy="183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0" rIns="158400" tIns="158400" bIns="885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Tear_drop_cells" descr="Image"/>
          <p:cNvPicPr/>
          <p:nvPr/>
        </p:nvPicPr>
        <p:blipFill>
          <a:blip r:embed="rId2"/>
          <a:stretch/>
        </p:blipFill>
        <p:spPr>
          <a:xfrm>
            <a:off x="2828880" y="1782720"/>
            <a:ext cx="34862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up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T/PTT (high in MAHA/DIC…liver dise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H (hemolysis/MAH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n/Creatinine (HUS/TT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HIV, ANA if clinical suspi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oxo, EBV, CMV serologies if lymphadenopathy, splenomegaly, or “B” symp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HIV(initial disease manifestation in 1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ANA if clinical suspi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up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ne marrow biops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definitively answers the “production vs. destruction”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indicated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expla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romocytopenia if platelet count low enough (5-10K) to be at risk for major bleeding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UNLESS age &lt; 60, thrombocytopenia is isolated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nd history/PE, and smear suggest the diagnosis (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xclusion) of IT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If age &gt; 60, and suspect likely ITP, BM biopsy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generally indicated to r/o myleodyspl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platelet level is “safe” 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ts &gt; 50K:  surgery safe (except neurosur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ts 30-50K: risk of major bleeding low.  Rarely have purp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ts 10-30K: risk of mild-moderate bleeding (especially with more extensive traum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ts &lt;10K: high risk for spontaneous hemorrhage (esp if &lt;5K).  These patients have spontaneous bruising, and maybe petechia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IM injections, rectal exams, en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52a9a759ab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4495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NOT to transfuse platelet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usions may induce immune re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 transfusions not given in conditions of platelet destru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S/T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less  sev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NS bleed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rgent inva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e IT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O transfuse platel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latelets &lt; 10,000 (risk of spont. Blee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&lt;20,000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tive blee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&lt;40-50,000 prior to an invasive proced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ge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Childbi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 l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Tooth ex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oracent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&lt;100,000 prior to neurosurgery/epidural anesthe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“unit” of platelets (“phoresed unit”) raises platelet count by about 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about thrombocytopenia in terms of etiology (destruction, decreased production, and “other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 (especially MEDS) ess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rule out psuedo-thrombocytop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pheral smear tells you a 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before you transf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mbocytope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 platelets &lt; 150,0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 platelets 150,000 - 450,00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our lab 130-4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5% of the normal population will have platelet count lower than “normal” which is NOT ab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telets can fall by half, and still be in normal range…which is NOT 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telets live for 8-10 day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nger platelets are larger and work be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n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24117_1433573838210_1198833912_1244250_3325866_n" descr="">
            <a:hlinkClick r:id="rId1"/>
          </p:cNvPr>
          <p:cNvPicPr/>
          <p:nvPr/>
        </p:nvPicPr>
        <p:blipFill>
          <a:blip r:embed="rId2"/>
          <a:srcRect l="-2772" t="-2776" r="0" b="0"/>
          <a:stretch/>
        </p:blipFill>
        <p:spPr>
          <a:xfrm>
            <a:off x="1066680" y="1676520"/>
            <a:ext cx="716292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Thrombocytopenia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creased 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row suppression (usually pancytopenic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viral: parvo, Hep B/C, EBV, varicella, measles, mumps, rubella, MMR vaccine, CMV, toxo, mono, influen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lastic an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megakaryocyte damage:  H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toxicity to bone marrow:  XRT, chemo, 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ow infiltration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ymphoma, Myelofibrosis, mets, T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s with toxic effect: (non immune media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azides, estrogens, septra, chemo, cimetidine, famotid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reased Production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lignancies:  Myelodysplasia syndrome (age &gt;60…usually anemic/leukopenic), leukemia, myel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12 or Folate deficiency (ra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genital (Wiskott-Aldrich, Fanconi syndrome, Bernard-Souli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:  Increased De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352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mune medi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P*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ug induced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eum:  SLE, RA, APLA synd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V (40% of 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trans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transpla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3124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imm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TP/HUS (suspect when low platelets and MAHA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eclamp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LL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xic sh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scul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hem110" descr=""/>
          <p:cNvPicPr/>
          <p:nvPr/>
        </p:nvPicPr>
        <p:blipFill>
          <a:blip r:embed="rId1"/>
          <a:stretch/>
        </p:blipFill>
        <p:spPr>
          <a:xfrm>
            <a:off x="2571840" y="2039760"/>
            <a:ext cx="4000320" cy="27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reased Destruction:  IT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diopathic throbocytopenic purpura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gnosis of exclusion with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lated throbocytopenia      -history of no poss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r sm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nding m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 spleen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gold standard for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HIV test if risk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bone marrow biopsy if age &gt;60 to rule out M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-platelet antibody panel not generally recommended (low sensitivity and specific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ealth Services Department</cp:lastModifiedBy>
  <dcterms:modified xsi:type="dcterms:W3CDTF">2010-05-12T18:50:22Z</dcterms:modified>
  <cp:revision>17</cp:revision>
  <dc:subject/>
  <dc:title>PowerPoint Presentation</dc:title>
</cp:coreProperties>
</file>