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AD23B-D1B6-45E5-B570-A0053F434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FFC49-E3F4-488A-B6D9-DDA1D75D6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02ADB-AC63-442B-AC24-099FE0CA9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D7F6F-FD5D-4BBA-BAD6-0BE5E7ACB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5F287-A682-4256-AC00-7F4897533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5512-2302-4BF1-9CE5-F15E0245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3E783-0A89-4B9C-BF1E-2673D6A1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3FD97-E031-4A03-9B31-3168E8CFC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3650B-B004-455D-8596-B2BED9545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239C-ED76-4652-A669-6FECCF1E7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BBE98-1CFF-4273-8A0E-3B50AA732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D0EB-ABCC-47CB-9324-DD9DD6702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5E60-92CD-4095-8BBA-0D594FFEEE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ncbi.nlm.nih.gov/pubmed?term=%22Berkowitz%20RL%22%5BAuthor%5D" TargetMode="External"/><Relationship Id="rId2" Type="http://schemas.openxmlformats.org/officeDocument/2006/relationships/hyperlink" Target="http://www.ncbi.nlm.nih.gov/pubmed?term=%22Lesser%20ML%22%5BAuthor%5D" TargetMode="External"/><Relationship Id="rId3" Type="http://schemas.openxmlformats.org/officeDocument/2006/relationships/hyperlink" Target="http://www.ncbi.nlm.nih.gov/pubmed?term=%22McFarland%20JG%22%5BAuthor%5D" TargetMode="External"/><Relationship Id="rId4" Type="http://schemas.openxmlformats.org/officeDocument/2006/relationships/hyperlink" Target="http://www.ncbi.nlm.nih.gov/pubmed?term=%22Wissert%20M%22%5BAuthor%5D" TargetMode="External"/><Relationship Id="rId5" Type="http://schemas.openxmlformats.org/officeDocument/2006/relationships/hyperlink" Target="http://www.ncbi.nlm.nih.gov/pubmed?term=%22Primiani%20A%22%5BAuthor%5D" TargetMode="External"/><Relationship Id="rId6" Type="http://schemas.openxmlformats.org/officeDocument/2006/relationships/hyperlink" Target="http://www.ncbi.nlm.nih.gov/pubmed?term=%22Hung%20C%22%5BAuthor%5D" TargetMode="External"/><Relationship Id="rId7" Type="http://schemas.openxmlformats.org/officeDocument/2006/relationships/hyperlink" Target="http://www.ncbi.nlm.nih.gov/pubmed?term=%22Bussel%20JB%22%5BAuthor%5D" TargetMode="External"/><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rombocytopenia in Pregnancy</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Marinoff,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10,20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disord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platelet count – otherwise normal CBC and sm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obvious alternative clinical condition or drug related et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platelet antibodies not required f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emonstrable in all patients with 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ffect management decis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e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platelet destr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 inhibit platelet p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ically significant bleeding &lt;5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bleeding rare if platelets &gt;1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mission common in children, rare in ad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in 30,000-50,000 ran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 Safe platelet count to prevent major bleed, not normalized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tality &lt; 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bleeding risks in pregnancy – lower treatment thresho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nisone 1mg/kg/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pond within one wee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 with Calcium and Vitamin D if greater than 3 months R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 IVIG 1 gr/kg/day over 1-2 day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esponsive to medical therapy - splenect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enectom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es primary site of destruction of antibody coated platele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s antiplatelet antibody prod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cessful remission usually within two weeks of surge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 long term rem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ection for obstetric ind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or correlation with maternal platelet count or fetal scalp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S is contraindicated – procedure related mortality significantly greater than disease related mort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eeclampsia</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develop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LP syndro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y is treatmen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nadir may occur post delivery – usually begins rising by day 3 after deliv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spirin and NSAID’s in patients with thrombocytopen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ibi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438280" y="1828800"/>
            <a:ext cx="3929040" cy="441972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ow Dinosaurs Became Extinct</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fe threatening thrombocytopenia</a:t>
            </a:r>
            <a:endParaRPr b="0" lang="en-US" sz="4000" spc="-1" strike="noStrike">
              <a:solidFill>
                <a:srgbClr val="cc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 transfu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IVI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ylpredniso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 response – recombinant factor VI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ernal IgG crosses placenta and attacks foreign platelet antigen in fet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occur in first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00-5000 bir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her is asymptomatic – 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5-90% recurrence rate with increased severit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 </a:t>
            </a:r>
            <a:endParaRPr b="0" lang="en-US" sz="4000" spc="-1" strike="noStrike">
              <a:solidFill>
                <a:srgbClr val="ccffff"/>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cases NA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a — 75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5b — 16 perce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HPA-15b — 4 perc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and outcome of 200 cases of fetomaternal alloimmune thrombocytopenia. Ghevaert C; Campbell K; Walton J; Smith GA; Allen D; Williamson LM; Ouwehand WH; Ranasinghe E Transfusion. 2007 May;47(5):901-10.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able 2. Risk Stratification and Treatment Protoco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igh Risk Standard Ris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ratification Initial fetal platelet count  20,000/mL3, </a:t>
            </a:r>
            <a:r>
              <a:rPr b="1" lang="en-US" sz="800" spc="-1" strike="noStrike">
                <a:solidFill>
                  <a:srgbClr val="ffffff"/>
                </a:solidFill>
                <a:latin typeface="Arial"/>
              </a:rPr>
              <a:t>or</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bling with a perinatal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itial platelet count  20,000 /mL3,</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nd </a:t>
            </a:r>
            <a:r>
              <a:rPr b="0" lang="en-US" sz="800" spc="-1" strike="noStrike">
                <a:solidFill>
                  <a:srgbClr val="ffffff"/>
                </a:solidFill>
                <a:latin typeface="Arial"/>
              </a:rPr>
              <a:t>no sibling intracranial</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emorrh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rst fetal bloo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ampling</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 wk estimated gestational age 20 wk estimated gestational ag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eatment 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plus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 </a:t>
            </a:r>
            <a:r>
              <a:rPr b="0" lang="en-US" sz="800" spc="-1" strike="noStrike">
                <a:solidFill>
                  <a:srgbClr val="ffffff"/>
                </a:solidFill>
                <a:latin typeface="Arial"/>
              </a:rPr>
              <a:t>IVIG 1 g/kg/wk</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fter sampling, randomize betwe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1 g/kg/wk </a:t>
            </a:r>
            <a:r>
              <a:rPr b="1" lang="en-US" sz="800" spc="-1" strike="noStrike">
                <a:solidFill>
                  <a:srgbClr val="ffffff"/>
                </a:solidFill>
                <a:latin typeface="Arial"/>
              </a:rPr>
              <a:t>or </a:t>
            </a: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udy definition o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ponse to therapy</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tal platelet count  25,000/mL3 at the time of the second sampling, provided that it ha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d by  10,000/mL3 from the value obtained at the first sampling </a:t>
            </a:r>
            <a:r>
              <a:rPr b="1" lang="en-US" sz="800" spc="-1" strike="noStrike">
                <a:solidFill>
                  <a:srgbClr val="ffffff"/>
                </a:solidFill>
                <a:latin typeface="Arial"/>
              </a:rPr>
              <a:t>or </a:t>
            </a:r>
            <a:r>
              <a:rPr b="0" lang="en-US" sz="800" spc="-1" strike="noStrike">
                <a:solidFill>
                  <a:srgbClr val="ffffff"/>
                </a:solidFill>
                <a:latin typeface="Arial"/>
              </a:rPr>
              <a:t>Fetal platelet</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nt  40,000/mL3 provided that it had not decreased by  10,000/mL3 from the previous</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val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nsification IVIG  prednisone arm: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dd prednisone 1 m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 arm: add IVIG 1 g/kg/d</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IG arm: A) add prednisone 1 mg/kg/d; B) if</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 response to IVIG and prednisone, then</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crease IVIG to 2 g/kg/wk and continu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f no response to IVIG and prednisone</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either arm, then increase IVIG to</a:t>
            </a:r>
            <a:endParaRPr b="0" lang="en-US" sz="800" spc="-1" strike="noStrike">
              <a:solidFill>
                <a:srgbClr val="ffffff"/>
              </a:solidFill>
              <a:latin typeface="Arial"/>
            </a:endParaRPr>
          </a:p>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 g/kg/wk and continue prednisone</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risk group appears to respond well to either IVIG 1 gm/kg/wk or prednisone 0.5 mg/kg/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tantial number of patients in the high-risk group with an initial count of less than 10,000/mL3 for whom IVIG 1 gm/kg/wk was shown to be inadequ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 therapy without knowing the fetal platelet count may be either unnecessary or inadequate. The former needlessly overtreats the mother while the latter allows the fetal platelet count to remain dangerously lo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etal-neonatal morbidity and mortality associated with fetal blood sampling was substantial (14% emergent delivery or death in utero due to serious PUBS com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6 Jan;107(1):91-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allel randomized trials of risk-based therapy for fetal alloimmune thrombocytope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kowitz RL, Kolb EA, McFarland JG, Wissert M, Primani A, Lesser M, Bussel J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omen with documented alloimmune thrombocytopenia, patients were randomized to receive either intravenous immunoglobulin (IVIG) 2 g/kg/wk (group A) or IVIG 1 g/kg/wk plus prednisone 0.5 mg/kg/d (group B), starting at approximately 20 weeks of gestation. Fetal blood sampling was performed at approximately 32 weeks of gestation, and those with fetal platelet counts less than 30,000/mL(3) were given salvage therapy (IVIG 2 g/kg/wk  plus prednisone 0.5 mg/kg/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Neonatal Alloimmune Thrombocytopenia (NAIT)</a:t>
            </a:r>
            <a:endParaRPr b="0" lang="en-US" sz="4000" spc="-1" strike="noStrike">
              <a:solidFill>
                <a:srgbClr val="cc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tet Gynecol. 2007 Aug;110(2 Pt 1):249-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partum treatment without early cordocentesis for standard-risk alloimmune thrombocytopenia: a randomized controlled t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Berkowitz R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2"/>
              </a:rPr>
              <a:t>Lesser ML</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3"/>
              </a:rPr>
              <a:t>McFarland JG</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4"/>
              </a:rPr>
              <a:t>Wissert M</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5"/>
              </a:rPr>
              <a:t>Primiani A</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6"/>
              </a:rPr>
              <a:t>Hung C</a:t>
            </a:r>
            <a:r>
              <a:rPr b="0" lang="en-US" sz="3200" spc="-1" strike="noStrike" u="sng">
                <a:solidFill>
                  <a:srgbClr val="ffffff"/>
                </a:solidFill>
                <a:uFillTx/>
                <a:latin typeface="Arial"/>
              </a:rPr>
              <a:t>, </a:t>
            </a:r>
            <a:r>
              <a:rPr b="0" lang="en-US" sz="3200" spc="-1" strike="noStrike" u="sng">
                <a:solidFill>
                  <a:srgbClr val="66ccff"/>
                </a:solidFill>
                <a:uFillTx/>
                <a:latin typeface="Arial"/>
                <a:hlinkClick r:id="rId7"/>
              </a:rPr>
              <a:t>Bussel JB</a:t>
            </a:r>
            <a:r>
              <a:rPr b="0" lang="en-US" sz="3200" spc="-1" strike="noStrike" u="sng">
                <a:solidFill>
                  <a:srgbClr val="ffffff"/>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telets</a:t>
            </a:r>
            <a:r>
              <a:rPr b="0" lang="en-US" sz="3200" spc="-1" strike="noStrike">
                <a:solidFill>
                  <a:srgbClr val="ffffff"/>
                </a:solidFill>
                <a:latin typeface="Arial"/>
              </a:rPr>
              <a:t>, or </a:t>
            </a:r>
            <a:r>
              <a:rPr b="1" lang="en-US" sz="3200" spc="-1" strike="noStrike">
                <a:solidFill>
                  <a:srgbClr val="ffffff"/>
                </a:solidFill>
                <a:latin typeface="Arial"/>
              </a:rPr>
              <a:t>thrombocytes</a:t>
            </a:r>
            <a:r>
              <a:rPr b="0" lang="en-US" sz="3200" spc="-1" strike="noStrike">
                <a:solidFill>
                  <a:srgbClr val="ffffff"/>
                </a:solidFill>
                <a:latin typeface="Arial"/>
              </a:rPr>
              <a:t> (from Greek θρόμβος — «clot» and κύτος — «c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telets produced in bone marrow from megakaryocyt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0-5000 platelets produced per megakaryoc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5,000-50,000 platelets/microL produced dai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10 day surviv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Platelet Cou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000-450,000/mic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be slightly decreased in pregnancy (Platelet count at term pregnancy: a reappraisal of the threshold. Boehlen F; Hohlfeld P; Extermann P; Perneger TV; de Moerloose P Obstet Gynecol. 2000 Jan;95(1):29-33.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auses of Thrombocytopenia in Pregnancy</a:t>
            </a:r>
            <a:endParaRPr b="0" lang="en-US" sz="40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ign Thrombocytopenia of Pregna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clamp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rug related, SLE, HIV, Antiphospholipid syndrome, Viral, TTP, HIT, pseudothrombocytopenia, DIC, Giant Cavernous Hemangioma (Kasabach-Merritt syndr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latelet count greater than 70,00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occurrence 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increase incidence of thrombocytopenia in newbor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ffect on pregnancy management with exception of possible steroid boost near term to allow for regional anesthes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enign Thrombocytopenia of Pregnancy</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and asymptomatic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ast history of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currence during late gest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association with fetal thrombocytopenia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taneous resolution after delive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mune Thrombocytopenic Purpura (ITP)</a:t>
            </a:r>
            <a:endParaRPr b="0" lang="en-US" sz="40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d cases clinically difficult to differentiate from benign thrombocytopenia of pregnanc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7:30:40Z</dcterms:created>
  <dc:creator>June</dc:creator>
  <dc:description/>
  <dc:language>en-US</dc:language>
  <cp:lastModifiedBy>June</cp:lastModifiedBy>
  <dcterms:modified xsi:type="dcterms:W3CDTF">2010-03-10T08:59:15Z</dcterms:modified>
  <cp:revision>10</cp:revision>
  <dc:subject/>
  <dc:title>Thrombocytopenia in Pregnancy</dc:title>
</cp:coreProperties>
</file>