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74411-2783-4D2A-876A-9A98676F3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C1E87-757A-490A-97E8-56259FD93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40145-366C-41A4-929D-A3E72ED97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F60A1-36E3-497C-90FD-44A88E528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B8F42-CE77-49DD-907C-71D4AB3A7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EA331-3D24-4CC0-AFE0-014E21232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CC623-078B-4818-BD34-3419F24B4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39787-8FC3-440A-9A55-9DBB61545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F830F-55E3-4D5D-BBC8-02880573E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9C03D-524F-4634-8411-8912ED3BF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F3625-FEFE-4C5C-9A45-764ED7D45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83852-1097-4BC8-B273-C4EC183E1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9D46-5096-4C01-9EC6-AB4EBE37AC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ncbi.nlm.nih.gov/pubmed?term=%22Berkowitz%20RL%22%5BAuthor%5D" TargetMode="External"/><Relationship Id="rId2" Type="http://schemas.openxmlformats.org/officeDocument/2006/relationships/hyperlink" Target="http://www.ncbi.nlm.nih.gov/pubmed?term=%22Lesser%20ML%22%5BAuthor%5D" TargetMode="External"/><Relationship Id="rId3" Type="http://schemas.openxmlformats.org/officeDocument/2006/relationships/hyperlink" Target="http://www.ncbi.nlm.nih.gov/pubmed?term=%22McFarland%20JG%22%5BAuthor%5D" TargetMode="External"/><Relationship Id="rId4" Type="http://schemas.openxmlformats.org/officeDocument/2006/relationships/hyperlink" Target="http://www.ncbi.nlm.nih.gov/pubmed?term=%22Wissert%20M%22%5BAuthor%5D" TargetMode="External"/><Relationship Id="rId5" Type="http://schemas.openxmlformats.org/officeDocument/2006/relationships/hyperlink" Target="http://www.ncbi.nlm.nih.gov/pubmed?term=%22Primiani%20A%22%5BAuthor%5D" TargetMode="External"/><Relationship Id="rId6" Type="http://schemas.openxmlformats.org/officeDocument/2006/relationships/hyperlink" Target="http://www.ncbi.nlm.nih.gov/pubmed?term=%22Hung%20C%22%5BAuthor%5D" TargetMode="External"/><Relationship Id="rId7" Type="http://schemas.openxmlformats.org/officeDocument/2006/relationships/hyperlink" Target="http://www.ncbi.nlm.nih.gov/pubmed?term=%22Bussel%20JB%22%5BAuthor%5D" TargetMode="External"/><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rombocytopenia in Pregnancy</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Marinoff, M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 10,20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d disor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d platelet count – otherwise normal CBC and sm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bvious alternative clinical condition or drug related et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platelet antibodies not required for diagno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demonstrable in all patients with IT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affect management decis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hogene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platelet destr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antibodies inhibit platelet produ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gically significant bleeding &lt;5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bleeding rare if platelets &gt;1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taneous remission common in children, rare in ad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 in 30,000-50,000 ran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 Safe platelet count to prevent major bleed, not normalized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tality &lt; 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bleeding risks in pregnancy – lower treatment thresho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dnisone 1mg/kg/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respond within one wee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lement with Calcium and Vitamin D if greater than 3 months R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esponsive – IVIG 1 gr/kg/day over 1-2 day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esponsive to medical therapy - splenecto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enectom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es primary site of destruction of antibody coated platel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s antiplatelet antibody prod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uccessful remission usually within two weeks of surg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5% long term remi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ection for obstetric indic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r correlation with maternal platelet count or fetal scalp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S is contraindicated – procedure related mortality significantly greater than disease related mort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eeclampsia</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develop thrombocytope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LP synd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y is treatmen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 nadir may occur post delivery – usually begins rising by day 3 after delive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aspirin and NSAID’s in patients with thrombocytopen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ibi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438280" y="1828800"/>
            <a:ext cx="3929040" cy="441972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nosaurs Became Extinct</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ife threatening thrombocytopenia</a:t>
            </a:r>
            <a:endParaRPr b="0" lang="en-US" sz="4000" spc="-1" strike="noStrike">
              <a:solidFill>
                <a:srgbClr val="cc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 transfu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IVI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ylpredniso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no response – recombinant factor VI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 </a:t>
            </a:r>
            <a:endParaRPr b="0" lang="en-US" sz="4000" spc="-1" strike="noStrike">
              <a:solidFill>
                <a:srgbClr val="ccffff"/>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ernal IgG crosses placenta and attacks foreign platelet antigen in fet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occur in first pregna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00-5000 bir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 is asymptomatic – normal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5-90% recurrence rate with increased sever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 </a:t>
            </a:r>
            <a:endParaRPr b="0" lang="en-US" sz="4000" spc="-1" strike="noStrike">
              <a:solidFill>
                <a:srgbClr val="ccffff"/>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 cases NAI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1a — 75 perce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5b — 16 perce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15b — 4 perce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and outcome of 200 cases of fetomaternal alloimmune thrombocytopenia. Ghevaert C; Campbell K; Walton J; Smith GA; Allen D; Williamson LM; Ouwehand WH; Ranasinghe E Transfusion. 2007 May;47(5):901-10.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able 2. Risk Stratification and Treatment Protoco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igh Risk Standard Risk</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ratification Initial fetal platelet count  20,000/mL3, </a:t>
            </a:r>
            <a:r>
              <a:rPr b="1" lang="en-US" sz="800" spc="-1" strike="noStrike">
                <a:solidFill>
                  <a:srgbClr val="ffffff"/>
                </a:solidFill>
                <a:latin typeface="Arial"/>
              </a:rPr>
              <a:t>or</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ibling with a perinatal intracrania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morrh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itial platelet count  20,000 /mL3,</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d </a:t>
            </a:r>
            <a:r>
              <a:rPr b="0" lang="en-US" sz="800" spc="-1" strike="noStrike">
                <a:solidFill>
                  <a:srgbClr val="ffffff"/>
                </a:solidFill>
                <a:latin typeface="Arial"/>
              </a:rPr>
              <a:t>no sibling intracrania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morrh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rst fetal bloo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ampling</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 wk estimated gestational age 20 wk estimated gestational 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eatment After sampling, randomize betwe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1 g/kg/wk plus prednisone 1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 </a:t>
            </a:r>
            <a:r>
              <a:rPr b="0" lang="en-US" sz="800" spc="-1" strike="noStrike">
                <a:solidFill>
                  <a:srgbClr val="ffffff"/>
                </a:solidFill>
                <a:latin typeface="Arial"/>
              </a:rPr>
              <a:t>IVIG 1 g/kg/wk</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fter sampling, randomize betwe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1 g/kg/wk </a:t>
            </a:r>
            <a:r>
              <a:rPr b="1" lang="en-US" sz="800" spc="-1" strike="noStrike">
                <a:solidFill>
                  <a:srgbClr val="ffffff"/>
                </a:solidFill>
                <a:latin typeface="Arial"/>
              </a:rPr>
              <a:t>or </a:t>
            </a:r>
            <a:r>
              <a:rPr b="0" lang="en-US" sz="800" spc="-1" strike="noStrike">
                <a:solidFill>
                  <a:srgbClr val="ffffff"/>
                </a:solidFill>
                <a:latin typeface="Arial"/>
              </a:rPr>
              <a:t>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udy definition of</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sponse to therapy</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tal platelet count  25,000/mL3 at the time of the second sampling, provided that it ha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creased by  10,000/mL3 from the value obtained at the first sampling </a:t>
            </a:r>
            <a:r>
              <a:rPr b="1" lang="en-US" sz="800" spc="-1" strike="noStrike">
                <a:solidFill>
                  <a:srgbClr val="ffffff"/>
                </a:solidFill>
                <a:latin typeface="Arial"/>
              </a:rPr>
              <a:t>or </a:t>
            </a:r>
            <a:r>
              <a:rPr b="0" lang="en-US" sz="800" spc="-1" strike="noStrike">
                <a:solidFill>
                  <a:srgbClr val="ffffff"/>
                </a:solidFill>
                <a:latin typeface="Arial"/>
              </a:rPr>
              <a:t>Fetal platelet</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unt  40,000/mL3 provided that it had not decreased by  10,000/mL3 from the previous</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valu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ensification IVIG  prednisone arm: increase IVIG to</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g/kg/wk and continue 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arm: add prednisone 1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rednisone arm: add IVIG 1 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arm: A) add prednisone 1 mg/kg/d; B) if</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o response to IVIG and prednisone, th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crease IVIG to 2 g/kg/wk and continu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f no response to IVIG and 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 either arm, then increase IVIG to</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g/kg/wk and continue prednisone</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risk group appears to respond well to either IVIG 1 gm/kg/wk or prednisone 0.5 mg/kg/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tantial number of patients in the high-risk group with an initial count of less than 10,000/mL3 for whom IVIG 1 gm/kg/wk was shown to be inadequa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 therapy without knowing the fetal platelet count may be either unnecessary or inadequate. The former needlessly overtreats the mother while the latter allows the fetal platelet count to remain dangerously l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etal-neonatal morbidity and mortality associated with fetal blood sampling was substantial (14% emergent delivery or death in utero due to serious PUBS compl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tet Gynecol. 2006 Jan;107(1):91-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allel randomized trials of risk-based therapy for fetal alloimmune thrombocytope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rkowitz RL, Kolb EA, McFarland JG, Wissert M, Primani A, Lesser M, Bussel J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 women with documented alloimmune thrombocytopenia, patients were randomized to receive either intravenous immunoglobulin (IVIG) 2 g/kg/wk (group A) or IVIG 1 g/kg/wk plus prednisone 0.5 mg/kg/d (group B), starting at approximately 20 weeks of gestation. Fetal blood sampling was performed at approximately 32 weeks of gestation, and those with fetal platelet counts less than 30,000/mL(3) were given salvage therapy (IVIG 2 g/kg/wk  plus prednisone 0.5 mg/kg/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tet Gynecol. 2007 Aug;110(2 Pt 1):249-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partum treatment without early cordocentesis for standard-risk alloimmune thrombocytopenia: a randomized controlled tr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Berkowitz RL</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2"/>
              </a:rPr>
              <a:t>Lesser ML</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3"/>
              </a:rPr>
              <a:t>McFarland JG</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4"/>
              </a:rPr>
              <a:t>Wissert M</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5"/>
              </a:rPr>
              <a:t>Primiani A</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6"/>
              </a:rPr>
              <a:t>Hung C</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7"/>
              </a:rPr>
              <a:t>Bussel JB</a:t>
            </a:r>
            <a:r>
              <a:rPr b="0" lang="en-US" sz="3200" spc="-1" strike="noStrike" u="sng">
                <a:solidFill>
                  <a:srgbClr val="ffffff"/>
                </a:solidFill>
                <a:uFillTx/>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telets</a:t>
            </a:r>
            <a:r>
              <a:rPr b="0" lang="en-US" sz="3200" spc="-1" strike="noStrike">
                <a:solidFill>
                  <a:srgbClr val="ffffff"/>
                </a:solidFill>
                <a:latin typeface="Arial"/>
              </a:rPr>
              <a:t>, or </a:t>
            </a:r>
            <a:r>
              <a:rPr b="1" lang="en-US" sz="3200" spc="-1" strike="noStrike">
                <a:solidFill>
                  <a:srgbClr val="ffffff"/>
                </a:solidFill>
                <a:latin typeface="Arial"/>
              </a:rPr>
              <a:t>thrombocytes</a:t>
            </a:r>
            <a:r>
              <a:rPr b="0" lang="en-US" sz="3200" spc="-1" strike="noStrike">
                <a:solidFill>
                  <a:srgbClr val="ffffff"/>
                </a:solidFill>
                <a:latin typeface="Arial"/>
              </a:rPr>
              <a:t> (from Greek θρόμβος — «clot» and κύτος — «ce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s produced in bone marrow from megakaryocy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5000 platelets produced per megakaryoc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5,000-50,000 platelets/microL produced dai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10 day surviv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00-450,000/micr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be slightly decreased in pregnancy (Platelet count at term pregnancy: a reappraisal of the threshold. Boehlen F; Hohlfeld P; Extermann P; Perneger TV; de Moerloose P Obstet Gynecol. 2000 Jan;95(1):29-33.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uses of Thrombocytopenia in Pregnancy</a:t>
            </a:r>
            <a:endParaRPr b="0" lang="en-US" sz="4000" spc="-1" strike="noStrike">
              <a:solidFill>
                <a:srgbClr val="cc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ign Thrombocytopenia of Pregna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eclamps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Drug related, SLE, HIV, Antiphospholipid syndrome, Viral, TTP, HIT, pseudothrombocytopenia, DIC, Giant Cavernous Hemangioma (Kasabach-Merritt syndr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enign Thrombocytopenia of Pregnancy</a:t>
            </a:r>
            <a:endParaRPr b="0" lang="en-US" sz="4000" spc="-1" strike="noStrike">
              <a:solidFill>
                <a:srgbClr val="cc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latelet count greater than 7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occurrence r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not increase incidence of thrombocytopenia in newbor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ffect on pregnancy management with exception of possible steroid boost near term to allow for regional anesthes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enign Thrombocytopenia of Pregnancy</a:t>
            </a:r>
            <a:endParaRPr b="0" lang="en-US" sz="40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d and asymptomatic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ast history of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currence during late gest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ssociation with fetal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taneous resolution after delive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d cases clinically difficult to differentiate from benign thrombocytopenia of pregnanc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07:30:40Z</dcterms:created>
  <dc:creator>June</dc:creator>
  <dc:description/>
  <dc:language>en-US</dc:language>
  <cp:lastModifiedBy>June</cp:lastModifiedBy>
  <dcterms:modified xsi:type="dcterms:W3CDTF">2010-03-10T08:59:15Z</dcterms:modified>
  <cp:revision>10</cp:revision>
  <dc:subject/>
  <dc:title>Thrombocytopenia in Pregnancy</dc:title>
</cp:coreProperties>
</file>