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088ED-7EFE-46FA-A671-3436679F9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AF9C-9285-4B7F-8F4F-D8BC6AC08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66893-B67D-4DF1-B581-004631BC6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DCAAB-3EA3-4738-A9CB-B675AE80D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4E94-0A97-4092-B51F-DFD38686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2FE97-FD24-4EC7-B168-DA87B9486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5999F-0258-4C43-BF6E-4F489CCA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6EEA7-DEE6-45B5-813F-CE85F7D2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1BFF0-29F4-4301-968D-C2A844E9F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DD33-E3CA-497F-B9FB-4E5A8963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815A-D5BC-4979-8A83-A89FA97E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8644-900A-4868-9C54-6E6C75845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6D54-EEC9-426B-B7A0-35F3698269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ncbi.nlm.nih.gov/pubmed?term=%22Berkowitz%20RL%22%5BAuthor%5D" TargetMode="External"/><Relationship Id="rId2" Type="http://schemas.openxmlformats.org/officeDocument/2006/relationships/hyperlink" Target="http://www.ncbi.nlm.nih.gov/pubmed?term=%22Lesser%20ML%22%5BAuthor%5D" TargetMode="External"/><Relationship Id="rId3" Type="http://schemas.openxmlformats.org/officeDocument/2006/relationships/hyperlink" Target="http://www.ncbi.nlm.nih.gov/pubmed?term=%22McFarland%20JG%22%5BAuthor%5D" TargetMode="External"/><Relationship Id="rId4" Type="http://schemas.openxmlformats.org/officeDocument/2006/relationships/hyperlink" Target="http://www.ncbi.nlm.nih.gov/pubmed?term=%22Wissert%20M%22%5BAuthor%5D" TargetMode="External"/><Relationship Id="rId5" Type="http://schemas.openxmlformats.org/officeDocument/2006/relationships/hyperlink" Target="http://www.ncbi.nlm.nih.gov/pubmed?term=%22Primiani%20A%22%5BAuthor%5D" TargetMode="External"/><Relationship Id="rId6" Type="http://schemas.openxmlformats.org/officeDocument/2006/relationships/hyperlink" Target="http://www.ncbi.nlm.nih.gov/pubmed?term=%22Hung%20C%22%5BAuthor%5D" TargetMode="External"/><Relationship Id="rId7" Type="http://schemas.openxmlformats.org/officeDocument/2006/relationships/hyperlink" Target="http://www.ncbi.nlm.nih.gov/pubmed?term=%22Bussel%20JB%22%5BAuthor%5D"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ombocytopenia in Pregnanc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Marinoff,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10,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diso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latelet count – otherwise normal CBC and sm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bvious alternative clinical condition or drug related et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latelet antibodies not required f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emonstrable in all patients with 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ffect management deci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latelet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 inhibit platelet p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ically significant bleeding &lt;5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bleeding rare if platelets &gt;1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mission common in children, rar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in 30,000-50,000 r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 Safe platelet count to prevent major bleed, not normalized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ty &lt;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leeding risks in pregnancy – lower treatment thresh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mg/kg/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pond within one wee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 with Calcium and Vitamin D if greater than 3 months R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 IVIG 1 gr/kg/day over 1-2 d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to medical therapy - splenect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ectom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primary site of destruction of antibody coated plate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s antiplatelet antibody p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remission usually within two weeks of surg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long term rem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ection for obstetric ind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correlation with maternal platelet count or fetal scalp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S is contraindicated – procedure related mortality significantly greater than disease related mort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eclampsia</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develop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P synd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y is treatme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nadir may occur post delivery – usually begins rising by day 3 after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pirin and NSAID’s in patients with thrombocytopen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ibi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1828800"/>
            <a:ext cx="3929040" cy="44197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nosaurs Became Extinct</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threatening thrombocytopenia</a:t>
            </a:r>
            <a:endParaRPr b="0" lang="en-US" sz="4000" spc="-1" strike="noStrike">
              <a:solidFill>
                <a:srgbClr val="cc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transfu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IVI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ylpredniso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 response – recombinant factor VI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 IgG crosses placenta and attacks foreign platelet antigen in fe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in first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5000 bir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is asymptomatic – 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90% recurrence rate with increased seve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cases NA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a — 75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5b — 16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5b — 4 perc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and outcome of 200 cases of fetomaternal alloimmune thrombocytopenia. Ghevaert C; Campbell K; Walton J; Smith GA; Allen D; Williamson LM; Ouwehand WH; Ranasinghe E Transfusion. 2007 May;47(5):901-10.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ble 2. Risk Stratification and Treatment Protoco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igh Risk Standard Ris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ratification Initial fetal platelet count  20,000/mL3, </a:t>
            </a:r>
            <a:r>
              <a:rPr b="1" lang="en-US" sz="800" spc="-1" strike="noStrike">
                <a:solidFill>
                  <a:srgbClr val="ffffff"/>
                </a:solidFill>
                <a:latin typeface="Arial"/>
              </a:rPr>
              <a:t>or</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bling with a perinatal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itial platelet count  20,000 /mL3,</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d </a:t>
            </a:r>
            <a:r>
              <a:rPr b="0" lang="en-US" sz="800" spc="-1" strike="noStrike">
                <a:solidFill>
                  <a:srgbClr val="ffffff"/>
                </a:solidFill>
                <a:latin typeface="Arial"/>
              </a:rPr>
              <a:t>no sibling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rst fetal bloo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ampling</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 wk estimated gestational age 20 wk estimated gestational 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eatment 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plus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 </a:t>
            </a:r>
            <a:r>
              <a:rPr b="0" lang="en-US" sz="800" spc="-1" strike="noStrike">
                <a:solidFill>
                  <a:srgbClr val="ffffff"/>
                </a:solidFill>
                <a:latin typeface="Arial"/>
              </a:rPr>
              <a:t>IVIG 1 g/kg/w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a:t>
            </a:r>
            <a:r>
              <a:rPr b="1" lang="en-US" sz="800" spc="-1" strike="noStrike">
                <a:solidFill>
                  <a:srgbClr val="ffffff"/>
                </a:solidFill>
                <a:latin typeface="Arial"/>
              </a:rPr>
              <a:t>or </a:t>
            </a: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udy definition o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onse to therapy</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tal platelet count  25,000/mL3 at the time of the second sampling, provided that it ha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d by  10,000/mL3 from the value obtained at the first sampling </a:t>
            </a:r>
            <a:r>
              <a:rPr b="1" lang="en-US" sz="800" spc="-1" strike="noStrike">
                <a:solidFill>
                  <a:srgbClr val="ffffff"/>
                </a:solidFill>
                <a:latin typeface="Arial"/>
              </a:rPr>
              <a:t>or </a:t>
            </a:r>
            <a:r>
              <a:rPr b="0" lang="en-US" sz="800" spc="-1" strike="noStrike">
                <a:solidFill>
                  <a:srgbClr val="ffffff"/>
                </a:solidFill>
                <a:latin typeface="Arial"/>
              </a:rPr>
              <a:t>Fetal platelet</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nt  40,000/mL3 provided that it had not decreased by  10,000/mL3 from the previous</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al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nsification IVIG  prednisone arm: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dd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 arm: add IVIG 1 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 add prednisone 1 mg/kg/d; B) i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 response to IVIG and prednisone, th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 IVIG to 2 g/kg/wk and contin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no response to IVIG and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either arm, then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risk group appears to respond well to either IVIG 1 gm/kg/wk or prednisone 0.5 mg/kg/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number of patients in the high-risk group with an initial count of less than 10,000/mL3 for whom IVIG 1 gm/kg/wk was shown to be inadequ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 therapy without knowing the fetal platelet count may be either unnecessary or inadequate. The former needlessly overtreats the mother while the latter allows the fetal platelet count to remain dangerously l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etal-neonatal morbidity and mortality associated with fetal blood sampling was substantial (14% emergent delivery or death in utero due to serious PUBS com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6 Jan;107(1):9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llel randomized trials of risk-based therapy for fetal alloimmune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kowitz RL, Kolb EA, McFarland JG, Wissert M, Primani A, Lesser M, Bussel J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omen with documented alloimmune thrombocytopenia, patients were randomized to receive either intravenous immunoglobulin (IVIG) 2 g/kg/wk (group A) or IVIG 1 g/kg/wk plus prednisone 0.5 mg/kg/d (group B), starting at approximately 20 weeks of gestation. Fetal blood sampling was performed at approximately 32 weeks of gestation, and those with fetal platelet counts less than 30,000/mL(3) were given salvage therapy (IVIG 2 g/kg/wk  plus prednisone 0.5 mg/k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7 Aug;110(2 Pt 1):249-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partum treatment without early cordocentesis for standard-risk alloimmune thrombocytopenia: a randomized controlled t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Berkowitz R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2"/>
              </a:rPr>
              <a:t>Lesser M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3"/>
              </a:rPr>
              <a:t>McFarland JG</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4"/>
              </a:rPr>
              <a:t>Wissert M</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5"/>
              </a:rPr>
              <a:t>Primiani A</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6"/>
              </a:rPr>
              <a:t>Hung C</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7"/>
              </a:rPr>
              <a:t>Bussel JB</a:t>
            </a:r>
            <a:r>
              <a:rPr b="0"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telets</a:t>
            </a:r>
            <a:r>
              <a:rPr b="0" lang="en-US" sz="3200" spc="-1" strike="noStrike">
                <a:solidFill>
                  <a:srgbClr val="ffffff"/>
                </a:solidFill>
                <a:latin typeface="Arial"/>
              </a:rPr>
              <a:t>, or </a:t>
            </a:r>
            <a:r>
              <a:rPr b="1" lang="en-US" sz="3200" spc="-1" strike="noStrike">
                <a:solidFill>
                  <a:srgbClr val="ffffff"/>
                </a:solidFill>
                <a:latin typeface="Arial"/>
              </a:rPr>
              <a:t>thrombocytes</a:t>
            </a:r>
            <a:r>
              <a:rPr b="0" lang="en-US" sz="3200" spc="-1" strike="noStrike">
                <a:solidFill>
                  <a:srgbClr val="ffffff"/>
                </a:solidFill>
                <a:latin typeface="Arial"/>
              </a:rPr>
              <a:t> (from Greek θρόμβος — «clot» and κύτος — «c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s produced in bone marrow from megakaryocy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5000 platelets produced per megakaryoc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00-50,000 platelets/microL produced da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0 day surviv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00-450,000/mic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slightly decreased in pregnancy (Platelet count at term pregnancy: a reappraisal of the threshold. Boehlen F; Hohlfeld P; Extermann P; Perneger TV; de Moerloose P Obstet Gynecol. 2000 Jan;95(1):29-33.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uses of Thrombocytopenia in Pregnancy</a:t>
            </a:r>
            <a:endParaRPr b="0" lang="en-US" sz="40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Thrombocytopenia of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rug related, SLE, HIV, Antiphospholipid syndrome, Viral, TTP, HIT, pseudothrombocytopenia, DIC, Giant Cavernous Hemangioma (Kasabach-Merritt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latelet count greater than 7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ccurrence 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increase incidence of thrombocytopenia in new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 on pregnancy management with exception of possible steroid boost near term to allow for regional anesthes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and asymptomatic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ast history of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rrence during late gest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ssociation with fetal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solution after delive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cases clinically difficult to differentiate from benign thrombocytopenia of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7:30:40Z</dcterms:created>
  <dc:creator>June</dc:creator>
  <dc:description/>
  <dc:language>en-US</dc:language>
  <cp:lastModifiedBy>June</cp:lastModifiedBy>
  <dcterms:modified xsi:type="dcterms:W3CDTF">2010-03-10T08:59:15Z</dcterms:modified>
  <cp:revision>10</cp:revision>
  <dc:subject/>
  <dc:title>Thrombocytopenia in Pregnancy</dc:title>
</cp:coreProperties>
</file>