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850C97-3883-4900-9CC7-D9C8CABF4F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048D12-7433-4BB4-AA5C-CA0401EE76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565D40-9B6F-43BA-A651-8B0411B41D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34698C-5A50-4959-A3CC-CEC3215817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4680D2-5286-441F-AB45-8D1DF89091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B99893-1D31-4B62-829C-BC19DC7C46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F34D97-9849-4E17-B9E1-221A2BE87B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1B8C00-E533-4AE7-A031-51E9B98A79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BE06CD-0600-429C-B13A-8A250CE67A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719A0-D50F-4786-8633-14598131C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F2A9C-3E8E-4145-A566-FFA636FF9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BF20B-99BE-4C99-B164-66D52C6998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4C2AE-4308-425C-94D3-4A0FD5C45D0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www.ncbi.nlm.nih.gov/pubmed?term=%22Berkowitz%20RL%22%5BAuthor%5D" TargetMode="External"/><Relationship Id="rId2" Type="http://schemas.openxmlformats.org/officeDocument/2006/relationships/hyperlink" Target="http://www.ncbi.nlm.nih.gov/pubmed?term=%22Lesser%20ML%22%5BAuthor%5D" TargetMode="External"/><Relationship Id="rId3" Type="http://schemas.openxmlformats.org/officeDocument/2006/relationships/hyperlink" Target="http://www.ncbi.nlm.nih.gov/pubmed?term=%22McFarland%20JG%22%5BAuthor%5D" TargetMode="External"/><Relationship Id="rId4" Type="http://schemas.openxmlformats.org/officeDocument/2006/relationships/hyperlink" Target="http://www.ncbi.nlm.nih.gov/pubmed?term=%22Wissert%20M%22%5BAuthor%5D" TargetMode="External"/><Relationship Id="rId5" Type="http://schemas.openxmlformats.org/officeDocument/2006/relationships/hyperlink" Target="http://www.ncbi.nlm.nih.gov/pubmed?term=%22Primiani%20A%22%5BAuthor%5D" TargetMode="External"/><Relationship Id="rId6" Type="http://schemas.openxmlformats.org/officeDocument/2006/relationships/hyperlink" Target="http://www.ncbi.nlm.nih.gov/pubmed?term=%22Hung%20C%22%5BAuthor%5D" TargetMode="External"/><Relationship Id="rId7" Type="http://schemas.openxmlformats.org/officeDocument/2006/relationships/hyperlink" Target="http://www.ncbi.nlm.nih.gov/pubmed?term=%22Bussel%20JB%22%5BAuthor%5D" TargetMode="External"/><Relationship Id="rId8"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rombocytopenia in Pregnancy</a:t>
            </a:r>
            <a:endParaRPr b="0" lang="en-US" sz="4400" spc="-1" strike="noStrike">
              <a:solidFill>
                <a:srgbClr val="ccffff"/>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vid Marinoff, MD</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ch 10,20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mmune Thrombocytopenic Purpura (ITP)</a:t>
            </a:r>
            <a:endParaRPr b="0" lang="en-US" sz="4000" spc="-1" strike="noStrike">
              <a:solidFill>
                <a:srgbClr val="ccffff"/>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quired disord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reased platelet count – otherwise normal CBC and smea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obvious alternative clinical condition or drug related etiolog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mmune Thrombocytopenic Purpura (ITP)</a:t>
            </a:r>
            <a:endParaRPr b="0" lang="en-US" sz="4000" spc="-1" strike="noStrike">
              <a:solidFill>
                <a:srgbClr val="ccffff"/>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tiplatelet antibodies not required for diagnosi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 demonstrable in all patients with ITP</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affect management decision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mmune Thrombocytopenic Purpura (ITP)</a:t>
            </a:r>
            <a:endParaRPr b="0" lang="en-US" sz="4000" spc="-1" strike="noStrike">
              <a:solidFill>
                <a:srgbClr val="ccffff"/>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thogenesi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ased platelet destruc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utoantibodies inhibit platelet produc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mmune Thrombocytopenic Purpura (ITP)</a:t>
            </a:r>
            <a:endParaRPr b="0" lang="en-US" sz="4000" spc="-1" strike="noStrike">
              <a:solidFill>
                <a:srgbClr val="ccffff"/>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rgically significant bleeding &lt;50,00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gnificant bleeding rare if platelets &gt;10,00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ontaneous remission common in children, rare in adul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mmune Thrombocytopenic Purpura (ITP)</a:t>
            </a:r>
            <a:endParaRPr b="0" lang="en-US" sz="4000" spc="-1" strike="noStrike">
              <a:solidFill>
                <a:srgbClr val="ccffff"/>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atme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at in 30,000-50,000 rang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 – Safe platelet count to prevent major bleed, not normalized cou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tality &lt; 1%</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ased bleeding risks in pregnancy – lower treatment threshol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dnisone 1mg/kg/da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respond within one week</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plement with Calcium and Vitamin D if greater than 3 months Rx</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responsive – IVIG 1 gr/kg/day over 1-2 day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responsive to medical therapy - splenectom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lenectom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moves primary site of destruction of antibody coated platele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reases antiplatelet antibody produc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successful remission usually within two weeks of surge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5% long term remiss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mmune Thrombocytopenic Purpura (ITP)</a:t>
            </a:r>
            <a:endParaRPr b="0" lang="en-US" sz="4000" spc="-1" strike="noStrike">
              <a:solidFill>
                <a:srgbClr val="ccffff"/>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Section for obstetric indica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or correlation with maternal platelet count or fetal scalp platelet cou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BS is contraindicated – procedure related mortality significantly greater than disease related mortal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reeclampsia</a:t>
            </a:r>
            <a:endParaRPr b="0" lang="en-US" sz="4400" spc="-1" strike="noStrike">
              <a:solidFill>
                <a:srgbClr val="ccffff"/>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 develop thrombocytopeni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LLP syndrom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livery is treatmen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telet nadir may occur post delivery – usually begins rising by day 3 after deliver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oid aspirin and NSAID’s in patients with thrombocytopeni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hibit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2438280" y="1828800"/>
            <a:ext cx="3929040" cy="441972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ow Dinosaurs Became Extinct</a:t>
            </a:r>
            <a:endParaRPr b="0" lang="en-US" sz="44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Life threatening thrombocytopenia</a:t>
            </a:r>
            <a:endParaRPr b="0" lang="en-US" sz="4000" spc="-1" strike="noStrike">
              <a:solidFill>
                <a:srgbClr val="ccffff"/>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telet transfus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current IVI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thylprednisolon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no response – recombinant factor VII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Neonatal Alloimmune Thrombocytopenia (NAIT) </a:t>
            </a:r>
            <a:endParaRPr b="0" lang="en-US" sz="4000" spc="-1" strike="noStrike">
              <a:solidFill>
                <a:srgbClr val="ccffff"/>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ernal IgG crosses placenta and attacks foreign platelet antigen in fet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occur in first pregnanc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1000-5000 birth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ther is asymptomatic – normal platelet cou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75-90% recurrence rate with increased severit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Neonatal Alloimmune Thrombocytopenia (NAIT) </a:t>
            </a:r>
            <a:endParaRPr b="0" lang="en-US" sz="4000" spc="-1" strike="noStrike">
              <a:solidFill>
                <a:srgbClr val="ccffff"/>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 cases NAI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ti-HPA-1a — 75 percent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ti-HPA-5b — 16 percent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ti-HPA-15b — 4 percen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agement and outcome of 200 cases of fetomaternal alloimmune thrombocytopenia. Ghevaert C; Campbell K; Walton J; Smith GA; Allen D; Williamson LM; Ouwehand WH; Ranasinghe E Transfusion. 2007 May;47(5):901-10.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Neonatal Alloimmune Thrombocytopenia (NAIT)</a:t>
            </a:r>
            <a:endParaRPr b="0" lang="en-US" sz="4000" spc="-1" strike="noStrike">
              <a:solidFill>
                <a:srgbClr val="ccffff"/>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able 2. Risk Stratification and Treatment Protocol</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igh Risk Standard Risk</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tratification Initial fetal platelet count  20,000/mL3, </a:t>
            </a:r>
            <a:r>
              <a:rPr b="1" lang="en-US" sz="800" spc="-1" strike="noStrike">
                <a:solidFill>
                  <a:srgbClr val="ffffff"/>
                </a:solidFill>
                <a:latin typeface="Arial"/>
              </a:rPr>
              <a:t>or</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ibling with a perinatal intracranial</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emorrhage</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nitial platelet count  20,000 /mL3,</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nd </a:t>
            </a:r>
            <a:r>
              <a:rPr b="0" lang="en-US" sz="800" spc="-1" strike="noStrike">
                <a:solidFill>
                  <a:srgbClr val="ffffff"/>
                </a:solidFill>
                <a:latin typeface="Arial"/>
              </a:rPr>
              <a:t>no sibling intracranial</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emorrhage</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irst fetal blood</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ampling</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0 wk estimated gestational age 20 wk estimated gestational age</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reatment After sampling, randomize between:</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VIG 1 g/kg/wk plus prednisone 1 mg/kg/d</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r </a:t>
            </a:r>
            <a:r>
              <a:rPr b="0" lang="en-US" sz="800" spc="-1" strike="noStrike">
                <a:solidFill>
                  <a:srgbClr val="ffffff"/>
                </a:solidFill>
                <a:latin typeface="Arial"/>
              </a:rPr>
              <a:t>IVIG 1 g/kg/wk</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fter sampling, randomize between:</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VIG 1 g/kg/wk </a:t>
            </a:r>
            <a:r>
              <a:rPr b="1" lang="en-US" sz="800" spc="-1" strike="noStrike">
                <a:solidFill>
                  <a:srgbClr val="ffffff"/>
                </a:solidFill>
                <a:latin typeface="Arial"/>
              </a:rPr>
              <a:t>or </a:t>
            </a:r>
            <a:r>
              <a:rPr b="0" lang="en-US" sz="800" spc="-1" strike="noStrike">
                <a:solidFill>
                  <a:srgbClr val="ffffff"/>
                </a:solidFill>
                <a:latin typeface="Arial"/>
              </a:rPr>
              <a:t>prednisone</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5 mg/kg/d</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tudy definition of</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esponse to therapy</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etal platelet count  25,000/mL3 at the time of the second sampling, provided that it had</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ncreased by  10,000/mL3 from the value obtained at the first sampling </a:t>
            </a:r>
            <a:r>
              <a:rPr b="1" lang="en-US" sz="800" spc="-1" strike="noStrike">
                <a:solidFill>
                  <a:srgbClr val="ffffff"/>
                </a:solidFill>
                <a:latin typeface="Arial"/>
              </a:rPr>
              <a:t>or </a:t>
            </a:r>
            <a:r>
              <a:rPr b="0" lang="en-US" sz="800" spc="-1" strike="noStrike">
                <a:solidFill>
                  <a:srgbClr val="ffffff"/>
                </a:solidFill>
                <a:latin typeface="Arial"/>
              </a:rPr>
              <a:t>Fetal platelet</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unt  40,000/mL3 provided that it had not decreased by  10,000/mL3 from the previous</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value</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ntensification IVIG  prednisone arm: increase IVIG to</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 g/kg/wk and continue prednisone</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VIG arm: add prednisone 1 mg/kg/d</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rednisone arm: add IVIG 1 g/kg/d</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VIG arm: A) add prednisone 1 mg/kg/d; B) if</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no response to IVIG and prednisone, then</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ncrease IVIG to 2 g/kg/wk and continue</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rednisone</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f no response to IVIG and prednisone</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n either arm, then increase IVIG to</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 g/kg/wk and continue prednisone</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Neonatal Alloimmune Thrombocytopenia (NAIT)</a:t>
            </a:r>
            <a:endParaRPr b="0" lang="en-US" sz="4000" spc="-1" strike="noStrike">
              <a:solidFill>
                <a:srgbClr val="ccffff"/>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risk group appears to respond well to either IVIG 1 gm/kg/wk or prednisone 0.5 mg/kg/d.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bstantial number of patients in the high-risk group with an initial count of less than 10,000/mL3 for whom IVIG 1 gm/kg/wk was shown to be inadequat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Neonatal Alloimmune Thrombocytopenia (NAIT)</a:t>
            </a:r>
            <a:endParaRPr b="0" lang="en-US" sz="4000" spc="-1" strike="noStrike">
              <a:solidFill>
                <a:srgbClr val="ccffff"/>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piric therapy without knowing the fetal platelet count may be either unnecessary or inadequate. The former needlessly overtreats the mother while the latter allows the fetal platelet count to remain dangerously low.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etal-neonatal morbidity and mortality associated with fetal blood sampling was substantial (14% emergent delivery or death in utero due to serious PUBS complic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Neonatal Alloimmune Thrombocytopenia (NAIT)</a:t>
            </a:r>
            <a:endParaRPr b="0" lang="en-US" sz="4000" spc="-1" strike="noStrike">
              <a:solidFill>
                <a:srgbClr val="ccffff"/>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stet Gynecol. 2006 Jan;107(1):91-6.</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rallel randomized trials of risk-based therapy for fetal alloimmune thrombocytopeni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rkowitz RL, Kolb EA, McFarland JG, Wissert M, Primani A, Lesser M, Bussel J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Neonatal Alloimmune Thrombocytopenia (NAIT)</a:t>
            </a:r>
            <a:endParaRPr b="0" lang="en-US" sz="4000" spc="-1" strike="noStrike">
              <a:solidFill>
                <a:srgbClr val="ccffff"/>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3 women with documented alloimmune thrombocytopenia, patients were randomized to receive either intravenous immunoglobulin (IVIG) 2 g/kg/wk (group A) or IVIG 1 g/kg/wk plus prednisone 0.5 mg/kg/d (group B), starting at approximately 20 weeks of gestation. Fetal blood sampling was performed at approximately 32 weeks of gestation, and those with fetal platelet counts less than 30,000/mL(3) were given salvage therapy (IVIG 2 g/kg/wk  plus prednisone 0.5 mg/kg/da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Neonatal Alloimmune Thrombocytopenia (NAIT)</a:t>
            </a:r>
            <a:endParaRPr b="0" lang="en-US" sz="4000" spc="-1" strike="noStrike">
              <a:solidFill>
                <a:srgbClr val="ccffff"/>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stet Gynecol. 2007 Aug;110(2 Pt 1):249-55.</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tepartum treatment without early cordocentesis for standard-risk alloimmune thrombocytopenia: a randomized controlled tri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ccff"/>
                </a:solidFill>
                <a:uFillTx/>
                <a:latin typeface="Arial"/>
                <a:hlinkClick r:id="rId1"/>
              </a:rPr>
              <a:t>Berkowitz RL</a:t>
            </a:r>
            <a:r>
              <a:rPr b="0" lang="en-US" sz="3200" spc="-1" strike="noStrike" u="sng">
                <a:solidFill>
                  <a:srgbClr val="ffffff"/>
                </a:solidFill>
                <a:uFillTx/>
                <a:latin typeface="Arial"/>
              </a:rPr>
              <a:t>, </a:t>
            </a:r>
            <a:r>
              <a:rPr b="0" lang="en-US" sz="3200" spc="-1" strike="noStrike" u="sng">
                <a:solidFill>
                  <a:srgbClr val="66ccff"/>
                </a:solidFill>
                <a:uFillTx/>
                <a:latin typeface="Arial"/>
                <a:hlinkClick r:id="rId2"/>
              </a:rPr>
              <a:t>Lesser ML</a:t>
            </a:r>
            <a:r>
              <a:rPr b="0" lang="en-US" sz="3200" spc="-1" strike="noStrike" u="sng">
                <a:solidFill>
                  <a:srgbClr val="ffffff"/>
                </a:solidFill>
                <a:uFillTx/>
                <a:latin typeface="Arial"/>
              </a:rPr>
              <a:t>, </a:t>
            </a:r>
            <a:r>
              <a:rPr b="0" lang="en-US" sz="3200" spc="-1" strike="noStrike" u="sng">
                <a:solidFill>
                  <a:srgbClr val="66ccff"/>
                </a:solidFill>
                <a:uFillTx/>
                <a:latin typeface="Arial"/>
                <a:hlinkClick r:id="rId3"/>
              </a:rPr>
              <a:t>McFarland JG</a:t>
            </a:r>
            <a:r>
              <a:rPr b="0" lang="en-US" sz="3200" spc="-1" strike="noStrike" u="sng">
                <a:solidFill>
                  <a:srgbClr val="ffffff"/>
                </a:solidFill>
                <a:uFillTx/>
                <a:latin typeface="Arial"/>
              </a:rPr>
              <a:t>, </a:t>
            </a:r>
            <a:r>
              <a:rPr b="0" lang="en-US" sz="3200" spc="-1" strike="noStrike" u="sng">
                <a:solidFill>
                  <a:srgbClr val="66ccff"/>
                </a:solidFill>
                <a:uFillTx/>
                <a:latin typeface="Arial"/>
                <a:hlinkClick r:id="rId4"/>
              </a:rPr>
              <a:t>Wissert M</a:t>
            </a:r>
            <a:r>
              <a:rPr b="0" lang="en-US" sz="3200" spc="-1" strike="noStrike" u="sng">
                <a:solidFill>
                  <a:srgbClr val="ffffff"/>
                </a:solidFill>
                <a:uFillTx/>
                <a:latin typeface="Arial"/>
              </a:rPr>
              <a:t>, </a:t>
            </a:r>
            <a:r>
              <a:rPr b="0" lang="en-US" sz="3200" spc="-1" strike="noStrike" u="sng">
                <a:solidFill>
                  <a:srgbClr val="66ccff"/>
                </a:solidFill>
                <a:uFillTx/>
                <a:latin typeface="Arial"/>
                <a:hlinkClick r:id="rId5"/>
              </a:rPr>
              <a:t>Primiani A</a:t>
            </a:r>
            <a:r>
              <a:rPr b="0" lang="en-US" sz="3200" spc="-1" strike="noStrike" u="sng">
                <a:solidFill>
                  <a:srgbClr val="ffffff"/>
                </a:solidFill>
                <a:uFillTx/>
                <a:latin typeface="Arial"/>
              </a:rPr>
              <a:t>, </a:t>
            </a:r>
            <a:r>
              <a:rPr b="0" lang="en-US" sz="3200" spc="-1" strike="noStrike" u="sng">
                <a:solidFill>
                  <a:srgbClr val="66ccff"/>
                </a:solidFill>
                <a:uFillTx/>
                <a:latin typeface="Arial"/>
                <a:hlinkClick r:id="rId6"/>
              </a:rPr>
              <a:t>Hung C</a:t>
            </a:r>
            <a:r>
              <a:rPr b="0" lang="en-US" sz="3200" spc="-1" strike="noStrike" u="sng">
                <a:solidFill>
                  <a:srgbClr val="ffffff"/>
                </a:solidFill>
                <a:uFillTx/>
                <a:latin typeface="Arial"/>
              </a:rPr>
              <a:t>, </a:t>
            </a:r>
            <a:r>
              <a:rPr b="0" lang="en-US" sz="3200" spc="-1" strike="noStrike" u="sng">
                <a:solidFill>
                  <a:srgbClr val="66ccff"/>
                </a:solidFill>
                <a:uFillTx/>
                <a:latin typeface="Arial"/>
                <a:hlinkClick r:id="rId7"/>
              </a:rPr>
              <a:t>Bussel JB</a:t>
            </a:r>
            <a:r>
              <a:rPr b="0" lang="en-US" sz="3200" spc="-1" strike="noStrike" u="sng">
                <a:solidFill>
                  <a:srgbClr val="ffffff"/>
                </a:solidFill>
                <a:uFillTx/>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latelets</a:t>
            </a:r>
            <a:r>
              <a:rPr b="0" lang="en-US" sz="3200" spc="-1" strike="noStrike">
                <a:solidFill>
                  <a:srgbClr val="ffffff"/>
                </a:solidFill>
                <a:latin typeface="Arial"/>
              </a:rPr>
              <a:t>, or </a:t>
            </a:r>
            <a:r>
              <a:rPr b="1" lang="en-US" sz="3200" spc="-1" strike="noStrike">
                <a:solidFill>
                  <a:srgbClr val="ffffff"/>
                </a:solidFill>
                <a:latin typeface="Arial"/>
              </a:rPr>
              <a:t>thrombocytes</a:t>
            </a:r>
            <a:r>
              <a:rPr b="0" lang="en-US" sz="3200" spc="-1" strike="noStrike">
                <a:solidFill>
                  <a:srgbClr val="ffffff"/>
                </a:solidFill>
                <a:latin typeface="Arial"/>
              </a:rPr>
              <a:t> (from Greek θρόμβος — «clot» and κύτος — «cel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telets produced in bone marrow from megakaryocyt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00-5000 platelets produced per megakaryocyt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5,000-50,000 platelets/microL produced dail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8-10 day surviv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mal Platelet Cou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0,000-450,000/micro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y be slightly decreased in pregnancy (Platelet count at term pregnancy: a reappraisal of the threshold. Boehlen F; Hohlfeld P; Extermann P; Perneger TV; de Moerloose P Obstet Gynecol. 2000 Jan;95(1):29-33.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Causes of Thrombocytopenia in Pregnancy</a:t>
            </a:r>
            <a:endParaRPr b="0" lang="en-US" sz="4000" spc="-1" strike="noStrike">
              <a:solidFill>
                <a:srgbClr val="ccffff"/>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nign Thrombocytopenia of Pregnanc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P</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eclampsi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 (Drug related, SLE, HIV, Antiphospholipid syndrome, Viral, TTP, HIT, pseudothrombocytopenia, DIC, Giant Cavernous Hemangioma (Kasabach-Merritt syndro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Benign Thrombocytopenia of Pregnancy</a:t>
            </a:r>
            <a:endParaRPr b="0" lang="en-US" sz="4000" spc="-1" strike="noStrike">
              <a:solidFill>
                <a:srgbClr val="ccffff"/>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ually platelet count greater than 70,00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 occurrence rat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es not increase incidence of thrombocytopenia in newbor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effect on pregnancy management with exception of possible steroid boost near term to allow for regional anesthesi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Benign Thrombocytopenia of Pregnancy</a:t>
            </a:r>
            <a:endParaRPr b="0" lang="en-US" sz="4000" spc="-1" strike="noStrike">
              <a:solidFill>
                <a:srgbClr val="ccffff"/>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d and asymptomatic thrombocytopenia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past history of thrombocytopenia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ccurrence during late gestation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association with fetal thrombocytopenia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ontaneous resolution after deliver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mmune Thrombocytopenic Purpura (ITP)</a:t>
            </a:r>
            <a:endParaRPr b="0" lang="en-US" sz="4000" spc="-1" strike="noStrike">
              <a:solidFill>
                <a:srgbClr val="ccffff"/>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d cases clinically difficult to differentiate from benign thrombocytopenia of pregnanc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9T07:30:40Z</dcterms:created>
  <dc:creator>June</dc:creator>
  <dc:description/>
  <dc:language>en-US</dc:language>
  <cp:lastModifiedBy>June</cp:lastModifiedBy>
  <dcterms:modified xsi:type="dcterms:W3CDTF">2010-03-10T08:59:15Z</dcterms:modified>
  <cp:revision>10</cp:revision>
  <dc:subject/>
  <dc:title>Thrombocytopenia in Pregnancy</dc:title>
</cp:coreProperties>
</file>