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925E-4C7D-4569-A1DF-368539AD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560C-4617-460B-AA2B-078CEF54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514-AF0F-427F-9212-814068BB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EFDF-F1D9-42C0-9E9C-9DEAFEDE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574F-CDEB-4005-8C7B-E71E0788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E3FE-643E-4038-909C-E15C21DD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E5A8-3A37-494F-BA31-62F115A6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7588-8BA3-41E0-B2D1-1CA4C36E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68EF-E692-4965-911D-D26AC885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D948-D496-4D07-9563-B28DC765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147C-FEC1-4957-8DF7-E8A3F0D8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5B7-51DE-462B-A534-F15C75CF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E424-0DC0-4028-9586-11229640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7FD3-70DE-4BFD-8BA4-F8A4B692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9562-D567-4636-8897-2FFE4E11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F6E5-F54E-47BF-ADF4-CE9AB7C4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545A-2225-4A69-9BD6-28E63B64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8ED6-C31A-406C-8C19-460FFFE8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43DA-D87E-4FD1-B53A-59743C49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2B02-2695-4916-8998-61FB875B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0B6-CF5F-4B53-9223-5B9CD9FE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CD2-53FB-48E7-AE63-FBCCE976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08B-D672-48BB-849C-B649DC14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329-68DE-4850-9DF6-7EB47341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37D0-05B3-4DA0-88E8-0341D3B68A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18C2-7BA7-4DD2-9A1F-45BA7B2781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ilentspring.org/" TargetMode="External"/><Relationship Id="rId2" Type="http://schemas.openxmlformats.org/officeDocument/2006/relationships/hyperlink" Target="http://www.apen4ej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hink Globally, Act Locally: Global Warming and Richmond, C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chel Sam, MS, M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781680" y="6567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AMA, Jan 20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9706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0"/>
          <p:cNvSpPr/>
          <p:nvPr/>
        </p:nvSpPr>
        <p:spPr>
          <a:xfrm>
            <a:off x="4724280" y="1219320"/>
            <a:ext cx="4343400" cy="1447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yme Dise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914400" y="1014480"/>
            <a:ext cx="746748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ngue Fev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457200" y="1287360"/>
            <a:ext cx="830592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781680" y="6567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AMA, Jan 20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9706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4724280" y="1219320"/>
            <a:ext cx="4343400" cy="1447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inking Global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8991360" cy="36226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609480" y="5562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O estimated mortality attributable to climate change in 2000 (CVD, diarrhea, malaria, flooding, malnutrition). Nature, Nov 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to go from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ections. Malaria, Dengue Fever, Lyme Disease? Not very realist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at Wave Related Events and Preparedn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ated to LOP’s multilingual emergency response 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ergies – High rates of asthma and SAR in CC Coun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nowlton et al. The 2006 California Heat Wave: Impacts on Hospitalizations and Emergency Department Visits. Environ Health Perspect 117:61–67 (2009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ess et al. Climate Change, The Importance of Place. Am J Prev Med 2008;35(5):468–478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cMichael et al. Climate change and human health: present and future risks. Lancet 2006; 367: 859–6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mpbell-Lendrum et al. Climate change: Quantifying the health impact at national and local levels. WHO Public Health and the Environment, Geneva 2007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bi et al. Community-Based Adaptation to the Health Impacts of Climate Change. Am J Prev Med 2008;35(5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rumkin et al. Climate Change: The Public Health Response. Am J Public Health. 2008;98:435–445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tz et al. Impact of regional climate change on human health. Nature Vol 438|17 November 2005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aines et al. Health Effects of Climate Change. JAMA, January 7, 2004—Vol 291, No. 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 Census Burea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silentspring.or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.apen4ej.or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ichmond Demographics – Environmental Racis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295280"/>
          <a:ext cx="8915400" cy="5432400"/>
        </p:xfrm>
        <a:graphic>
          <a:graphicData uri="http://schemas.openxmlformats.org/drawingml/2006/table">
            <a:tbl>
              <a:tblPr/>
              <a:tblGrid>
                <a:gridCol w="2438280"/>
                <a:gridCol w="1219320"/>
                <a:gridCol w="990360"/>
                <a:gridCol w="990720"/>
                <a:gridCol w="1143000"/>
                <a:gridCol w="990720"/>
                <a:gridCol w="114300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 Census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chmond, CA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oti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i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i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8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,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3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1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,2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of Richmond Pop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Household income in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4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,5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,9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,3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,3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,2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Household si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Capita Income in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5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4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2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6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7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viduals below poverty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8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8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5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below poverty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chmond and the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ong history of environmental activism, esp. re: Chevr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st County Toxics Coalition – group of local organizations led by Henry Cla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ties for a Better Environ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ian Pacific Environmental Network (APEN) and Laotian Outreach Proje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EN, founded in 1993, its mission is to empower low-income API communities to achieve environmental and social justi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rect organizing in local commun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twork build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ltiracial alliances to affect regional and national chan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EN – LO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anch of APEN specifically created to address the needs of the Laotian community in CC Coun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mbership base of 200 families and 20 lead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rm Nompraseurt, Lead Organizer. Featured in “Unnatural Causes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P - Fighting Fire with F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fter the March 1999 chemical explosion at Chevron revealed CC County’s inadequate English Only emergency response system, the LOP got the county to implement a multilingual emergency phone alert syst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rying to Stop the New Chevron Incinera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EN-LOP, Communities for a Better Environment, and the West Toxics Coalition are suing the city of Richmond over the city council’s decision to allow Chevron to proceed without public input or proper environmental review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lobal Warming and Richmo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PEN: How does global warming affect the health of people in Richmond and Contra Count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sing Global Tem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4191120" y="3513240"/>
            <a:ext cx="4952880" cy="3344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2"/>
          <a:stretch/>
        </p:blipFill>
        <p:spPr>
          <a:xfrm>
            <a:off x="76320" y="1447920"/>
            <a:ext cx="4267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1:56:45Z</dcterms:created>
  <dc:creator>Michel Sam</dc:creator>
  <dc:description/>
  <dc:language>en-US</dc:language>
  <cp:lastModifiedBy>lthomas</cp:lastModifiedBy>
  <dcterms:modified xsi:type="dcterms:W3CDTF">2009-04-07T15:38:07Z</dcterms:modified>
  <cp:revision>10</cp:revision>
  <dc:subject/>
  <dc:title>Think Globally, Act Locally: Global Warming and Richmond, CA</dc:title>
</cp:coreProperties>
</file>