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ED2-5B0E-4DED-8577-18502D67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593-C002-4AD0-9879-353F554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6B0-32DF-4EC1-83EF-2517BB63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1E6-6E11-4A6B-8BA4-036AA6DF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D17C-ACEA-4987-9A12-B177C7B3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CC7-FCC2-4854-924C-5FFF71F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E00D-AC3E-4CAA-9BE9-5616550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5A4-7BF2-49BC-8E0F-F6750A5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5936-B3AE-423B-AB3A-A4576C23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FBE4-7EC6-44E1-BA8F-2637483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2FF3-2021-488A-BF5E-D2519E0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8AD-8B7C-4005-B2F6-5C6BF34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DCE8-14E2-4F25-8A53-D9167B7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BBB4-65EE-4469-8676-EF1B997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C464-50D3-40BE-B664-798D59CA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2228-3916-43E1-9B90-D06DCF9A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E71D-7958-45C1-B6C6-68540CE6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F3B-5D49-4617-AD04-833D2B9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D4B-A4F6-48C9-A6C8-BBA9B7B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1A1-E3FA-45EE-A276-FC69E056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07A-F4B3-4E22-A5B7-CFEF0B97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58A-C929-4B61-AA52-1648A04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F5B-1A0F-45AF-8001-AD55738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2DD-8DAA-4F9D-BA56-837CA4D1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CAD-148C-4562-8D22-78A4BDE112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0B0-AD5F-4FF6-BB95-69006C9F1A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lentspring.org/" TargetMode="External"/><Relationship Id="rId2" Type="http://schemas.openxmlformats.org/officeDocument/2006/relationships/hyperlink" Target="http://www.apen4ej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ink Globally, Act Locally: Global Warming and Richmond, 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hel Sam, MS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yme Dis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467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ngue Fe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57200" y="1287360"/>
            <a:ext cx="8305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king Globa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0948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 estimated mortality attributable to climate change in 2000 (CVD, diarrhea, malaria, flooding, malnutrition). Nature, Nov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to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ns. Malaria, Dengue Fever, Lyme Disease? Not very reali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 Wave Related Events and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d to LOP’s multilingual emergency respons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ergies – High rates of asthma and SAR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owlton et al. The 2006 California Heat Wave: Impacts on Hospitalizations and Emergency Department Visits. Environ Health Perspect 117:61–67 (2009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ss et al. Climate Change, The Importance of Place. Am J Prev Med 2008;35(5):468–47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cMichael et al. Climate change and human health: present and future risks. Lancet 2006; 367: 859–6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bell-Lendrum et al. Climate change: Quantifying the health impact at national and local levels. WHO Public Health and the Environment, Geneva 200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i et al. Community-Based Adaptation to the Health Impacts of Climate Change. Am J Prev Med 2008;35(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umkin et al. Climate Change: The Public Health Response. Am J Public Health. 2008;98:435–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z et al. Impact of regional climate change on human health. Nature Vol 438|17 November 200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ines et al. Health Effects of Climate Change. JAMA, January 7, 2004—Vol 291, No.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 Census Bur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ilentspring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apen4ej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ichmond Demographics – Environmental Rac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295280"/>
          <a:ext cx="8915400" cy="543240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990360"/>
                <a:gridCol w="990720"/>
                <a:gridCol w="1143000"/>
                <a:gridCol w="990720"/>
                <a:gridCol w="11430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 Census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mond, CA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ot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Richmond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Household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5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9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3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Household 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s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chmond and the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ng history of environmental activism, esp. re: Chevr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 County Toxics Coalition – group of local organizations led by Henry Cl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ies for a Better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an Pacific Environmental Network (APEN) and Laotian Outreach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, founded in 1993, its mission is to empower low-income API communities to achieve environmental and social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 organizing in local commu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bui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racial alliances to affect regional and national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 – L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 of APEN specifically created to address the needs of the Laotian community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 base of 200 families and 20 le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rm Nompraseurt, Lead Organizer. Featured in “Unnatural Caus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P - Fighting Fire with F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March 1999 chemical explosion at Chevron revealed CC County’s inadequate English Only emergency response system, the LOP got the county to implement a multilingual emergency phone alert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ying to Stop the New Chevron Incinera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-LOP, Communities for a Better Environment, and the West Toxics Coalition are suing the city of Richmond over the city council’s decision to allow Chevron to proceed without public input or proper environmental re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 and Richm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EN: How does global warming affect the health of people in Richmond and Contra Coun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Global Te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191120" y="351324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1:56:45Z</dcterms:created>
  <dc:creator>Michel Sam</dc:creator>
  <dc:description/>
  <dc:language>en-US</dc:language>
  <cp:lastModifiedBy>lthomas</cp:lastModifiedBy>
  <dcterms:modified xsi:type="dcterms:W3CDTF">2009-04-07T15:38:07Z</dcterms:modified>
  <cp:revision>10</cp:revision>
  <dc:subject/>
  <dc:title>Think Globally, Act Locally: Global Warming and Richmond, CA</dc:title>
</cp:coreProperties>
</file>