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DBA-5510-4469-9B22-D662CFA0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950-0986-4981-9A37-8EAE750B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8B4-67FC-4E4C-AE86-2FEDA11D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BBB-E716-4307-9B22-5FA629A0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818A-0994-4E05-8A9C-7C05E7E0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50F0-C0DC-4E33-AF35-86C33F9C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78BB-8239-484B-9C34-BF1005B9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63ED-CEBF-42B4-9D37-9E6FDF6E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A94C-A61A-426E-8543-22614E7E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E90D-0E32-4D87-A231-8B7496A6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5F2E-F7AA-4163-A78D-0304F7C4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B99-54F3-4DA1-9141-F9ECC1A5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992D-CF6E-4EC9-A854-B10580D1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6449-D3D0-4DE0-85E0-2B36458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C3D4-D0DE-4BEE-BB44-6B850881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EFF3-5FD8-4214-AB13-EF4B758B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58BC-651E-45B6-BF88-19D2F2FA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1B6-2549-493A-B3E2-F9B47960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4D3-8408-450A-B6D7-B87DC5F6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373-E991-40F5-A784-BEDB5692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F3D-7F7D-4130-A674-0AFF0275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FB6-642C-4DCD-A93B-1EF983D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06D-57F7-4A02-8239-EF95C28F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6D0-049C-41EB-8969-F892FCE4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63BC-A899-453A-AED6-95966685A3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A87F-CB92-48B2-A261-BFAA728215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ilentspring.org/" TargetMode="External"/><Relationship Id="rId2" Type="http://schemas.openxmlformats.org/officeDocument/2006/relationships/hyperlink" Target="http://www.apen4ej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ink Globally, Act Locally: Global Warming and Richmond, C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chel Sam, MS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yme Dis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914400" y="1014480"/>
            <a:ext cx="7467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ngue Fe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57200" y="1287360"/>
            <a:ext cx="83059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king Global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3622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09480" y="5562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O estimated mortality attributable to climate change in 2000 (CVD, diarrhea, malaria, flooding, malnutrition). Nature, Nov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to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ns. Malaria, Dengue Fever, Lyme Disease? Not very realis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t Wave Related Events and Prepar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ted to LOP’s multilingual emergency respons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ergies – High rates of asthma and SAR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nowlton et al. The 2006 California Heat Wave: Impacts on Hospitalizations and Emergency Department Visits. Environ Health Perspect 117:61–67 (2009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ss et al. Climate Change, The Importance of Place. Am J Prev Med 2008;35(5):468–478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cMichael et al. Climate change and human health: present and future risks. Lancet 2006; 367: 859–6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mpbell-Lendrum et al. Climate change: Quantifying the health impact at national and local levels. WHO Public Health and the Environment, Geneva 200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bi et al. Community-Based Adaptation to the Health Impacts of Climate Change. Am J Prev Med 2008;35(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umkin et al. Climate Change: The Public Health Response. Am J Public Health. 2008;98:435–44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z et al. Impact of regional climate change on human health. Nature Vol 438|17 November 200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ines et al. Health Effects of Climate Change. JAMA, January 7, 2004—Vol 291, No.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 Census Bur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ilentspring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apen4ej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ichmond Demographics – Environmental Rac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295280"/>
          <a:ext cx="8915400" cy="5432400"/>
        </p:xfrm>
        <a:graphic>
          <a:graphicData uri="http://schemas.openxmlformats.org/drawingml/2006/table">
            <a:tbl>
              <a:tblPr/>
              <a:tblGrid>
                <a:gridCol w="2438280"/>
                <a:gridCol w="1219320"/>
                <a:gridCol w="990360"/>
                <a:gridCol w="990720"/>
                <a:gridCol w="1143000"/>
                <a:gridCol w="990720"/>
                <a:gridCol w="11430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 Census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mond, CA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ot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i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1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2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of Richmond 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Household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4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,5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9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3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3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Household 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4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6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s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chmond and the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ong history of environmental activism, esp. re: Chevr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st County Toxics Coalition – group of local organizations led by Henry Cl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ies for a Better Enviro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ian Pacific Environmental Network (APEN) and Laotian Outreach 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, founded in 1993, its mission is to empower low-income API communities to achieve environmental and social just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 organizing in local commun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twork buil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racial alliances to affect regional and national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 – LO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anch of APEN specifically created to address the needs of the Laotian community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hip base of 200 families and 20 lea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rm Nompraseurt, Lead Organizer. Featured in “Unnatural Caus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P - Fighting Fire with F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March 1999 chemical explosion at Chevron revealed CC County’s inadequate English Only emergency response system, the LOP got the county to implement a multilingual emergency phone alert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ying to Stop the New Chevron Incinera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-LOP, Communities for a Better Environment, and the West Toxics Coalition are suing the city of Richmond over the city council’s decision to allow Chevron to proceed without public input or proper environmental revie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Warming and Richm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EN: How does global warming affect the health of people in Richmond and Contra Coun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ing Global Tem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191120" y="3513240"/>
            <a:ext cx="4952880" cy="334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426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1:56:45Z</dcterms:created>
  <dc:creator>Michel Sam</dc:creator>
  <dc:description/>
  <dc:language>en-US</dc:language>
  <cp:lastModifiedBy>lthomas</cp:lastModifiedBy>
  <dcterms:modified xsi:type="dcterms:W3CDTF">2009-04-07T15:38:07Z</dcterms:modified>
  <cp:revision>10</cp:revision>
  <dc:subject/>
  <dc:title>Think Globally, Act Locally: Global Warming and Richmond, CA</dc:title>
</cp:coreProperties>
</file>