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94F-2806-458A-986A-9018B1FA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67B-3A85-48B8-99AB-A89CB85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AB8-0F9B-4983-B089-67D4DE7C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4E0-4C00-4C95-8099-A5151D17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39B-141B-40ED-97D1-4C8E7EF0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FAC-A2FE-462B-9EB3-20310FAB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98F-D0CE-4A42-B161-27FD53A0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AE8-F524-4EDF-A1A9-D33523C9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05F-1FC6-45E0-AD50-8AE50706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F49-DB95-41A2-BE40-F9706FDC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E46-EAD5-47AF-914F-6DCAD4CA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001-D449-43D3-8AEF-1F7B3F78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76D4-1F7D-461C-977F-9B4978C9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Lydia Rodriguez</cp:lastModifiedBy>
  <dcterms:modified xsi:type="dcterms:W3CDTF">2009-11-30T17:41:56Z</dcterms:modified>
  <cp:revision>7</cp:revision>
  <dc:subject/>
  <dc:title>Symptom management in hospice and palliative care</dc:title>
</cp:coreProperties>
</file>