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DC3-C9CD-468F-9CC9-4E0304E8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14F-29D8-4F07-A7FF-FA08C98C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7F5-E850-4B30-B1D2-B13FE0E9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935-6798-4006-8D4F-0BB251D2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1C0-C2A6-429F-9C2A-606B68CF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834-E050-4CA0-9533-5F742DBE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FF4-2024-4A5B-9EB9-CE584864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2BD-102A-498E-ABD6-0947619E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F5B-FBD4-42F7-A8AE-2948975F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DEE-081A-42DF-973D-B95883D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D7D-68D7-401C-AFA8-9E6F9591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2FF-7E1E-413C-BED0-A55BB0F9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E3CC-1860-41F2-94A4-6739DE982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Lydia Rodriguez</cp:lastModifiedBy>
  <dcterms:modified xsi:type="dcterms:W3CDTF">2009-11-30T17:41:56Z</dcterms:modified>
  <cp:revision>7</cp:revision>
  <dc:subject/>
  <dc:title>Symptom management in hospice and palliative care</dc:title>
</cp:coreProperties>
</file>