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D62-F8B8-4DB6-B0B9-95D6C928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C02-F7ED-4AA7-8ADF-97CF3B72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F0A-5825-443B-98CD-30C1846D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2D2-E78D-448C-A690-BFF77402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6A8-ED4C-4ABE-B51A-76A3BBB0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DBEB-E386-43DA-AC16-6920386E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5F4-8DBC-4540-A1B9-5C301707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652-1047-4CC5-A716-EBC96C7D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670-8814-4D0A-847B-0019975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2AB-4605-4072-9C0E-F2CAC36C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E91-F8D3-4537-A2EA-143377A1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E5A-4DA5-4D7D-8469-791CB6F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8785-4DCD-4CAE-ACD6-423A2026E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HCMARTINEZ</cp:lastModifiedBy>
  <dcterms:modified xsi:type="dcterms:W3CDTF">2009-11-30T19:40:16Z</dcterms:modified>
  <cp:revision>7</cp:revision>
  <dc:subject/>
  <dc:title>Symptom management in hospice and palliative care</dc:title>
</cp:coreProperties>
</file>