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EA6-98F8-4D3F-850F-0C45D3F2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161-5298-4657-9701-68A6CB0D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320-A592-4D9C-9163-7FDBF318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6EC-B117-4FAA-B9A2-C3A20E3B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093-DD59-4158-B7C6-46ECC4B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2FD-1A00-48AE-A09F-1C6398A0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E66-C2E1-4ADE-AD06-95F6ECB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9B4-3E41-43F6-9F34-755EFD71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AC8-5EB6-4F55-BE71-67D15A1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652-CF86-4203-A8B7-9FBE2EB0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605-C64E-4BFA-8175-06C6CD8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FC2-0D87-43C6-B23B-823D2E4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9DB1-CB76-4E46-A4E3-EBCA4118F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HCMARTINEZ</cp:lastModifiedBy>
  <dcterms:modified xsi:type="dcterms:W3CDTF">2009-11-30T19:40:16Z</dcterms:modified>
  <cp:revision>7</cp:revision>
  <dc:subject/>
  <dc:title>Symptom management in hospice and palliative care</dc:title>
</cp:coreProperties>
</file>