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973-CB89-4E57-9D38-2EE64FB4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8FE-8B2A-46DE-BD1C-3266AB1C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526-D4ED-4C4B-B62C-B9ECD4F7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EBC-60EC-497B-AE68-30DB7F8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416-2184-4A3C-A12B-04D71EB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94C-B7C4-4A1B-9315-5662CCE7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433-93A1-494A-AE0B-893255E6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3DC-C0D5-4D3F-9C32-D754222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F95-5D49-4879-92DE-EDBC6404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DE9-E7DA-412A-A927-42BE1055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EC1-4A07-41DD-B9B4-26C2725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B44-91A3-4B9D-8450-FB9612D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5EC-FE4F-47AB-A3CE-BE585719D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HCMARTINEZ</cp:lastModifiedBy>
  <dcterms:modified xsi:type="dcterms:W3CDTF">2009-11-30T19:40:16Z</dcterms:modified>
  <cp:revision>7</cp:revision>
  <dc:subject/>
  <dc:title>Symptom management in hospice and palliative care</dc:title>
</cp:coreProperties>
</file>