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814B-06C9-4EFF-B5CF-7E130B8E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yrrolate maybe preferred due to no crossing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add one on top of another for better result (study:  oxycodone on top of long acting MS hel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ergan for gastroenteritis due to infections and infl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CTs suggest change from morphine to transdermal fent improves constip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tes antiemetic effects of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A5B-1843-4DDC-819C-7A0A86B5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214-203A-4532-B033-E6A63A2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A6-3920-475C-84EC-9A13BFA1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504-BB72-4CBE-BC3C-6A9C44A1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87C-1171-4FC5-BC45-4EACDBC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AD1-2118-44DB-A6E2-2721AC8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8C2-1B01-4691-B995-3E04721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79A-137B-46D6-9EEC-23D2ED19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2A3-9FAD-4CF9-BFE8-A4EF63D3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296-8281-4CAE-AD49-6CA5523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724-5146-413B-8208-292F431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450-BDEA-4CAE-A417-463083D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EC32-79DD-48B7-9F64-FC7EE896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ptom Management in Palliative Care:  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.akin@hsd.cccounty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cancer patients (21-7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 can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 Dementi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% terminal HIV/AID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% CH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% COPD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ALS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% CVA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Goal in terminally ill:  Improve subjective sensation expressed b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order to do that you must think about 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interventions may be consistent with patient’s goals of c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imes they may not b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nchospasm:  Nebs and steroi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s: Stop IVF, diuretics, antibio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usions: T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way obstruction:  Change diet? Su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ck secretions: Thin wi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ine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saline (3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-Glycopyrro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ed NAC (mucomys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copola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pa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olgobin low:  Transfusion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yspnea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BREATHE AI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xiety:   *Sit upright, bedside fan,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enzos if primary anxiety (if anxious becaus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ob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personal issues: emotion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ous concerns: emotional suppor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 conn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lain/spiritual ad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positioning: vertical (if comfortable)…or compromised lung down if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activity level (bathroom aids, wheelch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 on pursed lip brea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(?stim V2, decreasing dyspnea perce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trong o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oom cool…humi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/friends at bed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: 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 receptor response to elevated 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sodilitation/preload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bulized opoids?  Not y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to use?  Probably doesn’t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ne 2.5-5 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 2.5-5mg PO q 4 h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codone 5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morphone 1-2mg PO q 4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 1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:  Interestingly, there is no clear evidence that O2 works to relieve dyspnea any better than air…even in hypoxemic patients (studies po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xiolytics: Anxiety usu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po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ysp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f 5 RCTs found no benefit of benzos in dysp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 more for refractory dyspnea worsened by anxiety symptoms…(although some try when one cannot titrate the opioid up further due to side eff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azepam is probabl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(fast onset of action, and lasts 4-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pic: 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a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nomic insufficienc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bolic abnormalit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wel ob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IC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oid induced n/v (stimulation of CT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d nausea tends to be self-limited wit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, or severe symptoms, change to other opi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long acting opioids to lessen the potential fluctuation of levels which can stimulate the C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operidol* (Haldol:  THE most potent anti-dopiner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lorperazine* (compazine: Potent anti-dopa, weak anti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ethazine* (phenergan: Antihistamine, weak anti-d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olamine (especially if vestibular symp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henhydramine (benadryl….Careful in eld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the metabolic de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drugs to treat:  Dopamine antagonists* as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control:  That was part #1 of this talk…e-mail me for a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: 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one on opioids gets DSS + cathartic (senna, ducol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ation, physical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velops despite prophyl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/o obstruction (rectal exa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mpaction helped by mineral oil, glycerine supp, saline ene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reat with osmotic laxative (lactulose, PEG, Mag citr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 and 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pation induced n/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atient too nauseated to take 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Phos (fleet) e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ocodyl sup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ory constipation induced n/v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stig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 antagon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al naloxone (?systemic absor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 methylnaltrexone (selective peripheral antagon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tili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distension (gastric sta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in pts on opioids/anticholinerg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s c/o early satiet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usea (not fasting n/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clopramide (5-10mg PO qHS and qAC…or higher):  don’t use in renal failure, Parkinso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Promethazine (phenergan)…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anticholine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rexia or increased I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 (2-4mg PO bid-Q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usea/vom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ory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zos: Lorezepam (0.5-2mg q 6 hrs)…avoid as single agent (very weak antiem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tibular naus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ola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ethazine (Phenerg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otherapy induced nausea/vomi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HT3 antagon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ndansetron 4-8mg q 6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in postoperative setting, or sometimes after other agents have failed.  Can cause mild headache,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S (Anorexia Cachexia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body weight (muscle mass and fat) in the setting of cancer…predicts 3-6 month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vs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norexia/cachexia at the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s end result of metabolic, neuroendocrine cascade (ketones, uremia, etc)…part of dis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universal in the dy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-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cause of considerable concern for fami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 of treat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at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tri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herapeutic relationship with patient/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social aspects of eating (pleasure, nurturing, bonding experien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, Education, E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cau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ip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Gast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atrogenic (XRT, chem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tite stimu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re to use…mostly when underlying cause cannot be addressed, and in setting of being consistent with patient’s goals of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ime limited “therapeutic trial” in selected patients after discussing goals of care (goal might be to gain strength/independence which can be reevaluated weekly for a few week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esterol acetate (meg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for AIDS associated w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muscl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” weight (of &gt;5% in only 15-20% of patients) by increasing water retention and fat deposition…over 6-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rvival benefit…risk of thromb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cide to use it, use elixir (cheaper, easier), start at 400mg dail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0mg da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icosteroids (dexamethasone, predniso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emporary effect (up to a few weeks) on appetite without increase in body mass…used mostly if prognosis measured in weeks and if other target symptoms might respond to steroids also (nausea, bronchospasm, bon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energy for brief peri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 effects!  (mood swings, elevated BP, inc gluc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if no benefit within a week or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Palliative Ca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:  numbers hover around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nderst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th that all dying patients “should” be depressed, and it is a “normal” part of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diagn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ians fearful of upsetting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treated:  only 10% in on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tite Stimu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:  Data mixed and routine use not recommen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cosapentaenoic acid (omega 3 fish oi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lidomide (in HIV/A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aton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abinoids…(i.e. dronabin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rgu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lyte problem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ing patients more comfortable if hydrated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holding fluid might set precedent for withholding other therapies which might be appropriate (patients labeled “comfort care”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tion at end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rguments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 evidence fluids significantly prolong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feres with acceptance of de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UO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need for bed pain, urinal, fo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GI flui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vom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Less pulm secretions/cough/congestion/ed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ctrolyte disturbances/uremia may lead to decreased level of consciousn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uff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av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be feeding death spi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dmited for massive stroke/urosepsis with advanced underlying 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swallow/aspirating/losing weigh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be f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agitated with NG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T replac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aints pl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iration PNA develop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ved to ICU/pulse 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PNA 3-4 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:  recognize and treat at end of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psychostimi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spnea = subjective sensation.  Goal of therapy is patient telling you they ar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underlying cause (if appropri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ates are firs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/vomit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cause before tr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cause is medication related which is most effectively treated with Dopamine antagonis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dol &gt;Compazine &gt; Phener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rexia/cachex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e fami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tions not that help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ness, grief, depressed mood, and feeling of loss are all appropriate responses to dying…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ings of hopelessness, worthlessness, helplessness, guilt, no desire for pleasure…ar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lin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NOT a normal part of d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is an illness, with symptoms that need to be recognized and 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Diagnose Depres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-IV….But not really set up for the medically ill.  Many depressive symptoms in medically ill patients may be a result of their medical illness or trea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simple 1-2 word screening to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dep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you been depressed for most of the time for the past 2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above + loss of interest of usual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relieve uncontrolled symptoms (pain, nausea, dyspne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social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rmacologic inter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Depression:  Dr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uch data in palliative care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hen treating depression in other settings, use side effect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or appetite/insomnia:  Mirtazapine (Remer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uropathic/other pain:  TCAs, duloxeti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ymbalta), venlafaxine (effex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Fatigue/psychomotor slowing:  activating SSRI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luoxitine, venlafazine) or psychostimu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default” is probably an SSRI…u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ression in Last Weeks of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RIs need 4-6 weeks to work, so why start one if your patient is in last weeks of lif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, use pychostimulants such as methylphenidate (Ritalin) or modafinil (Provig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rapid onset of action (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low (2.5 of methlyphenidate daily) and titrate upwards slo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see effect after 1-2 d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sp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mfort in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lessnes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ness of br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mfortable awareness of breath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pnea is a SUBJECTIVE sensation, for which the standard of assessment is the patient’s self-report (different from tachypnea which is an OBJECTIVE, measured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0:31:27Z</dcterms:created>
  <dc:creator>Health Services Department</dc:creator>
  <dc:description/>
  <dc:language>en-US</dc:language>
  <cp:lastModifiedBy>Health Services Department</cp:lastModifiedBy>
  <dcterms:modified xsi:type="dcterms:W3CDTF">2010-04-09T17:34:36Z</dcterms:modified>
  <cp:revision>17</cp:revision>
  <dc:subject/>
  <dc:title>Symptom Management in Palliative Care:  Part 2</dc:title>
</cp:coreProperties>
</file>