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F83AE-06FF-4A32-B070-D66373C6D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ycopyrrolate maybe preferred due to no crossing B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be add one on top of another for better result (study:  oxycodone on top of long acting MS help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RCTs suggest change from morphine to transdermal fent improves constip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ergan for gastroenteritis due to infections and inflam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RCTs suggest change from morphine to transdermal fent improves constip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tes antiemetic effects of ab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4322-6B4C-406F-A016-1C23895D9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90A9-C700-4B46-97F5-26EF12905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50A2-8FE8-49F0-B817-7E9E2DA9A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78CD-68BA-444A-9A94-A67B926F4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DBA8-4FE5-4849-852E-4E9548B0E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DF31-53D5-47E6-982E-F9EC6546B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AE6F-F816-49E8-B7E0-3E2E8E0B3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5444-C135-4CC1-B96D-85C93A97E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CD30-5A7C-4B1C-BA7A-18C6EF88E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02C6-B97A-4A3E-A262-64FB0C4E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9802-3749-4B61-8189-8FD23CB8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EB33-E918-4262-B001-A00EC352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8CA34-88EC-43EB-897E-2E813E4B05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mptom Management in Palliative Care:  Part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Akin M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.akin@hsd.cccounty.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spn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in cancer patients (21-78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n canc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0% Dementia pat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8% terminal HIV/AIDS pat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5% CHF pat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6% COPD pat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% ALS pat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% CVA pat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spnea Trea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 Goal in terminally ill:  Improve subjective sensation expressed by pat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 In order to do that you must think about caus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times interventions may be consistent with patient’s goals of car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times they may not b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uses of Dyspnea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BREATH AIR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nchospasm:  Nebs and steroid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es: Stop IVF, diuretics, antibiotic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fusions: Ta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rway obstruction:  Change diet? Suc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ck secretions: Thin with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ropine dr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bulized saline (3%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-Glycopyrrol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bulized NAC (mucomys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copolam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(pat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olgobin low:  Transfusion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uses of Dyspnea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BREATHE AIR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xiety:   *Sit upright, bedside fan, mus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Benzos if primary anxiety (if anxious because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sob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iate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antidepress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terpersonal issues: emotional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igious concerns: emotional support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inate connection with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plain/spiritual advis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ment of Dyspn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Meas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er positioning: vertical (if comfortable)…or compromised lung down if horizo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y activity level (bathroom aids, wheelchai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ct on pursed lip brea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n (?stim V2, decreasing dyspnea percep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oid strong od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 room cool…humid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y/friends at bed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ment of dyspn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ioids:  FIRST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rease receptor response to elevated CO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sodilitation/preload re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xioly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Nebulized opoids?  Not ye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one to use?  Probably doesn’t ma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phine 2.5-5 mg PO q 4 h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it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drocodone 2.5-5mg PO q 4 h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xycodone 5mg PO q 4 h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5-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dromorphone 1-2mg PO q 4 h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 12 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ment of Dyspn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xygen:  Interestingly, there is no clear evidence that O2 works to relieve dyspnea any better than air…even in hypoxemic patients (studies poor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xiolytics: Anxiety usuall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spo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dyspn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of 5 RCTs found no benefit of benzos in dyspn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nzos more for refractory dyspnea worsened by anxiety symptoms…(although some try when one cannot titrate the opioid up further due to side effect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razepam is probably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hoice (fast onset of action, and lasts 4-6 hour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xt topic: Nausea and Vomi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caus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io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dr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ip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R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nomic insufficiency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LY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abolic abnormaliti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C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wel ob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d IC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usea and Vomi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ioid induced n/v (stimulation of CTZ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ld nausea tends to be self-limited wit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not, or severe symptoms, change to other opio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long acting opioids to lessen the potential fluctuation of levels which can stimulate the C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usea and Vomi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ioid induced n/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st drugs to treat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loperidol* (Haldol:  THE most potent anti-dopinergi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hlorperazine* (compazine: Potent anti-dopa, weak antihi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methazine* (phenergan: Antihistamine, weak anti-dop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opolamine (especially if vestibular sympto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phenhydramine (benadryl….Careful in elder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abolic induced n/v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 the metabolic deran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st drugs to treat:  Dopamine antagonists* as ab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in control:  That was part #1 of this talk…e-mail me for a cop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spn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usea and vom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orex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usea and Vomi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ipation induced n/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step:  prev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ryone on opioids gets DSS + cathartic (senna, ducola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ydration, physical 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evelops despite prophyl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/o obstruction (rectal exam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impaction helped by mineral oil, glycerine supp, saline enem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treat with osmotic laxative (lactulose, PEG, Mag citra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usea and Vomi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ipation induced n/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patient too nauseated to take 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dium Phos (fleet) en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socodyl supposi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ractory constipation induced n/v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ostigm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ioid antagonis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al naloxone (?systemic absorp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Q methylnaltrexone (selective peripheral antagoni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usea/vomi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smotility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dominal distension (gastric stas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in pts on opioids/anticholinerg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ts c/o early satiety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usea (not fasting n/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oclopramide (5-10mg PO qHS and qAC…or higher):  don’t use in renal failure, Parkinson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N’T USE Promethazine (phenergan)…whic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 anticholinerg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rexia or increased I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xamethasone (2-4mg PO bid-Q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usea/vomi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icipatory nause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nzos: Lorezepam (0.5-2mg q 6 hrs)…avoid as single agent (very weak antiemetic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stibular nause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opola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methazine (Phenerga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motherapy induced nausea/vomit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5HT3 antagonis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ndansetron 4-8mg q 6 hour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in postoperative setting, or sometimes after other agents have failed.  Can cause mild headache, constip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rexia-Cachex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S (Anorexia Cachexia Syndro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s of body weight (muscle mass and fat) in the setting of cancer…predicts 3-6 month survi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-vs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anorexia/cachexia at the end of l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lects end result of metabolic, neuroendocrine cascade (ketones, uremia, etc)…part of disease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ly universal in the dying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rexia-Cachex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t cause of considerable concern for famil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s of treat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ptomatic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utrit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ablish therapeutic relationship with patient/fam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 on social aspects of eating (pleasure, nurturing, bonding experienc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, Education, Edu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rexia/Cachex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ersible caus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Dry Mou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use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Candidia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ip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Gastrit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Iatrogenic (XRT, chemo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rexia/Cachex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etite stimula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re to use…mostly when underlying cause cannot be addressed, and in setting of being consistent with patient’s goals of c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time limited “therapeutic trial” in selected patients after discussing goals of care (goal might be to gain strength/independence which can be reevaluated weekly for a few week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etite Stimul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gesterol acetate (mega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ly for AIDS associated wa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hange in muscle m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s” weight (of &gt;5% in only 15-20% of patients) by increasing water retention and fat deposition…over 6-8 wee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survival benefit…risk of thromb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decide to use it, use elixir (cheaper, easier), start at 400mg daily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0mg da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etite Stimul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icosteroids (dexamethasone, prednison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temporary effect (up to a few weeks) on appetite without increase in body mass…used mostly if prognosis measured in weeks and if other target symptoms might respond to steroids also (nausea, bronchospasm, bone pai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increase energy for brief peri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de effects!  (mood swings, elevated BP, inc gluco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p if no benefit within a week or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ression in Palliative Car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:  numbers hover around 3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sunderst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yth that all dying patients “should” be depressed, and it is a “normal” part of d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diagno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nicians fearful of upsetting pat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treated:  only 10% in one stu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etite Stimul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s:  Data mixed and routine use not recommen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icosapentaenoic acid (omega 3 fish oil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lidomide (in HIV/AID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laton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SAI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nabinoids…(i.e. dronabinol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dration at end of lif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Arguments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hydration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rolyte problems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u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ing patients more comfortable if hydrated (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holding fluid might set precedent for withholding other therapies which might be appropriate (patients labeled “comfort care”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dration at end of lif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Arguments again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No evidence fluids significantly prolong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Interferes with acceptance of dea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Less UOP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s need for bed pain, urinal, fol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Less GI fluid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s vomi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Less pulm secretions/cough/congestion/ed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Electrolyte disturbances/uremia may lead to decreased level of consciousness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s suffe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to avo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ube feeding death spiral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ient admited for massive stroke/urosepsis with advanced underlying dement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’t swallow/aspirating/losing weight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ube f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ient agitated with NGT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GT replaced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traints pla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piration PNA develops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oved to ICU/pulse 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PNA 3-4 more 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y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ression:  recognize and treat at end of l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forget about psychostimil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spnea = subjective sensation.  Goal of therapy is patient telling you they are be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 underlying cause (if appropri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iates are first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usea/vomiting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cause before tre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common cause is medication related which is most effectively treated with Dopamine antagonist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ldol &gt;Compazine &gt; Phenerg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orexia/cachex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ucate famil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tions not that help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r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dness, grief, depressed mood, and feeling of loss are all appropriate responses to dying…b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elings of hopelessness, worthlessness, helplessness, guilt, no desire for pleasure…are 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tom line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ression is NOT a normal part of dy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ression is an illness, with symptoms that need to be recognized and 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You Diagnose Depress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-IV….But not really set up for the medically ill.  Many depressive symptoms in medically ill patients may be a result of their medical illness or treat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eful intervie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simple 1-2 word screening too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you depress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you been depressed for most of the time for the past 2 wee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of the above + loss of interest of usual activ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ment of Depress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relieve uncontrolled symptoms (pain, nausea, dyspnea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sychosocial interven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sychothera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B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armacologic interven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ment of Depression:  Dru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much data in palliative care set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when treating depression in other settings, use side effect pro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or appetite/insomnia:  Mirtazapine (Remer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neuropathic/other pain:  TCAs, duloxetin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ymbalta), venlafaxine (effexor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Fatigue/psychomotor slowing:  activating SSRI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fluoxitine, venlafazine) or psychostimul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“default” is probably an SSRI…un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ression in Last Weeks of Lif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SRIs need 4-6 weeks to work, so why start one if your patient is in last weeks of lif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, use pychostimulants such as methylphenidate (Ritalin) or modafinil (Provigi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y rapid onset of action (ho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low (2.5 of methlyphenidate daily) and titrate upwards slow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should see effect after 1-2 d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spn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omfort in breathing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eathlessnes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rtness of breat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comfortable awareness of breathing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----------------------------------------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spnea is a SUBJECTIVE sensation, for which the standard of assessment is the patient’s self-report (different from tachypnea which is an OBJECTIVE, measured numb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00:31:27Z</dcterms:created>
  <dc:creator>Health Services Department</dc:creator>
  <dc:description/>
  <dc:language>en-US</dc:language>
  <cp:lastModifiedBy>Health Services Department</cp:lastModifiedBy>
  <dcterms:modified xsi:type="dcterms:W3CDTF">2010-04-09T17:34:36Z</dcterms:modified>
  <cp:revision>17</cp:revision>
  <dc:subject/>
  <dc:title>Symptom Management in Palliative Care:  Part 2</dc:title>
</cp:coreProperties>
</file>