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0081-4CB1-47A6-9AB2-1DBFB6F64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pyrrolate maybe preferred due to no crossing B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add one on top of another for better result (study:  oxycodone on top of long acting MS hel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CTs suggest change from morphine to transdermal fent improves constip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ergan for gastroenteritis due to infections and inflam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CTs suggest change from morphine to transdermal fent improves constip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tes antiemetic effects of 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16B2-EACF-40AD-BB22-880D5F1E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3400-08BB-46B0-A3F9-6A2675C1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9124-DAEF-4676-BD0D-ECE83F75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31B-3ABE-477E-B29D-7E85FB8F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4BCD-A91E-4AD9-961C-C1871837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2C38-EF5D-4744-B6FD-D2CC03C9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544A-BAA4-42F2-812C-E069C747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E666-A55A-4376-9BE1-1EB2E34A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550B-70B0-4AE6-8752-AE6810F1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919E-EC01-4DC3-9688-54435B0E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AE4-6925-4845-BC4C-C57E6ED1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7B9-80B6-4708-985D-8B9619CC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FBDA-F75B-4826-AB17-07DB0B238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ptom Management in Palliative Care:  Par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.akin@hsd.cccounty.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cancer patients (21-7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n canc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% Dementia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8% terminal HIV/AIDS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5% CHF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6% COPD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 ALS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% CVA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spnea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Goal in terminally ill:  Improve subjective sensation expressed by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In order to do that you must think about caus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interventions may be consistent with patient’s goals of c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imes they may not b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yspnea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BREATH AI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nchospasm:  Nebs and steroi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es: Stop IVF, diuretics, antibiotic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fusions: T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way obstruction:  Change diet? Suc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ck secretions: Thin with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ropine d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bulized saline (3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-Glycopyrro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bulized NAC (mucomys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copola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(pa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olgobin low:  Transfusion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yspnea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BREATHE AI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xiety:   *Sit upright, bedside fan, 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enzos if primary anxiety (if anxious becaus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ob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at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ntidepress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erpersonal issues: emotion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gious concerns: emotional support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e connection wi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lain/spiritual advi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 positioning: vertical (if comfortable)…or compromised lung down if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activity level (bathroom aids, wheelchai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 on pursed lip brea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n (?stim V2, decreasing dyspnea perce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strong o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room cool…humid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/friends at bed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:  FIRST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 receptor response to elevated C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odilitation/preload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oly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Nebulized opoids?  Not ye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ne to use?  Probably doesn’t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ine 2.5-5 mg PO q 4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codone 2.5-5mg PO q 4 h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codone 5mg PO q 4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5-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morphone 1-2mg PO q 4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 12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gen:  Interestingly, there is no clear evidence that O2 works to relieve dyspnea any better than air…even in hypoxemic patients (studies po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xiolytics: Anxiety usual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po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dysp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of 5 RCTs found no benefit of benzos in dysp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zos more for refractory dyspnea worsened by anxiety symptoms…(although some try when one cannot titrate the opioid up further due to side effec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razepam is probably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oice (fast onset of action, and lasts 4-6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topic: 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au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d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ip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nomic insufficiency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bolic abnormalit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wel ob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IC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oid induced n/v (stimulation of CT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d nausea tends to be self-limited wit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, or severe symptoms, change to other opi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long acting opioids to lessen the potential fluctuation of levels which can stimulate the C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 induced n/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drugs to trea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operidol* (Haldol:  THE most potent anti-dopinerg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hlorperazine* (compazine: Potent anti-dopa, weak antih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methazine* (phenergan: Antihistamine, weak anti-do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polamine (especially if vestibular sympto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phenhydramine (benadryl….Careful in elder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bolic induced n/v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 the metabolic deran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drugs to treat:  Dopamine antagonists* as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 control:  That was part #1 of this talk…e-mail me for a c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sp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rex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ipation induced n/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tep: 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one on opioids gets DSS + cathartic (senna, ducol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dration, physical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evelops despite prophyl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/o obstruction (rectal exam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impaction helped by mineral oil, glycerine supp, saline ene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treat with osmotic laxative (lactulose, PEG, Mag citr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pation induced n/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atient too nauseated to take 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dium Phos (fleet) en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ocodyl sup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ractory constipation induced n/v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stig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 antagoni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l naloxone (?systemic absorp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 methylnaltrexone (selective peripheral antagon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/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smotility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distension (gastric sta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in pts on opioids/anticholinerg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ts c/o early satiet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usea (not fasting n/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oclopramide (5-10mg PO qHS and qAC…or higher):  don’t use in renal failure, Parkinson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USE Promethazine (phenergan)…whic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 anticholiner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rexia or increased I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xamethasone (2-4mg PO bid-Q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/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cipatory naus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zos: Lorezepam (0.5-2mg q 6 hrs)…avoid as single agent (very weak antiemeti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stibular naus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pola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ethazine (Phenerga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otherapy induced nausea/vomi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HT3 antagon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ndansetron 4-8mg q 6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in postoperative setting, or sometimes after other agents have failed.  Can cause mild headache, constip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-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S (Anorexia Cachexia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of body weight (muscle mass and fat) in the setting of cancer…predicts 3-6 month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vs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anorexia/cachexia at the end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s end result of metabolic, neuroendocrine cascade (ketones, uremia, etc)…part of diseas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y universal in the dy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-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t cause of considerable concern for famil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s of treat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ati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tri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therapeutic relationship with patient/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on social aspects of eating (pleasure, nurturing, bonding experien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, Education, Edu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/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ble cau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Dry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us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ip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Gastr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atrogenic (XRT, chem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/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tite stimu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re to use…mostly when underlying cause cannot be addressed, and in setting of being consistent with patient’s goals of c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ime limited “therapeutic trial” in selected patients after discussing goals of care (goal might be to gain strength/independence which can be reevaluated weekly for a few week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tite Stimu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gesterol acetate (meg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for AIDS associated w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 in muscle 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” weight (of &gt;5% in only 15-20% of patients) by increasing water retention and fat deposition…over 6-8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rvival benefit…risk of thromb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ecide to use it, use elixir (cheaper, easier), start at 400mg daily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0mg da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tite Stimu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icosteroids (dexamethasone, prednison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emporary effect (up to a few weeks) on appetite without increase in body mass…used mostly if prognosis measured in weeks and if other target symptoms might respond to steroids also (nausea, bronchospasm, bone pai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increase energy for brief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 effects!  (mood swings, elevated BP, inc gluco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if no benefit within a week or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ssion in Palliative Ca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:  numbers hover around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underst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th that all dying patients “should” be depressed, and it is a “normal” part of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diagno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ians fearful of upsetting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treated:  only 10% in one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tite Stimu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:  Data mixed and routine use not recommen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cosapentaenoic acid (omega 3 fish oi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lidomide (in HIV/AID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laton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A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abinoids…(i.e. dronabino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ation at end o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Argument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hydratio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lyte problem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u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ing patients more comfortable if hydrated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holding fluid might set precedent for withholding other therapies which might be appropriate (patients labeled “comfort care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ation at end o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Arguments again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 evidence fluids significantly prolong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nterferes with acceptance of de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Less UOP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need for bed pain, urinal, fol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Less GI flui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vom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Less pulm secretions/cough/congestion/ed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Electrolyte disturbances/uremia may lead to decreased level of consciousnes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suff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o avo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ube feeding death spira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admited for massive stroke/urosepsis with advanced underlying demen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’t swallow/aspirating/losing weigh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be f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agitated with NG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GT replace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aints pla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piration PNA develop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ved to ICU/pulse 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PNA 3-4 more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ssion:  recognize and treat at end of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forget about psychostimi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spnea = subjective sensation.  Goal of therapy is patient telling you they are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underlying cause (if appropri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ates are first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usea/vomiting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cause before tre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cause is medication related which is most effectively treated with Dopamine antagonis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dol &gt;Compazine &gt; Phenerg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rexia/cachex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e fami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tions not that help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dness, grief, depressed mood, and feeling of loss are all appropriate responses to dying…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lings of hopelessness, worthlessness, helplessness, guilt, no desire for pleasure…are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om lin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is NOT a normal part of d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is an illness, with symptoms that need to be recognized and 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Diagnose Depres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-IV….But not really set up for the medically ill.  Many depressive symptoms in medically ill patients may be a result of their medical illness or trea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ful inter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simple 1-2 word screening to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you depres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you been depressed for most of the time for the past 2 wee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the above + loss of interest of usual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epress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relieve uncontrolled symptoms (pain, nausea, dyspnea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social inter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rmacologic inter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epression:  Dr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uch data in palliative care 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hen treating depression in other settings, use side effect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or appetite/insomnia:  Mirtazapine (Remer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europathic/other pain:  TCAs, duloxeti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ymbalta), venlafaxine (effexo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Fatigue/psychomotor slowing:  activating SSRI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luoxitine, venlafazine) or psychostimu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default” is probably an SSRI…u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ssion in Last Weeks o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RIs need 4-6 weeks to work, so why start one if your patient is in last weeks of lif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, use pychostimulants such as methylphenidate (Ritalin) or modafinil (Provig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rapid onset of action (ho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low (2.5 of methlyphenidate daily) and titrate upwards slow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see effect after 1-2 d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mfort in breath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thlessnes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ness of breat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omfortable awareness of breath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----------------------------------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spnea is a SUBJECTIVE sensation, for which the standard of assessment is the patient’s self-report (different from tachypnea which is an OBJECTIVE, measured 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0:31:27Z</dcterms:created>
  <dc:creator>Health Services Department</dc:creator>
  <dc:description/>
  <dc:language>en-US</dc:language>
  <cp:lastModifiedBy>Health Services Department</cp:lastModifiedBy>
  <dcterms:modified xsi:type="dcterms:W3CDTF">2010-04-09T17:34:36Z</dcterms:modified>
  <cp:revision>17</cp:revision>
  <dc:subject/>
  <dc:title>Symptom Management in Palliative Care:  Part 2</dc:title>
</cp:coreProperties>
</file>