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8F2-863E-4BB4-B67B-910FBCBF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BD9-369E-4B37-A9E5-907224AB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06C-8CC7-4689-900E-78897A93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39D-0A39-41D8-AE29-4EF3E44A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A63-8080-4E3F-860F-3DECD73F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EAA-3AED-4AD9-B931-8F5A40D0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113-5CA3-4F32-9301-02B4015F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9F2-1E24-4A47-9D48-A4595775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67B-F877-44D3-8992-7A8482EF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290-D398-47F9-8B69-7E33DC11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032-404F-47CB-BE4C-07527B68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CBF-13C5-40EA-BF5B-0F53E2C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E7CF-442D-42B1-916A-E09F841D3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Lydia Rodriguez</cp:lastModifiedBy>
  <dcterms:modified xsi:type="dcterms:W3CDTF">2009-11-30T17:41:56Z</dcterms:modified>
  <cp:revision>7</cp:revision>
  <dc:subject/>
  <dc:title>Symptom management in hospice and palliative care</dc:title>
</cp:coreProperties>
</file>