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51C7-AB77-4B0C-A67E-EFA8B18BE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silly to define risk factors for a condition that affects over half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nflicting studies, or a threshold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is further confused by lack of consistent reporting of serum vitamin D levels.  This pooled data is the source of opinions that levels of &gt; 30 or even 40 are desir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min D thought to affect muscle strength.  There are studies that point to improvements in performance speed, proximal muscl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ed into quintiles of daily intake, better corellation was ob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he newest, glamorous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roans from that first sub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has heard a patient complain that all of her bones hu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last night, I was having trouble coming up with a title - here are some of the runners up - can anyone guess why these ide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has heard a patient complain that all of her bones hu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corel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mon - 400 IU per 3.5 ou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k/cereal - 100 IU per ser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be having this talk out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rmatologists are not happy about th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really be having this talk outsid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problem - we’re on the beach, but all covered up, probably even wearing sunscreen….what a sh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-OH D is what w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 I know, it makes me rock out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min D may enhance innate immunity while repressing adaptive i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 – diabetes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e tissues – fighting infection, autoimmune disease,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 D levels are inversely related to PTH levels until they reach 30 – 40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:  nude beaches photo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D4B-1C5E-4140-88FC-B2BAE6BC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BE8-8FDB-449D-9DEA-DFB00336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64D-BC79-4AA5-B63D-9DA4BBCF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9F0-053C-4763-93A7-AFBE1C7C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264-6AC8-4ACE-8D30-5E4CEAAD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549-E107-4798-8747-D9C38C4A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CAD-CCDA-462A-A572-ACA3B738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152-C38E-4927-9D47-EB14861D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728-4CD0-4FB9-A128-0F5B9DD2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6EF-BA7F-42C3-B99F-E6DE8EE2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70DD-F430-4A2C-9D46-232CA428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60C-8D3B-4F16-AFD1-B1614DFD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52D1-121B-4714-B22E-2DDE59457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:  Bones an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ie Fre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hanisms of De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dietary in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absor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sun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hepatic catabolism (liver dise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endogenous synthesis (renal dise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-organ resistance (ra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 for deficienc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 la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ion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er complex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r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sity (vit D accumulates in fat st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absorption (Celiac dz, IBD, bariatric surg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tion interactions (rifampin, dilantin, carbamazep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letal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vitamin D, only 10-15% of dietary Ca is absorbed; only 60% of phospho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 deficiency causes hyperparathyroidism, leading to demineralization of bone, leading to rickets and osteomala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risk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pective study of 3300 French wo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0IU vitamin D daily, 1200 mg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d hip fracture by 43% and nonvertebral fracture by 32% however WHI study of women on 400 IU reported no benefit for hip fracture and increased kidney st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0 women and 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0 IU, 500 mg calcium led to 58% reduction in nonvertebral fra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: 36,000 wo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0 IU vitamin D, 1000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benefit for hip fracture, but more kidney 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analysis of 7 trials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benefit with 400IU for either hip or nonvertebral fra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ies using 700-800IU demonstrated fracture reduction of 23% for nonvertebral fractures and 26% for hip fra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threshold serum lev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 demonstrated little effect on fracture risk for levels &lt; 26 ng/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prevention trials gave 700-800 IU and raised baseline vitamin D levels from &lt; 17 to 40 ng/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s in the Elde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analysis of 5 RCTs demonstrated 22% reduction in falls with 800 IU as the most effective dose.  400 IU was not effec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quent study of 124 nursing home residents (average age 89):  800 IU group had 72% reduction in falls vs. placebo.  No dose-response curve was s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shold level for respon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skeletal Hypothe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can improve chronic pai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helps fight infec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prevents autoimmune disea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prevents can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tamin D improves blood pressur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your attitude, or change your latitu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emi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s increase risk for Hodgkin’s lymphoma, colon, pancreatic, breast, and ovarian canc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 increases risk of type 1 DM, multiple sclerosis, and Crohn’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teomalacia patients complain of dull ache in their bones which can be tender to the to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nikoff and Quigley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neapolis, Minnesota (45°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0 primary care patients with nonspecific musculoskeletal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igrants and native-born, very multiracial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elderly, non-home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ner-up Tit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.  Sun and sardin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.  Bones, groans, and Crohn’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.  Change your attitude, 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ange your latitu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3% of patient had vitamin D level &lt; 20 (Mean of 1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nger patients fared wors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 &lt; 30 - mean level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 &gt; 50 - mean level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ls lower in African-Americans - mean of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 “Patients with non-specific skeleto-muscular pain should have vitamin D levels check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tion:  No evidence that raising vitamin D levels improves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functio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as immuno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enhance innate immunity while controlling the excesses of adaptive immunity (autoimmune disea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itro:  25-OH D levels control generation of cathelicidin by monocytes and macrophages in respons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cobacterium T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lle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sclerosis has a multifold increase in prevalence with increasing lat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sclerosis risk also changes with migration of populations - suggests environmental l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clero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pective, case-control study of US military personnel - bank of stored serum samples prior to diagno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casians - inverse correlation with vitamin D levels:  highest quintile has 51% lower inc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African-Americans and Hipanics, the association was not signific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ype 1 D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nish birth-cohort study:  infants who received vitamin D supplementation in year 1 of life had 80% reduced risk of type 1 D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colon, breast, and prostate cells have vitamin D recep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metabolites may inhibit angiogenesis, promote differentiation, inhibit cell prolif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standing observation of higher breast, colon and prostate cancer risks at higher latitu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studies of colon cancer or adenomatous polyps - 20 found a statistically significant benefit of vitamin 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Prospective studi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studies showed 2x risk of colon cancer for level &lt; 3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howed 2x risk for level &lt; 20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ourth showed favorable, but non-significant tr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st canc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 studies of breast cancer, 9 reported a favorable associa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ANES women with high intake or sun exposure (self-reported) had reduced lifetime 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ate cancer:  13/26 studies showed significant favorable assoc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tudy of 19,000 men in Finland found 70% higher incidence in men with levels &lt; 1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ly fish (salmon, mackerel, sardines) and cod liver 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ified foods (milk, cereals, margar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basic physiology and epidemiology of vitamin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changing definitions of deficiency, and of optimal vitamin D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evidence for skelet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evidence for extraskelet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strategy for assessment of vitamin D levels, treatment of deficiency, and sup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ergocalcif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cholecalcif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A recommends 400 IU daily - all 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recommendations from I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 IU daily for children/adults &lt; 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 IU daily for age 51 -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0 IU daily for age &gt;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es of 1000 IU needed for level &gt;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ficiency (&lt;20), (or insufficieny &lt; 3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,000 IU weekly for 8 weeks, then rech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with 1,000 IU daily mainten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tudies suggest cholecalciferol increases levels more efficiently than ergocalcif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patients with chronic renal disease or severe liver disease, calcitriol is preferable.  However, 25-OH D levels will not reflect clinical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 much of a good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vitaminosis 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calcem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calcification of bones, soft tissues, heart and kidn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ney 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no evidence of excess at doses below 10,000 IU da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sunlight is enoug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of arms, shoulders and back for 15 minutes in summer, 20 minutes in spring or fall, between 11 am and 2 pm, 2 - 3 times per wee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dark skin, you need up to twice as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ding Thou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 D appears to have effects far beyond the calcium economy - not just for bones anymor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optimal vitamin D status will be difficult in chronic disease and malignancy - long latency and multifactorial causation make them difficult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current definition of deficiency is &lt; 20, study outcomes for fractures, falls, and cancer prevention suggest optimal level &gt;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recommendations for supplementation may be insufficient.  Consider 800 - 1000 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 increases risk of type 1 DM, multiple sclerosis, and Crohn’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of MS decreases by 41% for every increase of 20 ng/ml above 2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nish study of &gt;10,000 children who received 2000IU from birth to 1 – had 80% less risk of DM 1 over 31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a bottle of vitamin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ch pi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 pill:  statin, ace, fish oil, green tea, dark chocolate, almonds, vitamin 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ssues with vitamin D receptors:  brain, prostate, breast, colon, immune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25 OH-D controls &gt;200 genes, some of which regulate apoptosis, proliferation, angiogen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omodulator – can increase synthesis of cathelicidin – fights M.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-OH levels &lt; 20 associated with 30-50% increased risk of incident colon, prostate, breast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 participants with level &lt; 12 had 253% increased colorectal cancer risk over 8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vitamin D intake correllated with 50% less risk of breast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es it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ly 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t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9880" y="2133720"/>
            <a:ext cx="48816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 from skin and diet metabolized in liver to 25-hydroxyvitamin D (25-OH 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dney metabolizes 25-OH D to its active form:  1,25-OH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l production is tightly regulated by PTH, calcium, and phospho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vitamin D levels raise PTH which leads to osteoclast acti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arget T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s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d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e’ll miss you, Antho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6905520" y="-5178600"/>
            <a:ext cx="4871880" cy="365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76720" y="1828800"/>
            <a:ext cx="48816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Classical Target T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thyroid glands, pancreas, immune tissues, keratinoc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200 identified genes have vitamin D response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ium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iferation, differentiation, apopt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and acquired i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de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ly, less than 20 ng/ml of 25-OH-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dvocate for a “physiologic” definition of normal as &gt; 30 ng/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H levels level off at 30 or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intestinal transport when raising level from 20 to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illion people worldwide have deficiency or insufficiency, defined as &lt; 20 ng/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8% of white preadolescent girls in M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% of 18-20 year-olds at the end of a Boston wi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% of 15-49 yo Black girls and women at the end of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-54% of patients over 65 years of 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50% of postmenopausal women on treatment for osteoporo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% of US/European community-dwelling elder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% of healthy medical students, doctors and residents in a Boston hos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um levels of &lt; 30 ng/m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% of Europeans and half the world’s population are defic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23:13:29Z</dcterms:created>
  <dc:creator>HCMARTINEZ</dc:creator>
  <dc:description/>
  <dc:language>en-US</dc:language>
  <cp:lastModifiedBy>HCMARTINEZ</cp:lastModifiedBy>
  <dcterms:modified xsi:type="dcterms:W3CDTF">2009-06-12T16:25:05Z</dcterms:modified>
  <cp:revision>15</cp:revision>
  <dc:subject/>
  <dc:title>Prevalence</dc:title>
</cp:coreProperties>
</file>