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DC2-9D6F-45AE-A7C1-EF94C7A3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857-B9C7-44BE-A9AD-3389BC68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C27-AF7D-4DCF-A053-8538FFD0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EF9-8D99-460D-B318-B542C508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7D75-1579-48AB-8E37-CDB82C12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F0E2-C0FF-4EC8-91EB-9BB1C4B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0A9B-9BC9-4726-902E-5FEECA1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6FE6-86FC-44D2-8538-F1B87FC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D305-491D-485C-8026-AF5E1A31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D73D-0E06-4A28-A4C9-BD1DAC4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65EE-B41E-427C-AAF2-CC8FEF35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D46-2D35-446D-A8DC-A4CFEC87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1D10-095A-4B57-B75E-76AEBD3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EC5F-4718-4914-A874-D1D7ECF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5005-3CEF-4C4C-A8F2-2DE0F6B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299-9751-4EDF-8A8E-49F1275E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BB12-EDC3-46AC-B568-C714A80A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B2B-BFBB-4DFC-AE28-01057306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666-C0A6-4C5A-B3B7-EC525B5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8B0-5F59-4831-8285-0F26D2AC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7B3-6DD7-4759-9C3C-9D2C94B7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735-5597-428B-A388-3DAF6F4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D26-995E-405B-9701-732AD61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A1F-AC10-40CA-A662-4317230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870A-4192-4279-982F-E8CB9091DC7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B36-FA0D-4A16-BD1A-E067A78035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munity Medicin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oving towar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ngitudinal Curriculu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181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ita Kalra 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ly 9, 20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8892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230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990720" y="-68580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960480" y="-704880"/>
            <a:ext cx="1106496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ous Curriculu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or to 2009-2010 academic year: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2 week bloc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09-2010 academic yea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Continued 2 week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 b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is new for 2010-2011 Academic Yea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1: 2 half days on BM, Ortho, and 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2: Jeopardy, CODA, Clinics-2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ve and Peds OP with 2 half day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Y3:  Track E, MOP, Jeopardy with 2 half days 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the Survey Says…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Group Based Project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Continue with Exposure to Public Health System/Clin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3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ears: 3 Main Groups Establish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MC/Wellness/Lifestyle Chan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Health: Adolescent Sexual Heal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l Area School Outrea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uture of C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in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my current projec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bout Global Health Based Projec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05:10:54Z</dcterms:created>
  <dc:creator>skalra</dc:creator>
  <dc:description/>
  <dc:language>en-US</dc:language>
  <cp:lastModifiedBy>skalra</cp:lastModifiedBy>
  <dcterms:modified xsi:type="dcterms:W3CDTF">2010-07-09T06:29:10Z</dcterms:modified>
  <cp:revision>6</cp:revision>
  <dc:subject/>
  <dc:title>Slide 1</dc:title>
</cp:coreProperties>
</file>