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8C6-BCD5-4E87-BF76-E4C74B8F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FB8-49D8-4BE9-86D8-9864A415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776-6EE5-42D7-9327-F6237B62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D82-7089-4348-8A1B-903717EA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C9F6-CDBD-449E-869A-1948140D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A646-596A-4E52-A20A-89D9849C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88BE-24C6-4380-A5C3-8FA65C98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B981-A843-4D86-B31C-1917AF7A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A201-0596-4B65-AA06-60A9E129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34CC-D12F-4191-A15F-A9C228B5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32FF-AC2C-439F-B366-20158016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916-A2A5-4FCA-9E8A-19A48B9B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8FDA-04A3-412E-AE59-C2372D4B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158A-666F-4689-9293-BCF45E66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EC92-D12A-48A8-B3FE-E85B76A4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69B8-120C-4CBE-A4A8-38C893E0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5347-FDE1-4751-9F43-7C1D5112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352-3D6D-46A1-BE7C-008881E9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DAE-0074-4E0E-B5DE-88ECCB4A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2E5-804F-4B8E-BD40-0245002D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968-A785-42EA-9E36-03B84A5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A84-012C-4E9C-A187-82A98671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142-C76E-4210-9904-635AC33D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0A9-5005-4A00-BE4E-CD64A77E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FF2B-8368-49ED-9093-318E869211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284-BB21-44C7-9218-0731E35EBA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munity Medicin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ving towar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ngitudinal Curriculu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181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mita Kalra 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uly 9, 20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88920"/>
            <a:ext cx="17938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2304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990720" y="-68580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960480" y="-70488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vious Curriculu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or to 2009-2010 academic year: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2 week blo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09-2010 academic yea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Continued 2 week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b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is new for 2010-2011 Academic Yea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1: 2 half days on BM, Ortho, and 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3:  Track E, MOP, Jeopardy with 2 half days 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d the Survey Says…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Group Based Project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Continue with Exposure to Public Health System/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3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3 Main Groups Establish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MC/Wellness/Lifestyle Change Pro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Health: Adolescent Sexual Heal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Area School Outr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uture of C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in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Impr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my current projec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Global Health Based Projec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05:10:54Z</dcterms:created>
  <dc:creator>skalra</dc:creator>
  <dc:description/>
  <dc:language>en-US</dc:language>
  <cp:lastModifiedBy>skalra</cp:lastModifiedBy>
  <dcterms:modified xsi:type="dcterms:W3CDTF">2010-07-09T06:29:10Z</dcterms:modified>
  <cp:revision>6</cp:revision>
  <dc:subject/>
  <dc:title>Slide 1</dc:title>
</cp:coreProperties>
</file>