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C9E-3764-4CFC-A9C4-D7FDA43F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DBE-4C15-42AD-8989-466B8D1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791-D600-4375-BB1B-9083E06D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B1E-7CBA-48E9-BFDB-8368E0E0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B8EE-2FF9-40A4-B42B-6928C627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71F7-74B1-4FF0-BEC0-636D1C97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CBDF-DC2A-47C6-BE9A-40A048F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068D-693D-4BED-8F4A-B88E2A0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843E-D01E-4921-9426-66E5F2C5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BC5B-88F9-4105-A0F7-D3AA891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0055-EB6B-4F53-9275-C000238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47B-27A1-4C61-8933-F193A4D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E156-8E44-4D2B-86DD-878F4AB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DEB7-6831-465E-BD83-6E5F8FA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175-FA62-48DF-B063-BCBEE3D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1CDC-E128-4C5A-80C7-A3456B16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B335-3F67-419E-95E6-F84962D3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5DA-9DCD-492D-8B9D-4197B869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D9D-D6F1-4A6D-994D-2BEA01E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659-CBE3-421A-B98F-F374BAC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56B-F1ED-443C-A185-AD2978F4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3A4-9C69-4134-B4FA-3FF714A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43E-929B-4932-8829-E1CBBA9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656-76E7-4160-A064-3022278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740E-62B7-4BFE-B3B3-31B0F56EF0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5F9-C2EB-4875-8DAD-C1E58B4ECE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munity Medicin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ving towar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ngitudinal Curricul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181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ita Kalra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ly 9,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8892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30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90720" y="-68580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960480" y="-70488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ous Curriculu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 to 2009-2010 academic year: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2 week blo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9-2010 academic yea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Continued 2 week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w for 2010-2011 Academic Ye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1: 2 half days on BM, Ortho, and 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3:  Track E, MOP, Jeopardy with 2 half days 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the Survey Says…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Group Based Project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Continue with Exposure to Public Health System/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3 Main Groups Establish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MC/Wellness/Lifestyle Chan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Health: Adolescent Sexual Heal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rea School Outr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ture of C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my current pro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Global Health Based Projec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10:54Z</dcterms:created>
  <dc:creator>skalra</dc:creator>
  <dc:description/>
  <dc:language>en-US</dc:language>
  <cp:lastModifiedBy>skalra</cp:lastModifiedBy>
  <dcterms:modified xsi:type="dcterms:W3CDTF">2010-07-09T06:29:10Z</dcterms:modified>
  <cp:revision>6</cp:revision>
  <dc:subject/>
  <dc:title>Slide 1</dc:title>
</cp:coreProperties>
</file>