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F8A-80F3-4088-8F0A-21AF027C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9D0-9774-4A48-BE3F-15BC68D4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99E-7B07-4958-B80D-8045BA73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7E3-A13D-4D44-AE57-1AB44B1D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CC39-DF33-42E0-84CC-1186C8FF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161A-B477-4E36-B378-57D8EFB8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7B6A-F24B-41F1-BE0C-7DD270FC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32F7-99E3-4E6C-B89C-1B24BEFC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0326-A51F-4476-BD34-8CA89C5D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E89A-C6AD-4779-A02B-39A2474F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319C-2B80-4905-8AED-A70472F3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05E-A9E1-4B6D-B3D7-551DB795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0F46-3B8C-4FC1-9475-08C51278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1C9D-2867-4D65-B1F3-7BEB1227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3160-CB32-4E39-BA3E-64424A16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EDF7-E432-4A11-9EE4-065D79DE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93DA-4B81-4265-9DFC-16D57754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B0E-477E-481F-A8C1-59558AF7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8FA9-C5DA-47C9-B979-729C5ABB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CF3-158F-4C5A-93BE-1035DA66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436-9AD2-4879-A03B-03C00FC7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099-5A07-4864-A170-A5313383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A25-1973-4DBC-BF9A-A50C9E72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1A4-BCCA-40CC-863B-0CE81576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44E8-17D4-441F-8596-9A09368AD5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F057-9474-4087-A775-992F00CED81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mmunity Medicin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oving toward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ngitudinal Curriculu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1814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mita Kalra 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uly 9, 20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57600" y="88920"/>
            <a:ext cx="17938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2304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990720" y="-685800"/>
            <a:ext cx="11064960" cy="82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960480" y="-704880"/>
            <a:ext cx="11064960" cy="82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vious Curriculu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or to 2009-2010 academic year: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 2 week bloc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09-2010 academic yea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Continued 2 week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 b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PGY2: Jeopardy, CODA, Clinics-2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ive and Peds OP with 2 half day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is new for 2010-2011 Academic Yea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1: 2 half days on BM, Ortho, and Clin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2: Jeopardy, CODA, Clinics-2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ive and Peds OP with 2 half day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3:  Track E, MOP, Jeopardy with 2 half days 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d the Survey Says…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Group Based Project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s: Continue with Exposure to Public Health System/Clin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3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s: 3 Main Groups Establish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MC/Wellness/Lifestyle Change Pro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Health: Adolescent Sexual Heal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cal Area School Outrea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uture of C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in Prog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y Impro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bout my current projec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bout Global Health Based Projec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05:10:54Z</dcterms:created>
  <dc:creator>skalra</dc:creator>
  <dc:description/>
  <dc:language>en-US</dc:language>
  <cp:lastModifiedBy>skalra</cp:lastModifiedBy>
  <dcterms:modified xsi:type="dcterms:W3CDTF">2010-07-09T06:29:10Z</dcterms:modified>
  <cp:revision>6</cp:revision>
  <dc:subject/>
  <dc:title>Slide 1</dc:title>
</cp:coreProperties>
</file>