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446E-DAF7-4BF7-97A2-4CD47A5BE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91F4-F2DA-4C11-AF81-412C012EE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3E15-0E24-41ED-9456-009F44059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7E43-0875-4E96-B8A3-B07183B77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5070-260F-4A9F-B389-813B0A31E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6331-7A9F-4E66-BB81-11228838D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409A-29DF-4432-83F2-113B8525C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9FC5-A045-4AC4-883A-3AF5B6019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DB9A-4797-4D08-9048-F05B15CBB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4712-5631-4A0F-B9DD-E5B2B21F9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CBD3-877F-4C0A-9D50-ECF519682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0A13-846E-426F-935D-1D3CBBF3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97F1C-2354-46AB-B5B7-5D32C2D4A6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gnificant Articles 200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spital Medic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Gabriela Sullivan M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CCRM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(Borrowed liberally from talk by Brad Sharpe, MD, UCSF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te Control in afib with RV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u C, et al. Crit care Med July 2009; 37(7):217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en-label RCT 150 patients who presented to ER with symptomatic uncomplicated afib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ared 3 groups: IV dilt, IV dig, IV ami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utcomes were rate &lt;90 and symptom relie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V dilt achieved earlier rate control, more rate control, and shorter LOS. Also better symptom relie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68 year old nursing home resident with S. aureus osteo.  He has new swelling in his right arm. He has a diffusely swollen R arm but no redness or joint swelling.  He has a PICC in that a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is the risk of thromboembolism in patients with PIC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ver happ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TE with PIC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bo et al, J Hosp Med 2009; 4:417-42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trospective chart review of adult general medicine inpatients in a single university-affiliated community hospit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954 PICCS; 777 pat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ymptomatic patients only screened, mean age 61, 60% wo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5% developed UE DV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% developed 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te: 5.0 VTE/1000 PICC d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 4.5% had a VTE complica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/o VTE (OR 10.8) and non-central PICC location (OR 2.6) associated with V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eat UE VTE like LE V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the time of discharge the nurse asks if the patient should get a pneumovax before he goes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there benefit in nursing home patien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neumovax in nursing ho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ruyama et al. BMJ 2010; 340:c100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uble blind RCT of 1006 Japanese nursing home residents comparing 23-valent pneumovax vs. placebo showed 4.5% decreased risk of pneumoccocal pneumonia (NNT 22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isk of death from pneumococcal disease declined 3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0 yo man with COPD, HTN and chronic back pain is admitted for increasing cough, chest pain, and dyspnea. He describes his pain as “ripping” to his bac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think this is COPD but you are wondering if this could be PE or disse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tests can you order to rule out PE and diss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RI of ch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 of the 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-dim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T scan of the ch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7 year old woman with a h/o HTN presents with syncope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tests should you 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dimer in Diss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zuki T et al, Circulation 2009; 119:27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question is can D-dimer aid in evaluation of dissec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spective multi-center 222 suspected of dissection, all D-dimer+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ients &lt;24 hours of symp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7 patients with diss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st characteristic for D-dimer&lt;5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above true rules out dissection 95% of the time, but poor specificity, 61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D-dimer&gt;1600 it showed a positive likelihood ratio of 12.8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s D-dimer is slightly elevated so he gets a CT of the chest which is negative except for a new 1 cm pulmonary nodule in the R lob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valence of clinically relevant incidental findings on CT for 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re &lt;1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ss than 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out 1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ound 2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cidental CT sc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ll, et al. Arch Intern Med 2009; 169(2):196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trospective cross-sectional, 589 CTA’s ordered by ED, reviewed for final read for PE and non-PE find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143000" y="1397160"/>
          <a:ext cx="6858000" cy="43272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</a:tblGrid>
              <a:tr h="81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din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ternative Diagnos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idental=f/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idental no f/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*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ヒラギノ角ゴ Pro W3"/>
                        </a:rPr>
                        <a:t>_x0013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cidental CT scan findin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idental findings common for CTA. Many require f/u; new nodules/L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s creatinine went from .9-1.3 over a 36 hour peri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you need to worry about this increase in creatinin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KI and outco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rrantes et al. Mayo Clin Proc, 2009; 84(5); 410-4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trospective cohort and case-control study of 735 adult patients with AKI (increase in serum creatinine &gt;.3 within 48 hou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089 controls at a single community hospit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KI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ients with AKI wer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X more likely to die in the hospit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X more likely to have LOS&gt;7 d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X more likely to require critical c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ich diagnostic test is the highest yield and most cost-effecti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ad 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le for 24 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K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oponin 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thostatic V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lt-table te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meet the patient’s wife and before she shakes your hand she asks you if you have washed your hand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ve you washed your hand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re as you hit the alcohol dispenser on the w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itely before and after each patient conta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course as you wipe your lunch on your pat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ve you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roving hand hygi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int et al. Qual Saf Health Care 2009; 18: 4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a mulitmodal intervention improve healthcare worker hand hygien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nd hygiene intervention 5 hosp units; mulitmodal intervention over 2 weeks; before/after observ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143000" y="1397160"/>
          <a:ext cx="6858000" cy="406368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</a:tblGrid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din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vera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.0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rse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.0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cto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.0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D champion identified, engaged, motivated by base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diology unit MDs; pre: 6.4%, post 3.8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D champion key, rates still po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0 yo woman with DM and CKD found altered in her apart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she is in the ER her temp is 38.5C and she is somnolent with nuccal rigid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uspect bacterial meningitis and perform LP, start empiric antibiotics and admit her to the hospit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3289320" y="1658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ould you also start steroid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pends on the g stain; if GPC y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es in this pati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ly in children but not in ad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roids in acute bacterial meningit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iri, et al. Mayo Clinic Proc 2009; 84(5) 403-4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the effect of adjuvant steroids on short-term mortality and neurologic sequelae in acute bacterial meningiti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ystematic review/meta-analysis, placebo-controlled, RCTs. 4 trials; 1261 adult and adolescent pat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143000" y="1397160"/>
          <a:ext cx="6858000" cy="406368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oled RR of death (95% CI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vera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8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velop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w HIV prevale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6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developed countries: NNT to prevent 1 death 12.5. NNT to prevent 1 death from S pneumo is 4.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NT to prevent 1 neuro sequelae in developed countries is 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s used dexamethasone .6 mg/kg/day 4 X a 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agnostic Tests in Synco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ndu ML, et al, Arch Intern Med July 2009: 169:129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trospective cohort study 2100 pts. All &gt;65 yo.  Studies ordered were noted and if tests made diagnosis or changed manage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3% had diagnosis for synco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common causes vasovagal, orthosta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atient worsens and a code blue is called. The son and daughter are outside the room and they would like to come into the room during the resuscit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uld you allow tha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 you allow family to be present during resuscitatio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es, it is important to show them that everything is being done and so they can be there for h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, too traumatic for th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es, my hospital has a policy allowing families to be pres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, having the family might impair the performance of the code te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mily presence at co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rnandez R, et al Crit Care Med. June 2009; 37; 195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CT 2nd and 3rd year EM residents, simulated codes, worker and family member present: 3 groups, no family witness, a nonobstuctive “quiet” witness, a witness with an “overt grief reaction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143000" y="1397160"/>
          <a:ext cx="6858000" cy="472428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itical ac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witn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i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vert grie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to 1st com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to 1st sho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6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5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 of shoc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to dea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8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est Com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prospective study of 509 out-of-hospital cardiac arrests ( VF or VT) examined % time given chest compressions and outco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d % time patients were given chest compressions increased the odds of surviving to hospital discharge (11% increase for each 10% increase in time spe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itely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) use dilt instead of dig or amio for rate control in uncomplicated af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) give pneumovax to eligible nursing home pati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) appreciate how common important incidental findings are in CT scans for 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) prioritize chest compressions in resusci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ide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) limiting the eval of syncope in patients &gt;65 to history, exam, orthostatics, tele, EKG, troponin 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) the risk of VTE with PICC is 5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)using D-Dimer to R/O aortic diss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) small increases in creatinine in the hospital may be importa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)how hard it is to get providers to wash their ha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) the consequences of allowing family members to be present at resuscit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600200"/>
          <a:ext cx="8229600" cy="32353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requency obtained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ffected diagnosis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ffected management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diac enzy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ch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ad 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E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thostatic V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600200"/>
          <a:ext cx="8229600" cy="29671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requency obtained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st per + test -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eme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oponin 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ch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ad 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8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E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9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thostatic V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agnostic Tests in Synco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thostatic VS the best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KG, tele, and troponin high-yield, low c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patient has a normal EKG and troponin and is admitted to tele for observ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 develops rapid atrial fib the next day, to 1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rate control in absence of CHF and normal renal function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V am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V di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V dil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V me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diove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9T19:36:41Z</dcterms:created>
  <dc:creator>hcmartinez</dc:creator>
  <dc:description/>
  <dc:language>en-US</dc:language>
  <cp:lastModifiedBy>hcmartinez</cp:lastModifiedBy>
  <dcterms:modified xsi:type="dcterms:W3CDTF">2010-06-30T16:45:10Z</dcterms:modified>
  <cp:revision>17</cp:revision>
  <dc:subject/>
  <dc:title>Significant Articles 2009 Hospital Medicine</dc:title>
</cp:coreProperties>
</file>