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4AE-3A7E-4283-8588-FB321558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C60-887F-44BF-A545-23E8C74C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A04-96AA-4B55-873A-CC75E2F3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4ED-B392-4090-8DB1-3189FAC0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75E-2D93-433E-BF74-F0F0ED31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E10-DB4C-4B72-94D5-9220547F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543-9404-44B3-9F51-49BD60F3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6F1-1644-4C3A-BBFF-C0CAD391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74B-FAAC-4B15-995C-038339C4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517-F803-42B5-88E1-289BFA3A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152-8AE2-4D57-AF89-5E49231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B98-DFFD-47AF-B0E8-93FDF9B0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5DA2-181B-4F48-A456-8A438E5DF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Articles 200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briela Sullivan 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CR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(Borrowed liberally from talk by Brad Sharpe, MD, UCS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Control in afib with RV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u C, et al. Crit care Med July 2009; 37(7):2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-label RCT 150 patients who presented to ER with symptomatic uncomplicated afi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d 3 groups: IV dilt, IV dig, IV am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s were rate &lt;90 and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 achieved earlier rate control, more rate control, and shorter LOS. Also better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68 year old nursing home resident with S. aureus osteo.  He has new swelling in his right arm. He has a diffusely swollen R arm but no redness or joint swelling.  He has a PICC in that 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isk of thromboembolism in patients with PIC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E with PI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bo et al, J Hosp Med 2009; 4:417-4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hart review of adult general medicine inpatients in a single university-affiliated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4 PICCS; 777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atic patients only screened, mean age 61, 60%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5% developed UE D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% developed 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: 5.0 VTE/1000 PICC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4.5% had a VTE com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/o VTE (OR 10.8) and non-central PICC location (OR 2.6) associated with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UE VTE like LE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 of discharge the nurse asks if the patient should get a pneumovax before he go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benefit in nursing hom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neumovax in nursing h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uyama et al. BMJ 2010; 340:c1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blind RCT of 1006 Japanese nursing home residents comparing 23-valent pneumovax vs. placebo showed 4.5% decreased risk of pneumoccocal pneumonia (NNT 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sk of death from pneumococcal disease declined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man with COPD, HTN and chronic back pain is admitted for increasing cough, chest pain, and dyspnea. He describes his pain as “ripping” to his 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ink this is COPD but you are wondering if this could be PE or dis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ests can you order to rule out PE and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of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of the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di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scan of the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year old woman with a h/o HTN presents with synco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sts should you 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mer in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uki T et al, Circulation 2009; 119:2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is can D-dimer aid in evaluation of dis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ctive multi-center 222 suspected of dissection, all D-dimer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&lt;24 hours of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 patients with dis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haracteristic for D-dimer&lt;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bove true rules out dissection 95% of the time, but poor specificity, 6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-dimer&gt;1600 it showed a positive likelihood ratio of 12.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D-dimer is slightly elevated so he gets a CT of the chest which is negative except for a new 1 cm pulmonary nodule in the R 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of clinically relevant incidental findings on CT for 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 &lt;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, et al. Arch Intern Med 2009; 169(2):19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ross-sectional, 589 CTA’s ordered by ED, reviewed for final read for PE and non-PE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97160"/>
          <a:ext cx="6858000" cy="4327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Diagn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=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 no 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13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al findings common for CTA. Many require f/u; new nodules/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creatinine went from .9-1.3 over a 36 hou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need to worry about this increase in creatin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antes et al. Mayo Clin Proc, 2009; 84(5); 410-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and case-control study of 735 adult patients with AKI (increase in serum creatinine &gt;.3 within 48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89 controls at a single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AKI w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X more likely to die in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have LOS&gt;7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require critical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diagnostic test is the highest yield and most cost-eff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 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 for 24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nin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t-tabl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eet the patient’s wife and before she shakes your hand she asks you if you have washed your ha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ve you washed your ha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 as you hit the alcohol dispenser on the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before and after each patient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as you wipe your lunch on you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ing hand hygi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nt et al. Qual Saf Health Care 2009; 18: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 mulitmodal intervention improve healthcare worker hand hygie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 intervention 5 hosp units; mulitmodal intervention over 2 weeks; before/after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identified, engaged, motivated by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logy unit MDs; pre: 6.4%, post 3.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key, rates still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woman with DM and CKD found altered in her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e is in the ER her temp is 38.5C and she is somnolent with nuccal 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uspect bacterial meningitis and perform LP, start empiric antibiotics and admit her to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932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 you also start steroi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the g stain; if GPC 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in this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n children but not i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oids in acute bacterial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ri, et al. Mayo Clinic Proc 2009; 84(5) 403-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ffect of adjuvant steroids on short-term mortality and neurologic sequelae in acute bacterial meningit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review/meta-analysis, placebo-controlled, RCTs. 4 trials; 1261 adult and adolescen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ed RR of death (95% C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HIV pre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: NNT to prevent 1 death 12.5. NNT to prevent 1 death from S pneumo is 4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NT to prevent 1 neuro sequelae in developed countries i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s used dexamethasone .6 mg/kg/day 4 X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u ML, et al, Arch Intern Med July 2009: 169:12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study 2100 pts. All &gt;65 yo.  Studies ordered were noted and if tests made diagnosis or changed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% had diagnosis for syn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s vasovagal, orth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worsens and a code blue is called. The son and daughter are outside the room and they would like to come into the room during the resusc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allow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allow family to be present during resus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is important to show them that everything is being done and so they can be there for 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oo traumatic fo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my hospital has a policy allowing families to b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having the family might impair the performance of the cod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presence at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nandez R, et al Crit Care Med. June 2009; 37; 19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T 2nd and 3rd year EM residents, simulated codes, worker and family member present: 3 groups, no family witness, a nonobstuctive “quiet” witness, a witness with an “overt grief reac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397160"/>
          <a:ext cx="6858000" cy="4724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ical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w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t g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sh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sh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spective study of 509 out-of-hospital cardiac arrests ( VF or VT) examined % time given chest compres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% time patients were given chest compressions increased the odds of surviving to hospital discharge (11% increase for each 10% increase in time sp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use dilt instead of dig or amio for rate control in uncomplicated af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give pneumovax to eligible nursing hom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appreciate how common important incidental findings are in CT scans for 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 prioritize chest compressions in resusc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limiting the eval of syncope in patients &gt;65 to history, exam, orthostatics, tele, EKG, troponin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he risk of VTE with PICC is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using D-Dimer to R/O aortic dis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small increases in creatinine in the hospital may be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how hard it is to get providers to wash thei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the consequences of allowing family members to be present at resusc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diagnosi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management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+ test -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onin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 the bes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, tele, and troponin high-yield,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tient has a normal EKG and troponin and is admitted to tele for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evelops rapid atrial fib the next day, to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ate control in absence of CHF and normal renal fun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am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me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9:36:41Z</dcterms:created>
  <dc:creator>hcmartinez</dc:creator>
  <dc:description/>
  <dc:language>en-US</dc:language>
  <cp:lastModifiedBy>hcmartinez</cp:lastModifiedBy>
  <dcterms:modified xsi:type="dcterms:W3CDTF">2010-06-30T16:45:10Z</dcterms:modified>
  <cp:revision>17</cp:revision>
  <dc:subject/>
  <dc:title>Significant Articles 2009 Hospital Medicine</dc:title>
</cp:coreProperties>
</file>