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AB1-7E06-4F36-8112-9EF601C3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881-DB3E-4C98-9CA9-E52BFFC8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32A-C319-42A4-ABA9-A282CFD5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EA6-D167-42D0-96E2-92844F97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BF1-64E5-41B4-A52B-E77FDEDB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62B-9EAF-483D-8A61-28ADF307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469-EC96-4FBF-A104-6A29CD9E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22B-5282-4471-A53E-8FDBDB7A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3CF-C1B7-4FB2-A8DB-44D92615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257-E01B-4238-AB57-1F8F2827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C82-4ADD-4DA8-9F5C-CD1E3051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0C9-8016-43B0-98E7-BA760CF3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5216-672E-4EFE-8DAB-4C4158AD1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er Injuri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Nanda K. Sinha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4640" y="182880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iew of scap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7520" y="1619280"/>
            <a:ext cx="5628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22305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houlder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rior: 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: Most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ior: Most dra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: Acromion blocks superior dis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17920" y="1600200"/>
            <a:ext cx="390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7640" y="1989000"/>
            <a:ext cx="26287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76560" y="1638360"/>
            <a:ext cx="2990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ction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2152800"/>
            <a:ext cx="34099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ally displaced fracture: non-operative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0560" y="1600200"/>
            <a:ext cx="576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2314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628640"/>
            <a:ext cx="4762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part fracture -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ced fracture: closed or open reduction: fi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05040" y="1600200"/>
            <a:ext cx="55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op vs opera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87520" y="1938240"/>
            <a:ext cx="43689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ure: shaft of hume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382920" y="1600200"/>
            <a:ext cx="237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19160" y="2214720"/>
            <a:ext cx="53056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l ( inner)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1/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eral (outer) 1/3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1/3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ral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57400" y="2255760"/>
            <a:ext cx="495288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6880" y="2643120"/>
            <a:ext cx="381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nuted,displa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15 degree cran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ning of 20 mm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nding skin disruption and irreducible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ar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ve neurologic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d lateral 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 sling vs fig of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48080" y="182880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duction internal fixation (ORI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1785960"/>
            <a:ext cx="4343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09680" y="1600200"/>
            <a:ext cx="652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vicle Fra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 vs or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91916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-C Joint dislo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38280" y="2044800"/>
            <a:ext cx="3962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7520" y="1600200"/>
            <a:ext cx="32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1282680"/>
            <a:ext cx="3933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95680" y="1600200"/>
            <a:ext cx="417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82760" y="1600200"/>
            <a:ext cx="277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1880" y="1600200"/>
            <a:ext cx="534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88604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and 2: non o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4 and above: OR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3: ( A-C Joint reducible by pushing up on the elbow at 90 deg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–op vs ORI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romio-Clavicular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operative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lim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to monitor amount of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bilitation once pain is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05200" y="1371600"/>
            <a:ext cx="3162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shoulder: axillar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14600" y="2290680"/>
            <a:ext cx="41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xray-scapular  Y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1957320"/>
            <a:ext cx="2304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:Pos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62360" y="1957320"/>
            <a:ext cx="3419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eno-Humeral dislo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38400" y="1600200"/>
            <a:ext cx="3065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6:20:21Z</dcterms:created>
  <dc:creator>Nanda K. Sinha</dc:creator>
  <dc:description/>
  <dc:language>en-US</dc:language>
  <cp:lastModifiedBy>Nanda K. Sinha</cp:lastModifiedBy>
  <dcterms:modified xsi:type="dcterms:W3CDTF">2010-07-08T05:33:14Z</dcterms:modified>
  <cp:revision>8</cp:revision>
  <dc:subject/>
  <dc:title>Injuries of the shoulder</dc:title>
</cp:coreProperties>
</file>