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EC9-5035-4213-9DEE-F16B27A7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68F-1D81-4367-B27B-CA8A60A7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C55-A15E-43C9-B926-DD880333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CE3-5258-422B-B398-41FE995E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B58-148F-457F-A8D5-1C574EDB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D2D-1E0F-4F0E-BA0D-C20B71A2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545-CECD-4E36-825C-36AC3B98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234-9084-4C8B-894C-1589817E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F73-1213-40F3-8CC0-09687F1B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DC3-AD25-4AFD-8D83-540BEE44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5BB-936E-404C-B439-172952B2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DC2-FC8B-43B7-A347-1D50B033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5A2B-BAE0-4B91-A318-0715DC40E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er Injuri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Nanda K. Sinha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iew of scap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7520" y="1619280"/>
            <a:ext cx="56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22305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houlder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: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: Most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ior: Most 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: Acromion blocks superior dis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17920" y="1600200"/>
            <a:ext cx="390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6287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6560" y="1638360"/>
            <a:ext cx="2990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2152800"/>
            <a:ext cx="3409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ally displaced fracture: non-operativ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231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628640"/>
            <a:ext cx="47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 -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d fracture: closed or open reduction: fi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op vs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87520" y="1938240"/>
            <a:ext cx="4368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: shaft of hume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2920" y="1600200"/>
            <a:ext cx="237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19160" y="2214720"/>
            <a:ext cx="5305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l ( inner)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(outer) 1/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1/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al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7400" y="2255760"/>
            <a:ext cx="49528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643120"/>
            <a:ext cx="381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nuted,displ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15 degree cran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ning of 20 mm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nding skin disruption and irreducible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neurologic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lateral 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 sling vs fig of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8080" y="182880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duction internal fixation (OR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178596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9191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-C Joint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44800"/>
            <a:ext cx="3962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7520" y="1600200"/>
            <a:ext cx="32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282680"/>
            <a:ext cx="3933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5680" y="1600200"/>
            <a:ext cx="417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82760" y="1600200"/>
            <a:ext cx="277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1880" y="1600200"/>
            <a:ext cx="534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8860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and 2: non 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4 and above: OR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3: ( A-C Joint reducible by pushing up on the elbow at 90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–op vs ORI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erative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monitor amount of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once pain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5200" y="1371600"/>
            <a:ext cx="316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: axillar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229068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xray-scapular  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1957320"/>
            <a:ext cx="2304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:Pos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62360" y="1957320"/>
            <a:ext cx="3419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38400" y="1600200"/>
            <a:ext cx="306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0:21Z</dcterms:created>
  <dc:creator>Nanda K. Sinha</dc:creator>
  <dc:description/>
  <dc:language>en-US</dc:language>
  <cp:lastModifiedBy>Nanda K. Sinha</cp:lastModifiedBy>
  <dcterms:modified xsi:type="dcterms:W3CDTF">2010-07-08T05:33:14Z</dcterms:modified>
  <cp:revision>8</cp:revision>
  <dc:subject/>
  <dc:title>Injuries of the shoulder</dc:title>
</cp:coreProperties>
</file>