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F2D-354E-4E5F-8972-E29E4CBC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D0A-9735-43E6-8096-56250C58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E8B-42FF-41EC-B135-9257A782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5BD-0597-493C-893A-ACCBD00F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6CB-7818-4699-9BF3-A8750505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232-77DD-4BCB-89DF-6069B330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787-82EB-4B51-B7F3-603BB989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1EA-0CE4-4792-ACAC-2C15BF1E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A5A-D782-444D-93A7-83FA5B90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5AD2-05BD-4D27-A71F-1F58F72E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B11-CF01-4B9A-9ADC-8C945C3E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B27-AD99-4CF4-A590-FC5265F2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F207-48A2-4878-B53F-4354B8D9D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ulder Injuri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Nanda K. Sinha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4640" y="182880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view of scap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7520" y="1619280"/>
            <a:ext cx="56289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14640" y="1295280"/>
            <a:ext cx="22305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houlder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rior: 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ior: Most 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ior: Most dra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or: Acromion blocks superior dis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17920" y="1600200"/>
            <a:ext cx="390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7640" y="1989000"/>
            <a:ext cx="26287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76560" y="1638360"/>
            <a:ext cx="29908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2152800"/>
            <a:ext cx="34099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ally displaced fracture: non-operativ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90560" y="1600200"/>
            <a:ext cx="576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89240" y="1905120"/>
            <a:ext cx="2314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0600" y="1628640"/>
            <a:ext cx="4762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 -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33680"/>
            <a:ext cx="82296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laced fracture: closed or open reduction: fix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05040" y="1600200"/>
            <a:ext cx="553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op vs oper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87520" y="1938240"/>
            <a:ext cx="43689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ure: shaft of hume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382920" y="1600200"/>
            <a:ext cx="237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19160" y="2214720"/>
            <a:ext cx="53056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al ( inner)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al (outer) 1/3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 1/3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ral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57400" y="2255760"/>
            <a:ext cx="495288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2643120"/>
            <a:ext cx="3810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nuted,displa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15 degree cran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ning of 20 mm o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nding skin disruption and irreducible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ular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neurologic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d lateral 1/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m sling vs fig of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48080" y="182880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reduction internal fixation (OR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81080" y="1785960"/>
            <a:ext cx="43434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191916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-C Joint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2044800"/>
            <a:ext cx="39625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27520" y="1600200"/>
            <a:ext cx="328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1282680"/>
            <a:ext cx="3933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95680" y="1600200"/>
            <a:ext cx="4170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82760" y="1600200"/>
            <a:ext cx="277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1880" y="1600200"/>
            <a:ext cx="534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188604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1 and 2: non op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4 and above: OR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3: ( A-C Joint reducible by pushing up on the elbow at 90 deg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–op vs ORI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erative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lim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o monitor amount of 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habilitation once pain is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05200" y="1371600"/>
            <a:ext cx="3162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: axillar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2290680"/>
            <a:ext cx="4114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xray-scapular  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19640" y="1957320"/>
            <a:ext cx="2304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rior:Post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62360" y="1957320"/>
            <a:ext cx="3419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38400" y="1600200"/>
            <a:ext cx="306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6:20:21Z</dcterms:created>
  <dc:creator>Nanda K. Sinha</dc:creator>
  <dc:description/>
  <dc:language>en-US</dc:language>
  <cp:lastModifiedBy>Nanda K. Sinha</cp:lastModifiedBy>
  <dcterms:modified xsi:type="dcterms:W3CDTF">2010-07-08T05:33:14Z</dcterms:modified>
  <cp:revision>8</cp:revision>
  <dc:subject/>
  <dc:title>Injuries of the shoulder</dc:title>
</cp:coreProperties>
</file>