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6A6-E45D-45B8-85EA-097E4711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212-E6BC-480C-B425-786EC9C6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B71-F840-4141-8460-468ECE01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83E-CEE3-48B4-A20B-E3B12CF9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AB3-D37D-4DC9-94A9-F94AEE40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95D-9624-4C6D-888C-EB481021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EFE-38A3-45E8-BEAC-C4BC6C00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408-8C9D-4748-A603-89AE6A16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60A-E91B-4060-A883-DA638E53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CB8-EF3B-4073-A6AB-233C762B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514-3A45-42FD-B2B4-155B8CEA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B6C-9BC6-420A-BC5E-D6AB6F4C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5A3F-9719-4BAC-94C8-64384CB6C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er Injuri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Nanda K. Sinha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4640" y="182880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iew of scap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7520" y="1619280"/>
            <a:ext cx="56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22305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houlder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: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: Most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ior: Most 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: Acromion blocks superior dis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17920" y="1600200"/>
            <a:ext cx="390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6287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76560" y="1638360"/>
            <a:ext cx="2990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2152800"/>
            <a:ext cx="34099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ally displaced fracture: non-operativ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0560" y="1600200"/>
            <a:ext cx="576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231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628640"/>
            <a:ext cx="47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 -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ced fracture: closed or open reduction: fi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op vs oper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87520" y="1938240"/>
            <a:ext cx="4368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: shaft of hume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82920" y="1600200"/>
            <a:ext cx="237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19160" y="2214720"/>
            <a:ext cx="5305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l ( inner)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(outer) 1/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1/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al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7400" y="2255760"/>
            <a:ext cx="49528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643120"/>
            <a:ext cx="381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nuted,displa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15 degree cran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ning of 20 mm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nding skin disruption and irreducible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neurologic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d lateral 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 sling vs fig of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8080" y="182880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duction internal fixation (OR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1785960"/>
            <a:ext cx="4343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19191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-C Joint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44800"/>
            <a:ext cx="3962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7520" y="1600200"/>
            <a:ext cx="32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282680"/>
            <a:ext cx="3933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5680" y="1600200"/>
            <a:ext cx="4170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82760" y="1600200"/>
            <a:ext cx="277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1880" y="1600200"/>
            <a:ext cx="534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8860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and 2: non 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4 and above: OR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3: ( A-C Joint reducible by pushing up on the elbow at 90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–op vs ORI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erative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monitor amount of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once pain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5200" y="1371600"/>
            <a:ext cx="3162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: axillar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2290680"/>
            <a:ext cx="41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xray-scapular  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1957320"/>
            <a:ext cx="2304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:Pos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62360" y="1957320"/>
            <a:ext cx="3419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38400" y="1600200"/>
            <a:ext cx="306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0:21Z</dcterms:created>
  <dc:creator>Nanda K. Sinha</dc:creator>
  <dc:description/>
  <dc:language>en-US</dc:language>
  <cp:lastModifiedBy>Nanda K. Sinha</cp:lastModifiedBy>
  <dcterms:modified xsi:type="dcterms:W3CDTF">2010-07-08T05:33:14Z</dcterms:modified>
  <cp:revision>8</cp:revision>
  <dc:subject/>
  <dc:title>Injuries of the shoulder</dc:title>
</cp:coreProperties>
</file>