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50C08A-BD35-4ADE-AB11-BC3FF484A0E1}"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ice algorithm I found in the American Acadamy of Family Practice jo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walk through this algorith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se are the risk factors for secondary hypertension.  Put another way, if the patient as some of these clinical features, you may consider a search for a secondary cau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suming the patient has risk factors for secondary hypertension, what kinds of things do we need to look for?  This is a table that illustrates the prevalence of different types of secondary hypertension.  On the left are the relatively common ailments that contribute to hypertension, on the right are the rarer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your assessment for secondary hypertension, I would ask that you first assess the conditions on the right, as they are much much more common.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some of these more common causes of secondary hyperten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yndrome, and I think arguably one of the most important in terms of therapy, is Sleep apnea.  It is now becoming increasingly recognized that resistant hypertension and sleep apnea are related, but how much one contributes to the other is not fully elucidated.  It is, however, very very common.  In fact, in one study, 83% of those with resistant hypertension had sleep apnea.  Now when you look at intervention studies, that is, using CPAP in patients with sleep apnea and resistant hypertension, the results are somewhat mixed.  Two studies are fairly compelling, that is, they show a decrease of systolic pressure of 10-15 with CPAP treatment.  Other studies, however, are not so compe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bottom line is thi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relatively common cause of secondary hypertension is something that is not discussed that frequently, that is, primary hyperaldosteronism.  I just briefly want to go into the pathophysiology for a moment because it is a little conf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in primary hyperaldo you get excessive secretion of aldosterone from an adrenal tumor or hyperplasia.  This leads to salt retention which in turn increases one’s blood press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rimary hyperaldosteronism may be common or rare, depending on the study you look at.  Its described in the literature as being present in 1.5-15% of those with resistant hypertension.   The etiologies include an adrenal adenoma or bilateral adrenal hyperplasia.  The most consistant clinical feature is hypokalemia, although recent data suggests that folks can have a normal potassium in 30% of the time.  Other clinical features include hypernatremia and metabolic alkalosis.  One would start the workup with an Am plasma renin and aldosterone level, then what I do is go to uptodate, because where to go from there is pretty complicated and they have a good algorithm.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the pathophis of renal artery stenosis for a moment.  This is the same graphic, with my careful addition.  First what happens is that you get decreased blood to the kidne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thing to keep in mind with renal artery stenosis is that there are essentially two major etiologies for this condition, and its very important to make the clinical distinction because the treatment between the two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nd less common, is fibromuscluar displasia.  Typically the syndrome for this would be a young woman who is otherwise well and presents with unexplained hypertension.  The more common etiology is athrosclerosis, and that occurs in those with traditional risk factors for vascular disease like HTN/diabet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when you suspect it would be in the following clinical situation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question becomes, if you identify it, does it really make any difference in treatment?  The answer is – it depends on what the etiology of the stenos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enosis is from dysplasia, it is usually from a focal lesion which is easily angioplastied.  And the results from intervention in dysplasia are not bad – an improvement in blood pressure in 20-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 contrast to RAS from atherosclerosis.  Looking at the trials, review articles describe that a sustained response to intervention is “unusual” and that is because the lesions are usually too diff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one NEJM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ill an open question and a moving target, especially with stents, and literature is difficult to interp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n important thing to keep in mind is that it is a procedure that is not without its complications, one of the most serious would be flicking off a plaque while angioplasting, that goes to the kidney and leads to renal failure and dialysi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entral issue is if you clinically suspect RAS whether you should do an evaluation at all.  And that is where I differ from the guidelines.  The guidelines say that if you think this may be going on you get an MRA and ask questions later.  I would offer that you would only look for RAS in those who you would consider sending for a intervention, as you don’t want to send someone to an intervention with potential morbidity and no efficacius benefit.  The folks that you would strongly consider workup would be the following:  Young wom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hat about the rare stuff?  In uptodate they recommend routine screening for pheochromocytoma in all those with resistant hypertension.  That is not evidence based, but one would clearly screen if you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hings disease would be sugges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rct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elpful concept with regard to hypertension management called the “rule of 10’s”  what that means is that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at, the JNC recommends th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common condition is that of white coat hypertension, and it may be responsible for up to 30% of those with resistant hypertension.  One thing to keep in mind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is, if you suspect the patient has white coat HT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hings I want to first talk about is why we care about HTN in the first place.  We are all busy cliincians, and in the setting of a hectic clinic it is easy to blow off a moderately high blood pressure value.  But what I would like to reintroduce is the data with regard to HTN and hard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numb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 a huge issue, especially in our population.  There are no silver bullets to help magically make all hypertensive patients take their medicine, but I do have some tips which could possibly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I start a patient on blood pressure medicines, I try to probe them for their understanding of why blood pressure control is important.  Many times they say stuff like “I take medicines because doctors tell me to”  If this is the case, then talking to them about the reasons for treatment may improve adh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hing to do is to get them involved in their care by getting them a BP machine at home and bring in a logbook, much the same as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suggestion is to use the rule of 10s to guide expectations.  That is, if they are diabetic with a BP of 170, you should tell them at the onset that they will need to be on at least 3 agents to get their BP under contro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get patients involved in their care is to get them to understand the goals of therapy.  For this reason, a lot of times I write on the pr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nderutilized therapy which has been shown to improve adherence is fixed dose combinations.  For example, Benazapril/HCTZ combination pills are on both CCHP and medical formulari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se are some other things that can lead to resistant hypertens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have this patient in mind, it is important to recognize that most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studies show that 60% of those with reistant HT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next question becomes what is the proper dose of HCTZ.  In most patients with controlled hypertension, studies show that 12.5 mg daily is fine.  ON the other hand, if someone has normal renal function but resistant hypertension, one could consider increasing the HCTZ to 25 or 50 dail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f you have renal insuffiecincy, it may be that HCTZ will not be effective at all as a diuretic.  If this is the case, you have several op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an algorithm from a good review article in NEJM, a copy of which is in your handou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just wanted to conclude on another exciting therapy that is emerging for resistant hypertension.  One study used daily spirinolactone to folks with uncontrolled HTN and on 4 agents.  At six months the degree of blood pressure reduction was an average of 25 mm merc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the degree of antihypertensive benefit was independent of what the patients aldosterone levels were.  Now if you embark on this, it is very critical that you follow the potassium very carefully, and probably should not be given for creatinines greater than 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look at the hardest endpoint available – mortality.  What you can see is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summary, as a doctor treating adults, this is one of the very most important evidence based things you can do in clinic to reduce mortality.  There are very few other things – perhaps only statin use and propylactic asprin, that have this kind of compelling data to support treat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nother way of evaluating hypertension therapy is to look at the realative “bang for your buck” of treating one disease process versus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lthough there is a lot of discussion about the importance of tight glycemic control, it is helpful to refer to the literature with regard to the relative benefit glucose control provides compared to blood pressur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This is data from the UKPDS study, one of the largest studies on the impact of  glucose and blood pressure control in type 2 diabetics.  They enrolled 1100 patients and followed them over 8 and a half years.  What this showed was that when we compare tight glucose control, HbA1c=7% (achieved was 8.2%) vs tight blood pressure control &lt;150/85 mmHg (achieved 144/82 mmHg) you would get a lot more bang for your buck by concentrating on blood pressure control.  As you can see here, your risk of stroke, death, and microvascular complications are reduced by both intereventions, but more significantly by the blood pressure reduction.  Again, looking at your hardest endpoint, that is, death, you get a 10% reduction with glucose control vs a 32% reduction with bp control.  So just to state again, one could argue that your time is better spent getting someone’s blood pressure down 10 points rather than an a1C down by one point.  And in most situations,  blood pressure control is a lot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irst you want to make sure you get an accurate blood pressure.  So  many times someone is rushed into the triage area and the concomitant hustle and bustle leads to a falsely high BP value.  My nurses are always laughing at me because I often drag the manual BP cuff with me and integrate the blood pressure into my physical examination, ensuring that the patient is relaxed and the blood pressure cuff is large enough.  Its not uncommon that I get a referral for resistant hypertension solely on automated blood pressure values, and when I take the BP myself I get a norm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ings that are recommeded are a fundoscopic evaluation, although I can tell you with all honesty I am not skilled enough at this for it to be of any practic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listen to the heart and lung and try to assess JVP.  Listening to the belly for a bruit can help clue you into renal artery stenosis.  Deminished femoral pulses can indicate coarctation, and LE edema can suggest CHF or nephrotic syndro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get a new hypertensive patient there are some cheap screening labs that you should probably order.  They includ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commended labs are not necessarily to help with the diagnosis of hypertension per se, but to assess their overall cardiovascular ris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C3337-45E6-49C3-AEA4-D8AF56053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CB00D-91D9-4F50-ABC0-39F6E49A6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63C94-F66A-4566-8254-FA4B520DC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E478D-7840-4637-B0F0-3323A326A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CF11B-EF7E-4544-8D20-334B5867C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9DBEF-2447-4F70-95E2-FCBAE8D46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B0C33-CCB3-4B6A-9615-5FD6A1C8D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2705C-FFD2-4E01-BD12-57AD6C425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885E0-432F-4DA1-9A2D-71B39B434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A2614-1D9F-4611-A4FF-FB12722C0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180CD-2481-49A2-A002-8CD9DD401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F7096-609D-42EC-AB0E-45B5BDBAE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33489-6DD3-43F3-BD95-B34808319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872BB-EC37-442C-A0BE-9D692D81B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AE629-43C0-443B-979F-CCF0DDD7D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1AADC-F135-4326-9F99-B3C3E6F71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49E2A-6913-46D6-8C09-E2CC9BB46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16507-8D00-4D39-ABC5-8A22DC3B2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D0322-8943-4088-8740-0B0487B65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25F46-8DDD-4293-8762-975DF82E1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57D24-DAB4-4EC6-90BE-25F239E96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B3A63-E441-4257-A408-76BC258C7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5E368-8EB3-4CC3-9604-2AC5E6941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E635C-C316-4F36-BC25-7AFDAE0E4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A74D-3C71-40A8-9EFF-9F64364612BC}"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A955-81DB-4288-AD57-E139320C1D33}"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and Secondary Hypertension</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Hypertension Specialist”</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case study….</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peat SBP 182/96, Obese (BMI 35).  CV/lungs WNL.  No abd bruit.  No edema.</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 141 K 4.2  Creat 1.2  U/A neg, except 30 protein.  Spot urine protein 0.14 g/24 hours.  EKG – LVH.  CBC, Calcium, TSH, WNL.  Utox neg. Fasting Glucose 145, HA1c 8.1</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Would you do a secondary HTN workup?  If so, what would you focus 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grpSp>
        <p:nvGrpSpPr>
          <p:cNvPr id="129" name=""/>
          <p:cNvGrpSpPr/>
          <p:nvPr/>
        </p:nvGrpSpPr>
        <p:grpSpPr>
          <a:xfrm>
            <a:off x="1836720" y="338040"/>
            <a:ext cx="6697800" cy="36360"/>
            <a:chOff x="1836720" y="338040"/>
            <a:chExt cx="6697800" cy="36360"/>
          </a:xfrm>
        </p:grpSpPr>
        <p:sp>
          <p:nvSpPr>
            <p:cNvPr id="130"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eaeaea"/>
                </a:solidFill>
                <a:latin typeface="Times New Roman"/>
              </a:endParaRPr>
            </a:p>
          </p:txBody>
        </p:sp>
        <p:grpSp>
          <p:nvGrpSpPr>
            <p:cNvPr id="131" name=""/>
            <p:cNvGrpSpPr/>
            <p:nvPr/>
          </p:nvGrpSpPr>
          <p:grpSpPr>
            <a:xfrm>
              <a:off x="1836720" y="338040"/>
              <a:ext cx="6697800" cy="36360"/>
              <a:chOff x="1836720" y="338040"/>
              <a:chExt cx="6697800" cy="36360"/>
            </a:xfrm>
          </p:grpSpPr>
          <p:sp>
            <p:nvSpPr>
              <p:cNvPr id="132"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lIns="90000" rIns="90000" tIns="-10440" bIns="-10440" anchor="t">
                <a:spAutoFit/>
              </a:bodyPr>
              <a:p>
                <a:endParaRPr b="0" lang="en-US" sz="2400" spc="-1" strike="noStrike">
                  <a:solidFill>
                    <a:srgbClr val="eaeaea"/>
                  </a:solidFill>
                  <a:latin typeface="Times New Roman"/>
                </a:endParaRPr>
              </a:p>
            </p:txBody>
          </p:sp>
          <p:sp>
            <p:nvSpPr>
              <p:cNvPr id="133" name=""/>
              <p:cNvSpPr/>
              <p:nvPr/>
            </p:nvSpPr>
            <p:spPr>
              <a:xfrm>
                <a:off x="1836720" y="338040"/>
                <a:ext cx="6697800" cy="360"/>
              </a:xfrm>
              <a:prstGeom prst="rect">
                <a:avLst/>
              </a:prstGeom>
              <a:solidFill>
                <a:srgbClr val="ffffff"/>
              </a:solidFill>
              <a:ln w="0">
                <a:noFill/>
              </a:ln>
            </p:spPr>
            <p:style>
              <a:lnRef idx="0"/>
              <a:fillRef idx="0"/>
              <a:effectRef idx="0"/>
              <a:fontRef idx="minor"/>
            </p:style>
            <p:txBody>
              <a:bodyPr lIns="90000" rIns="107640" tIns="-46440" bIns="-46440" anchor="t">
                <a:spAutoFit/>
              </a:bodyPr>
              <a:p>
                <a:endParaRPr b="0" lang="en-US" sz="2400" spc="-1" strike="noStrike">
                  <a:solidFill>
                    <a:srgbClr val="eaeaea"/>
                  </a:solidFill>
                  <a:latin typeface="Times New Roman"/>
                </a:endParaRPr>
              </a:p>
            </p:txBody>
          </p:sp>
        </p:grpSp>
      </p:grpSp>
      <p:sp>
        <p:nvSpPr>
          <p:cNvPr id="134" name=""/>
          <p:cNvSpPr/>
          <p:nvPr/>
        </p:nvSpPr>
        <p:spPr>
          <a:xfrm>
            <a:off x="614520" y="374760"/>
            <a:ext cx="6697440" cy="360"/>
          </a:xfrm>
          <a:prstGeom prst="rect">
            <a:avLst/>
          </a:prstGeom>
          <a:solidFill>
            <a:srgbClr val="ffffff"/>
          </a:solidFill>
          <a:ln w="0">
            <a:noFill/>
          </a:ln>
        </p:spPr>
        <p:style>
          <a:lnRef idx="0"/>
          <a:fillRef idx="0"/>
          <a:effectRef idx="0"/>
          <a:fontRef idx="minor"/>
        </p:style>
        <p:txBody>
          <a:bodyPr lIns="356760" rIns="356760" tIns="-46440" bIns="-46440" anchor="t">
            <a:spAutoFit/>
          </a:bodyPr>
          <a:p>
            <a:endParaRPr b="0" lang="en-US" sz="2400" spc="-1" strike="noStrike">
              <a:solidFill>
                <a:srgbClr val="eaeaea"/>
              </a:solidFill>
              <a:latin typeface="Times New Roman"/>
            </a:endParaRPr>
          </a:p>
        </p:txBody>
      </p:sp>
      <p:grpSp>
        <p:nvGrpSpPr>
          <p:cNvPr id="135" name=""/>
          <p:cNvGrpSpPr/>
          <p:nvPr/>
        </p:nvGrpSpPr>
        <p:grpSpPr>
          <a:xfrm>
            <a:off x="609480" y="369720"/>
            <a:ext cx="5367240" cy="6151680"/>
            <a:chOff x="609480" y="369720"/>
            <a:chExt cx="5367240" cy="6151680"/>
          </a:xfrm>
        </p:grpSpPr>
        <p:grpSp>
          <p:nvGrpSpPr>
            <p:cNvPr id="136" name=""/>
            <p:cNvGrpSpPr/>
            <p:nvPr/>
          </p:nvGrpSpPr>
          <p:grpSpPr>
            <a:xfrm>
              <a:off x="614160" y="374400"/>
              <a:ext cx="5357880" cy="6142320"/>
              <a:chOff x="614160" y="374400"/>
              <a:chExt cx="5357880" cy="6142320"/>
            </a:xfrm>
          </p:grpSpPr>
          <p:sp>
            <p:nvSpPr>
              <p:cNvPr id="137" name=""/>
              <p:cNvSpPr/>
              <p:nvPr/>
            </p:nvSpPr>
            <p:spPr>
              <a:xfrm>
                <a:off x="614160" y="374400"/>
                <a:ext cx="5357880" cy="6142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37300" spc="-1" strike="noStrike">
                    <a:solidFill>
                      <a:srgbClr val="eaeaea"/>
                    </a:solidFill>
                    <a:latin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38" name=""/>
              <p:cNvSpPr/>
              <p:nvPr/>
            </p:nvSpPr>
            <p:spPr>
              <a:xfrm>
                <a:off x="614160" y="374400"/>
                <a:ext cx="5357880" cy="6142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sp>
          <p:nvSpPr>
            <p:cNvPr id="139" name=""/>
            <p:cNvSpPr/>
            <p:nvPr/>
          </p:nvSpPr>
          <p:spPr>
            <a:xfrm>
              <a:off x="609480" y="369720"/>
              <a:ext cx="5367240" cy="6151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pic>
        <p:nvPicPr>
          <p:cNvPr id="140" name="" descr="algorithm"/>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isk factors for secondary hypertension</a:t>
            </a:r>
            <a:endParaRPr b="0" lang="en-US" sz="4400" spc="-1" strike="noStrike">
              <a:solidFill>
                <a:srgbClr val="ebd189"/>
              </a:solidFill>
              <a:latin typeface="Arial"/>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or response to therap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acute rise of BP over a previously stable valu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firmed onset of hypertension before 20 or after 50 years (need accurate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ge &lt; 30 in non-obese, non-black patients with a negative family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ge 3 HTN (&gt;180/110)</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evalence of Secondary Causes of Hypertension</a:t>
            </a:r>
            <a:endParaRPr b="0" lang="en-US" sz="4400" spc="-1" strike="noStrike">
              <a:solidFill>
                <a:srgbClr val="ebd189"/>
              </a:solidFill>
              <a:latin typeface="Arial"/>
            </a:endParaRPr>
          </a:p>
        </p:txBody>
      </p:sp>
      <p:graphicFrame>
        <p:nvGraphicFramePr>
          <p:cNvPr id="144" name=""/>
          <p:cNvGraphicFramePr/>
          <p:nvPr/>
        </p:nvGraphicFramePr>
        <p:xfrm>
          <a:off x="838080" y="1676520"/>
          <a:ext cx="8305920" cy="5032080"/>
        </p:xfrm>
        <a:graphic>
          <a:graphicData uri="http://schemas.openxmlformats.org/drawingml/2006/table">
            <a:tbl>
              <a:tblPr/>
              <a:tblGrid>
                <a:gridCol w="3505320"/>
                <a:gridCol w="4800600"/>
              </a:tblGrid>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ON (prevalenc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ARE (prevalenc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u="sng">
                          <a:solidFill>
                            <a:srgbClr val="eaeaea"/>
                          </a:solidFill>
                          <a:uFillTx/>
                          <a:latin typeface="Arial"/>
                        </a:rPr>
                        <a:t>Really</a:t>
                      </a:r>
                      <a:r>
                        <a:rPr b="0" i="1" lang="en-US" sz="2400" spc="-1" strike="noStrike">
                          <a:solidFill>
                            <a:srgbClr val="eaeaea"/>
                          </a:solidFill>
                          <a:latin typeface="Arial"/>
                        </a:rPr>
                        <a:t> Common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ochromocytoma (&lt;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1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Disease (1-8%)</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arctation of Aorta (&lt;1%)</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aldosteronism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5-15%)</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shing’s Syndrome (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4%)</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romegaly </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yroid disease (1-3%)</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rcinoid Syndrom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calcemia</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bstructive Sleep Apnea</a:t>
            </a:r>
            <a:endParaRPr b="0" lang="en-US" sz="4400" spc="-1" strike="noStrike">
              <a:solidFill>
                <a:srgbClr val="ebd189"/>
              </a:solidFill>
              <a:latin typeface="Arial"/>
            </a:endParaRPr>
          </a:p>
        </p:txBody>
      </p:sp>
      <p:sp>
        <p:nvSpPr>
          <p:cNvPr id="14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ne study, 83% of those with resistant HTN had sleep apnea</a:t>
            </a:r>
            <a:endParaRPr b="0" lang="en-US" sz="28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rvention Studies (using CPAP in pts with sleep apnea + resistant HTN):</a:t>
            </a:r>
            <a:endParaRPr b="0" lang="en-US" sz="28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wo studies show decrease SBP 10-15</a:t>
            </a:r>
            <a:endParaRPr b="0" lang="en-US" sz="24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ther studies showed little or no reduction after CPAP administration</a:t>
            </a:r>
            <a:endParaRPr b="0" lang="en-US" sz="24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Reasonable to screen those with resistant hypertension, especially if with risk factors (obesity, daytime somulence, apnea history) </a:t>
            </a:r>
            <a:r>
              <a:rPr b="0" lang="en-US" sz="2800" spc="-1" strike="noStrike">
                <a:solidFill>
                  <a:srgbClr val="eaeaea"/>
                </a:solidFill>
                <a:latin typeface="Arial"/>
              </a:rPr>
              <a:t>	</a:t>
            </a:r>
            <a:endParaRPr b="0" lang="en-US" sz="2800" spc="-1" strike="noStrike">
              <a:solidFill>
                <a:srgbClr val="eaeaea"/>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 and Hypertension</a:t>
            </a:r>
            <a:endParaRPr b="0" lang="en-US" sz="4400" spc="-1" strike="noStrike">
              <a:solidFill>
                <a:srgbClr val="ebd189"/>
              </a:solidFill>
              <a:latin typeface="Arial"/>
            </a:endParaRPr>
          </a:p>
        </p:txBody>
      </p:sp>
      <p:pic>
        <p:nvPicPr>
          <p:cNvPr id="148" name="" descr=""/>
          <p:cNvPicPr/>
          <p:nvPr/>
        </p:nvPicPr>
        <p:blipFill>
          <a:blip r:embed="rId1"/>
          <a:stretch/>
        </p:blipFill>
        <p:spPr>
          <a:xfrm>
            <a:off x="1219320" y="1447920"/>
            <a:ext cx="7619760" cy="4572000"/>
          </a:xfrm>
          <a:prstGeom prst="rect">
            <a:avLst/>
          </a:prstGeom>
          <a:ln w="0">
            <a:noFill/>
          </a:ln>
        </p:spPr>
      </p:pic>
      <p:sp>
        <p:nvSpPr>
          <p:cNvPr id="149" name=""/>
          <p:cNvSpPr/>
          <p:nvPr/>
        </p:nvSpPr>
        <p:spPr>
          <a:xfrm>
            <a:off x="990720" y="6035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hyperaldo – excessive secretion aldosterone from tumor or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yperplasia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increase blood pressur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a:t>
            </a:r>
            <a:endParaRPr b="0" lang="en-US" sz="4400" spc="-1" strike="noStrike">
              <a:solidFill>
                <a:srgbClr val="ebd189"/>
              </a:solidFill>
              <a:latin typeface="Arial"/>
            </a:endParaRPr>
          </a:p>
        </p:txBody>
      </p:sp>
      <p:sp>
        <p:nvSpPr>
          <p:cNvPr id="15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y be present in 1.5 - 15% those with resistant hypertension</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tiologies </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renal adenom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ilateral adrenal hyperplasia</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inical feature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Arial"/>
              </a:rPr>
              <a:t>Hypokalemia </a:t>
            </a:r>
            <a:r>
              <a:rPr b="0" lang="en-US" sz="2400" spc="-1" strike="noStrike">
                <a:solidFill>
                  <a:srgbClr val="eaeaea"/>
                </a:solidFill>
                <a:latin typeface="Arial"/>
              </a:rPr>
              <a:t>(although normal K in 30%)</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natremi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tabolic alkalosis</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 AM plasma renin and aldosterone levels, go to Uptodate </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ypertension and renal artery stenosis</a:t>
            </a:r>
            <a:endParaRPr b="0" lang="en-US" sz="4400" spc="-1" strike="noStrike">
              <a:solidFill>
                <a:srgbClr val="ebd189"/>
              </a:solidFill>
              <a:latin typeface="Arial"/>
            </a:endParaRPr>
          </a:p>
        </p:txBody>
      </p:sp>
      <p:pic>
        <p:nvPicPr>
          <p:cNvPr id="153" name="" descr=""/>
          <p:cNvPicPr/>
          <p:nvPr/>
        </p:nvPicPr>
        <p:blipFill>
          <a:blip r:embed="rId1"/>
          <a:stretch/>
        </p:blipFill>
        <p:spPr>
          <a:xfrm>
            <a:off x="1523880" y="1219320"/>
            <a:ext cx="7391520" cy="4359240"/>
          </a:xfrm>
          <a:prstGeom prst="rect">
            <a:avLst/>
          </a:prstGeom>
          <a:ln w="0">
            <a:noFill/>
          </a:ln>
        </p:spPr>
      </p:pic>
      <p:sp>
        <p:nvSpPr>
          <p:cNvPr id="154" name=""/>
          <p:cNvSpPr/>
          <p:nvPr/>
        </p:nvSpPr>
        <p:spPr>
          <a:xfrm>
            <a:off x="1216080" y="5676840"/>
            <a:ext cx="6995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creased blood to kidney </a:t>
            </a:r>
            <a:r>
              <a:rPr b="0" lang="en-US" sz="2400" spc="-1" strike="noStrike">
                <a:solidFill>
                  <a:srgbClr val="eaeaea"/>
                </a:solidFill>
                <a:latin typeface="Wingdings"/>
                <a:ea typeface="Wingdings"/>
              </a:rPr>
              <a:t></a:t>
            </a:r>
            <a:r>
              <a:rPr b="0" lang="en-US" sz="2400" spc="-1" strike="noStrike">
                <a:solidFill>
                  <a:srgbClr val="eaeaea"/>
                </a:solidFill>
                <a:latin typeface="Arial Narrow"/>
              </a:rPr>
              <a:t> kidney “senses” diminished BP</a:t>
            </a:r>
            <a:endParaRPr b="0" lang="en-US" sz="2400" spc="-1" strike="noStrike">
              <a:solidFill>
                <a:srgbClr val="eaeaea"/>
              </a:solidFill>
              <a:latin typeface="Times New Roman"/>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ivation renin/angiotension system </a:t>
            </a:r>
            <a:r>
              <a:rPr b="0" lang="en-US" sz="2400" spc="-1" strike="noStrike">
                <a:solidFill>
                  <a:srgbClr val="eaeaea"/>
                </a:solidFill>
                <a:latin typeface="Wingdings"/>
                <a:ea typeface="Wingdings"/>
              </a:rPr>
              <a:t></a:t>
            </a:r>
            <a:r>
              <a:rPr b="0" lang="en-US" sz="2400" spc="-1" strike="noStrike">
                <a:solidFill>
                  <a:srgbClr val="eaeaea"/>
                </a:solidFill>
                <a:latin typeface="Arial Narrow"/>
              </a:rPr>
              <a:t> vasoconstric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Wingdings"/>
                <a:ea typeface="Wingdings"/>
              </a:rPr>
              <a:t></a:t>
            </a:r>
            <a:r>
              <a:rPr b="0" lang="en-US" sz="2400" spc="-1" strike="noStrike">
                <a:solidFill>
                  <a:srgbClr val="eaeaea"/>
                </a:solidFill>
                <a:latin typeface="Arial Narrow"/>
              </a:rPr>
              <a:t>Aldosterone secre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a:t>
            </a:r>
            <a:endParaRPr b="0" lang="en-US" sz="2400" spc="-1" strike="noStrike">
              <a:solidFill>
                <a:srgbClr val="eaeaea"/>
              </a:solidFill>
              <a:latin typeface="Times New Roman"/>
            </a:endParaRPr>
          </a:p>
        </p:txBody>
      </p:sp>
      <p:sp>
        <p:nvSpPr>
          <p:cNvPr id="155" name=""/>
          <p:cNvSpPr/>
          <p:nvPr/>
        </p:nvSpPr>
        <p:spPr>
          <a:xfrm>
            <a:off x="6172200" y="3429000"/>
            <a:ext cx="223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a:ea typeface="Wingdings"/>
              </a:rPr>
              <a:t></a:t>
            </a:r>
            <a:r>
              <a:rPr b="0" lang="en-US" sz="2000" spc="-1" strike="noStrike">
                <a:solidFill>
                  <a:srgbClr val="ff0000"/>
                </a:solidFill>
                <a:latin typeface="Arial"/>
              </a:rPr>
              <a:t>less blood flow</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nal Artery Stenosis –</a:t>
            </a:r>
            <a:br>
              <a:rPr sz="4400"/>
            </a:br>
            <a:r>
              <a:rPr b="0" lang="en-US" sz="4400" spc="-1" strike="noStrike">
                <a:solidFill>
                  <a:srgbClr val="ebd189"/>
                </a:solidFill>
                <a:latin typeface="Arial"/>
              </a:rPr>
              <a:t>Etiologies</a:t>
            </a:r>
            <a:endParaRPr b="0" lang="en-US" sz="4400" spc="-1" strike="noStrike">
              <a:solidFill>
                <a:srgbClr val="ebd189"/>
              </a:solidFill>
              <a:latin typeface="Arial"/>
            </a:endParaRPr>
          </a:p>
        </p:txBody>
      </p:sp>
      <p:sp>
        <p:nvSpPr>
          <p:cNvPr id="15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bromuscular dysplasia </a:t>
            </a:r>
            <a:r>
              <a:rPr b="0" lang="en-US" sz="2000" spc="-1" strike="noStrike">
                <a:solidFill>
                  <a:srgbClr val="eaeaea"/>
                </a:solidFill>
                <a:latin typeface="Arial"/>
              </a:rPr>
              <a:t>(young women)</a:t>
            </a:r>
            <a:endParaRPr b="0" lang="en-US" sz="20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herosclerotic (HTN/DM/lipids/FH etc)</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ect in resistant hypertension and:</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vation Cr with admin ACE/ARB</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ilateral small kidney on imaging</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dominal bruit</a:t>
            </a:r>
            <a:r>
              <a:rPr b="0" lang="en-US" sz="2400" spc="-1" strike="noStrike">
                <a:solidFill>
                  <a:srgbClr val="eaeaea"/>
                </a:solidFill>
                <a:latin typeface="Arial"/>
              </a:rPr>
              <a:t>	</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ute rise in BP over previously stable value</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59" name="PlaceHolder 2"/>
          <p:cNvSpPr>
            <a:spLocks noGrp="1"/>
          </p:cNvSpPr>
          <p:nvPr>
            <p:ph/>
          </p:nvPr>
        </p:nvSpPr>
        <p:spPr>
          <a:xfrm>
            <a:off x="1066320" y="1676520"/>
            <a:ext cx="80773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fibromuscular dysplasia responds well to angioplasty (HTN improved in 20-80%)</a:t>
            </a: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atherosclerosis:  sustained response to intervention “unusual” (lesions usually too diffuse)</a:t>
            </a:r>
            <a:endParaRPr b="0" lang="en-US" sz="28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EJM study:   106 pts randomized to angioplasty vs med tx.  No difference in BP control or renal insufficiency noted at 1 year</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 good studies using angioplasty + stents</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mplications from intervention include atheroembolism </a:t>
            </a:r>
            <a:r>
              <a:rPr b="0" lang="en-US" sz="2400" spc="-1" strike="noStrike">
                <a:solidFill>
                  <a:srgbClr val="eaeaea"/>
                </a:solidFill>
                <a:latin typeface="Wingdings"/>
                <a:ea typeface="Wingdings"/>
              </a:rPr>
              <a:t></a:t>
            </a:r>
            <a:r>
              <a:rPr b="0" lang="en-US" sz="2400" spc="-1" strike="noStrike">
                <a:solidFill>
                  <a:srgbClr val="eaeaea"/>
                </a:solidFill>
                <a:latin typeface="Arial"/>
              </a:rPr>
              <a:t> dialysi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 am going to talk about</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y BP control is importan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itial workup of newly diagnosed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ary hypertension</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imary Hyperaldosteronism</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a:t>
            </a: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ps for improving adherence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sistant hypertension and diuretic use</a:t>
            </a:r>
            <a:endParaRPr b="0" lang="en-US" sz="28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6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609480" indent="-60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If you suspect RAS, people who </a:t>
            </a:r>
            <a:r>
              <a:rPr b="0" i="1" lang="en-US" sz="2800" spc="-1" strike="noStrike">
                <a:solidFill>
                  <a:srgbClr val="eaeaea"/>
                </a:solidFill>
                <a:latin typeface="Arial"/>
              </a:rPr>
              <a:t>may</a:t>
            </a:r>
            <a:r>
              <a:rPr b="0" lang="en-US" sz="2800" spc="-1" strike="noStrike">
                <a:solidFill>
                  <a:srgbClr val="eaeaea"/>
                </a:solidFill>
                <a:latin typeface="Arial"/>
              </a:rPr>
              <a:t> benefit from intervention:</a:t>
            </a:r>
            <a:endParaRPr b="0" lang="en-US" sz="28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ng women (may have dysplasia)</a:t>
            </a:r>
            <a:endParaRPr b="0" lang="en-US" sz="24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uspicion for atherosclerotic RAS + any of the following:</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TN not responsive to treatment, esp if severely elevated over stable valu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gressive renal failur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ge &lt; 60</a:t>
            </a:r>
            <a:endParaRPr b="0" lang="en-US" sz="24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At our institution, order </a:t>
            </a:r>
            <a:r>
              <a:rPr b="1" lang="en-US" sz="2800" spc="-1" strike="noStrike" u="sng">
                <a:solidFill>
                  <a:srgbClr val="eaeaea"/>
                </a:solidFill>
                <a:uFillTx/>
                <a:latin typeface="Arial"/>
              </a:rPr>
              <a:t>MRA</a:t>
            </a:r>
            <a:endParaRPr b="0" lang="en-US" sz="28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reening for the rare stuff – Reasonable to go by Hx/PE</a:t>
            </a:r>
            <a:endParaRPr b="0" lang="en-US" sz="4400" spc="-1" strike="noStrike">
              <a:solidFill>
                <a:srgbClr val="ebd189"/>
              </a:solidFill>
              <a:latin typeface="Arial"/>
            </a:endParaRPr>
          </a:p>
        </p:txBody>
      </p:sp>
      <p:graphicFrame>
        <p:nvGraphicFramePr>
          <p:cNvPr id="163" name=""/>
          <p:cNvGraphicFramePr/>
          <p:nvPr/>
        </p:nvGraphicFramePr>
        <p:xfrm>
          <a:off x="1066680" y="1676520"/>
          <a:ext cx="7772400" cy="5227560"/>
        </p:xfrm>
        <a:graphic>
          <a:graphicData uri="http://schemas.openxmlformats.org/drawingml/2006/table">
            <a:tbl>
              <a:tblPr/>
              <a:tblGrid>
                <a:gridCol w="3353040"/>
                <a:gridCol w="4419360"/>
              </a:tblGrid>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eochromocytom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roxysmal elevations in BP, HA, Palpitations, sweating</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ushings diseas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on facies, central obesity, striae, inc glucos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arctation of aor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ypertension in arms but not legs, decreased femoral pulse, abnl murmur/bruits</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romegaly</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oks like they have acromegaly</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rcRect l="27266" t="27273" r="27266" b="27273"/>
          <a:stretch/>
        </p:blipFill>
        <p:spPr>
          <a:xfrm>
            <a:off x="1981080" y="0"/>
            <a:ext cx="53006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eight:  5’11”</a:t>
            </a: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eight:  129</a:t>
            </a:r>
            <a:endParaRPr b="0" lang="en-US" sz="4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My BMI,  circa 1991:  </a:t>
            </a:r>
            <a:r>
              <a:rPr b="1" lang="en-US" sz="4400" spc="-1" strike="noStrike" u="sng">
                <a:solidFill>
                  <a:srgbClr val="eaeaea"/>
                </a:solidFill>
                <a:uFillTx/>
                <a:latin typeface="Arial"/>
              </a:rPr>
              <a:t>17</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is blood pressure is 182/96.</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many agents would you start him 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Rule of 10’s”</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ch BP med will reduce SBP by about 10 mmH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JNC recommend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BP &gt; 20/10 of goal, consider initial treatment with TWO agents (one should probably be diuretic)</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continued</a:t>
            </a:r>
            <a:endParaRPr b="0" lang="en-US" sz="4400" spc="-1" strike="noStrike">
              <a:solidFill>
                <a:srgbClr val="ebd189"/>
              </a:solidFill>
              <a:latin typeface="Arial"/>
            </a:endParaRPr>
          </a:p>
        </p:txBody>
      </p:sp>
      <p:sp>
        <p:nvSpPr>
          <p:cNvPr id="1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 you start the patient on lisinopril 10 mg daily + HCTZ 25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should you check his potassium and creatin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Recommended intervals for Monitoring Creatinine/K in ACE/ARB tx</a:t>
            </a:r>
            <a:endParaRPr b="0" lang="en-US" sz="3200" spc="-1" strike="noStrike">
              <a:solidFill>
                <a:srgbClr val="ebd189"/>
              </a:solidFill>
              <a:latin typeface="Arial"/>
            </a:endParaRPr>
          </a:p>
        </p:txBody>
      </p:sp>
      <p:graphicFrame>
        <p:nvGraphicFramePr>
          <p:cNvPr id="174" name=""/>
          <p:cNvGraphicFramePr/>
          <p:nvPr/>
        </p:nvGraphicFramePr>
        <p:xfrm>
          <a:off x="838080" y="1828800"/>
          <a:ext cx="8744040" cy="3198960"/>
        </p:xfrm>
        <a:graphic>
          <a:graphicData uri="http://schemas.openxmlformats.org/drawingml/2006/table">
            <a:tbl>
              <a:tblPr/>
              <a:tblGrid>
                <a:gridCol w="2648160"/>
                <a:gridCol w="2057400"/>
                <a:gridCol w="1695240"/>
                <a:gridCol w="2343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a:t>
                      </a:r>
                      <a:r>
                        <a:rPr b="0" lang="en-US" sz="2400" spc="-1" strike="noStrike" u="sng">
                          <a:solidFill>
                            <a:srgbClr val="ebd189"/>
                          </a:solidFill>
                          <a:uFillTx/>
                          <a:latin typeface="Arial"/>
                        </a:rPr>
                        <a:t>&gt;</a:t>
                      </a:r>
                      <a:r>
                        <a:rPr b="0" lang="en-US" sz="2400" spc="-1" strike="noStrike">
                          <a:solidFill>
                            <a:srgbClr val="ebd189"/>
                          </a:solidFill>
                          <a:latin typeface="Arial"/>
                        </a:rPr>
                        <a:t> 60</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30-59</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lt; 30</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69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initiation or change of ACE/ARB dos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4-12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2-4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189"/>
                          </a:solidFill>
                          <a:uFillTx/>
                          <a:latin typeface="Arial"/>
                        </a:rPr>
                        <a:t>&lt;</a:t>
                      </a:r>
                      <a:r>
                        <a:rPr b="0" lang="en-US" sz="2400" spc="-1" strike="noStrike">
                          <a:solidFill>
                            <a:srgbClr val="ebd189"/>
                          </a:solidFill>
                          <a:latin typeface="Arial"/>
                        </a:rPr>
                        <a:t>2 week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dose is stabl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6-12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3-6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1-3 month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7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sleep study was ordered given the patient’s obesit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 comes back for followup, and is on HCTZ 25 daily, Lisinopril 20 daily.  His BP in office is 174/96</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re some other features that may be contributing to the patient’s hypertens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ite Coat Hypertension</a:t>
            </a:r>
            <a:endParaRPr b="0" lang="en-US" sz="4400" spc="-1" strike="noStrike">
              <a:solidFill>
                <a:srgbClr val="ebd189"/>
              </a:solidFill>
              <a:latin typeface="Arial"/>
            </a:endParaRPr>
          </a:p>
        </p:txBody>
      </p:sp>
      <p:sp>
        <p:nvSpPr>
          <p:cNvPr id="17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be responsible for 30% those with resistant hypertension</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ears that BP values obtained at home correlate better with target organ involvemen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 consideration – have patient check BP at home, have therapy target those valu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enefits of Lowering BP</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tihypertensive therapy has been associated with:</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35-40% reduction in stroke</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20-25% reduction in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50% reduction in heart failur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ropriately educate patient/family about benefits of good BP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ave patient check BP at home periodically and bring in logbook</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Rule of 10’s” to guide expect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t>
            </a:r>
            <a:r>
              <a:rPr b="0" i="1" lang="en-US" sz="2800" spc="-1" strike="noStrike">
                <a:solidFill>
                  <a:srgbClr val="eaeaea"/>
                </a:solidFill>
                <a:latin typeface="Arial"/>
              </a:rPr>
              <a:t>“You will likely need 2 or more meds to get your BP under control”</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rite on prescription: </a:t>
            </a:r>
            <a:r>
              <a:rPr b="0" i="1" lang="en-US" sz="3200" spc="-1" strike="noStrike">
                <a:solidFill>
                  <a:srgbClr val="eaeaea"/>
                </a:solidFill>
                <a:latin typeface="Arial"/>
              </a:rPr>
              <a:t>“take 1 tablet daily to get blood pressure less than 140/90”</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fixed-dose combin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nazepril/HCTZ combo on both CCHP and MediCal formularies</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ther things that can increase Blood Pressure</a:t>
            </a:r>
            <a:endParaRPr b="0" lang="en-US" sz="4400" spc="-1" strike="noStrike">
              <a:solidFill>
                <a:srgbClr val="ebd189"/>
              </a:solidFill>
              <a:latin typeface="Arial"/>
            </a:endParaRPr>
          </a:p>
        </p:txBody>
      </p:sp>
      <p:sp>
        <p:nvSpPr>
          <p:cNvPr id="18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cation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SAIDS (inc SBP by approx 4 mmHg)</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caine, Amphetamine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nylephrine</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nabolic Steroid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rythropoietin </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ral Contraceptives</a:t>
            </a:r>
            <a:endParaRPr b="0" lang="en-US" sz="2400" spc="-1" strike="noStrike">
              <a:solidFill>
                <a:srgbClr val="eaeaea"/>
              </a:solidFill>
              <a:latin typeface="Arial"/>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cessive EtOH (&gt;3-4 drinks/day)</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Salt Diet</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esity</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rcRect l="24061" t="24062" r="27813" b="27821"/>
          <a:stretch/>
        </p:blipFill>
        <p:spPr>
          <a:xfrm>
            <a:off x="1676520" y="-228600"/>
            <a:ext cx="5476680" cy="708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comes in….</a:t>
            </a:r>
            <a:endParaRPr b="0" lang="en-US" sz="4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5 YO woman is seen in your clinic for f/u of longstanding HTN.  She is on HCTZ 12.5 mg, Toprol XL 200 mg daily, amlodipine 10 daily, lisinopril 40 daily.  Her BP is 162/94.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Creat 1.4 (GFR 45), no protienuria.  Utox neg.</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emphatically states that she takes her medications as directed.  What is your next step in managing her HT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uretics – Cornerstone of HTN therapy</a:t>
            </a:r>
            <a:endParaRPr b="0" lang="en-US" sz="4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with resistant hypertension have inappropriate sodium/fluid retention </a:t>
            </a:r>
            <a:r>
              <a:rPr b="0" lang="en-US" sz="3200" spc="-1" strike="noStrike">
                <a:solidFill>
                  <a:srgbClr val="eaeaea"/>
                </a:solidFill>
                <a:latin typeface="Wingdings"/>
                <a:ea typeface="Wingdings"/>
              </a:rPr>
              <a:t></a:t>
            </a:r>
            <a:r>
              <a:rPr b="0" lang="en-US" sz="3200" spc="-1" strike="noStrike">
                <a:solidFill>
                  <a:srgbClr val="eaeaea"/>
                </a:solidFill>
                <a:latin typeface="Arial"/>
              </a:rPr>
              <a:t> </a:t>
            </a:r>
            <a:br>
              <a:rPr sz="3200"/>
            </a:br>
            <a:r>
              <a:rPr b="0" lang="en-US" sz="3200" spc="-1" strike="noStrike">
                <a:solidFill>
                  <a:srgbClr val="eaeaea"/>
                </a:solidFill>
                <a:latin typeface="Arial"/>
              </a:rPr>
              <a:t>EFFECTIVE DIURETIC THERAPY ESSENTIAL for HTN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60% of those with resistant HTN improve BP by add/increasing diuretic therap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s the proper HCTZ dose?</a:t>
            </a:r>
            <a:endParaRPr b="0" lang="en-US" sz="4400" spc="-1" strike="noStrike">
              <a:solidFill>
                <a:srgbClr val="ebd189"/>
              </a:solidFill>
              <a:latin typeface="Arial"/>
            </a:endParaRPr>
          </a:p>
        </p:txBody>
      </p:sp>
      <p:sp>
        <p:nvSpPr>
          <p:cNvPr id="19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uncomplicated patients without resistant HTN or renal disease, no real benefit in HTN control with increase from 12.5 vs 25/50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se with resistant HTN and normal renal function – may need increase in HCTZ 12.5 </a:t>
            </a:r>
            <a:r>
              <a:rPr b="0" lang="en-US" sz="3200" spc="-1" strike="noStrike">
                <a:solidFill>
                  <a:srgbClr val="eaeaea"/>
                </a:solidFill>
                <a:latin typeface="Wingdings"/>
                <a:ea typeface="Wingdings"/>
              </a:rPr>
              <a:t></a:t>
            </a:r>
            <a:r>
              <a:rPr b="0" lang="en-US" sz="3200" spc="-1" strike="noStrike">
                <a:solidFill>
                  <a:srgbClr val="eaeaea"/>
                </a:solidFill>
                <a:latin typeface="Arial"/>
              </a:rPr>
              <a:t> 25 </a:t>
            </a:r>
            <a:r>
              <a:rPr b="0" lang="en-US" sz="3200" spc="-1" strike="noStrike">
                <a:solidFill>
                  <a:srgbClr val="eaeaea"/>
                </a:solidFill>
                <a:latin typeface="Wingdings"/>
                <a:ea typeface="Wingdings"/>
              </a:rPr>
              <a:t></a:t>
            </a:r>
            <a:r>
              <a:rPr b="0" lang="en-US" sz="3200" spc="-1" strike="noStrike">
                <a:solidFill>
                  <a:srgbClr val="eaeaea"/>
                </a:solidFill>
                <a:latin typeface="Arial"/>
              </a:rPr>
              <a:t> 50</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resistant HTN with GFR &lt; 50?</a:t>
            </a:r>
            <a:endParaRPr b="0" lang="en-US" sz="4400" spc="-1" strike="noStrike">
              <a:solidFill>
                <a:srgbClr val="ebd189"/>
              </a:solidFill>
              <a:latin typeface="Arial"/>
            </a:endParaRPr>
          </a:p>
        </p:txBody>
      </p:sp>
      <p:sp>
        <p:nvSpPr>
          <p:cNvPr id="19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be not effective</a:t>
            </a: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ptions:</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iute another thiazid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etolazone</a:t>
            </a:r>
            <a:r>
              <a:rPr b="0" lang="en-US" sz="2800" spc="-1" strike="noStrike">
                <a:solidFill>
                  <a:srgbClr val="eaeaea"/>
                </a:solidFill>
                <a:latin typeface="Arial"/>
              </a:rPr>
              <a:t> 2.5 – 10 daily</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ute for loop diuretic:</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asix</a:t>
            </a:r>
            <a:r>
              <a:rPr b="0" lang="en-US" sz="2800" spc="-1" strike="noStrike">
                <a:solidFill>
                  <a:srgbClr val="eaeaea"/>
                </a:solidFill>
                <a:latin typeface="Arial"/>
              </a:rPr>
              <a:t> 20-80 BID  or </a:t>
            </a:r>
            <a:r>
              <a:rPr b="1" lang="en-US" sz="2800" spc="-1" strike="noStrike">
                <a:solidFill>
                  <a:srgbClr val="eaeaea"/>
                </a:solidFill>
                <a:latin typeface="Arial"/>
              </a:rPr>
              <a:t>Bumex</a:t>
            </a:r>
            <a:r>
              <a:rPr b="0" lang="en-US" sz="2800" spc="-1" strike="noStrike">
                <a:solidFill>
                  <a:srgbClr val="eaeaea"/>
                </a:solidFill>
                <a:latin typeface="Arial"/>
              </a:rPr>
              <a:t> 0.5-2 BID  (Dosed BID because of short half lif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oresemide</a:t>
            </a:r>
            <a:r>
              <a:rPr b="0" lang="en-US" sz="2800" spc="-1" strike="noStrike">
                <a:solidFill>
                  <a:srgbClr val="eaeaea"/>
                </a:solidFill>
                <a:latin typeface="Arial"/>
              </a:rPr>
              <a:t> 2.5 – 5 daily (longer half life, more expensive)</a:t>
            </a:r>
            <a:endParaRPr b="0" lang="en-US" sz="2800" spc="-1" strike="noStrike">
              <a:solidFill>
                <a:srgbClr val="eaeaea"/>
              </a:solidFill>
              <a:latin typeface="Arial"/>
            </a:endParaRPr>
          </a:p>
          <a:p>
            <a:pPr lvl="1" marL="812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49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HTN and Diuretics</a:t>
            </a:r>
            <a:endParaRPr b="0" lang="en-US" sz="4400" spc="-1" strike="noStrike">
              <a:solidFill>
                <a:srgbClr val="ebd189"/>
              </a:solidFill>
              <a:latin typeface="Arial"/>
            </a:endParaRPr>
          </a:p>
        </p:txBody>
      </p:sp>
      <p:pic>
        <p:nvPicPr>
          <p:cNvPr id="195" name="" descr=""/>
          <p:cNvPicPr/>
          <p:nvPr/>
        </p:nvPicPr>
        <p:blipFill>
          <a:blip r:embed="rId1"/>
          <a:srcRect l="1924" t="3346" r="3848" b="41879"/>
          <a:stretch/>
        </p:blipFill>
        <p:spPr>
          <a:xfrm>
            <a:off x="1066680" y="1143000"/>
            <a:ext cx="7467840" cy="571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pirinolactone for Resistant Hypertension</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y </a:t>
            </a:r>
            <a:r>
              <a:rPr b="0" lang="en-US" sz="2800" spc="-1" strike="noStrike">
                <a:solidFill>
                  <a:srgbClr val="eaeaea"/>
                </a:solidFill>
                <a:latin typeface="Wingdings"/>
                <a:ea typeface="Wingdings"/>
              </a:rPr>
              <a:t></a:t>
            </a:r>
            <a:r>
              <a:rPr b="0" lang="en-US" sz="2800" spc="-1" strike="noStrike">
                <a:solidFill>
                  <a:srgbClr val="eaeaea"/>
                </a:solidFill>
                <a:latin typeface="Arial"/>
              </a:rPr>
              <a:t> patients with uncontrolled HTN and on 4 agents were given spirinolactone 12.5-50 mg dail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g BP reduction at 6 months:</a:t>
            </a:r>
            <a:r>
              <a:rPr b="0" lang="en-US" sz="2800" spc="-1" strike="noStrike">
                <a:solidFill>
                  <a:srgbClr val="eaeaea"/>
                </a:solidFill>
                <a:latin typeface="Arial"/>
              </a:rPr>
              <a:t>	</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25/12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gree of antihypertensive benefit similar in subjects with and without primary hyperaldosteronism</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Follow K very closely, esp in renal failur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Probably avoid in Creatinine &gt; 2</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reating HTN – A Clear Reduction in </a:t>
            </a:r>
            <a:r>
              <a:rPr b="0" lang="en-US" sz="4400" spc="-1" strike="noStrike" u="sng">
                <a:solidFill>
                  <a:srgbClr val="ff0000"/>
                </a:solidFill>
                <a:uFillTx/>
                <a:latin typeface="Arial"/>
              </a:rPr>
              <a:t>MORTALITY</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with BP 140-159/90-99, (and other cardiac RF) achieving a 12 mm Hg decrease in SBP over 10 years will </a:t>
            </a:r>
            <a:r>
              <a:rPr b="1" i="1" lang="en-US" sz="3200" spc="-1" strike="noStrike">
                <a:solidFill>
                  <a:srgbClr val="eaeaea"/>
                </a:solidFill>
                <a:latin typeface="Arial"/>
              </a:rPr>
              <a:t>prevent one death for every 11 patients treat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e presence of CVD or target-organ damage, same tx will </a:t>
            </a:r>
            <a:r>
              <a:rPr b="1" i="1" lang="en-US" sz="3200" spc="-1" strike="noStrike">
                <a:solidFill>
                  <a:srgbClr val="eaeaea"/>
                </a:solidFill>
                <a:latin typeface="Arial"/>
              </a:rPr>
              <a:t>prevent one death for every 9 patients treat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a:t>
            </a:r>
            <a:endParaRPr b="0" lang="en-US" sz="4400" spc="-1" strike="noStrike">
              <a:solidFill>
                <a:srgbClr val="ebd189"/>
              </a:solidFill>
              <a:latin typeface="Arial"/>
            </a:endParaRPr>
          </a:p>
        </p:txBody>
      </p:sp>
      <p:sp>
        <p:nvSpPr>
          <p:cNvPr id="19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lood pressure control is a worthwhile endeavor and improves mortality more than most other stuff you do in clinic</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rongly consider sleep apnea screening in hypertensive patient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of primary hyperaldosteronism in those with hypertension and low 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artery stenosis relatively common, but unclear if invasive procedures work</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 continued</a:t>
            </a:r>
            <a:endParaRPr b="0" lang="en-US" sz="4400" spc="-1" strike="noStrike">
              <a:solidFill>
                <a:srgbClr val="ebd189"/>
              </a:solidFill>
              <a:latin typeface="Arial"/>
            </a:endParaRPr>
          </a:p>
        </p:txBody>
      </p:sp>
      <p:sp>
        <p:nvSpPr>
          <p:cNvPr id="20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Rule of 10’s” guideline helpful for guidance tx</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K to follow home BPs if patient with 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y combination medication and writing BP goals on prescription to improve adherenc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patient has resistant hypertension, ensure s/he is on proper diuretic dos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work at GFR &lt; 50</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irinolactone may be really gre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0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04" name="" descr=""/>
          <p:cNvPicPr/>
          <p:nvPr/>
        </p:nvPicPr>
        <p:blipFill>
          <a:blip r:embed="rId1"/>
          <a:srcRect l="23491" t="23486" r="27266" b="27273"/>
          <a:stretch/>
        </p:blipFill>
        <p:spPr>
          <a:xfrm>
            <a:off x="2057400" y="-228600"/>
            <a:ext cx="5478480" cy="708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16" name=""/>
          <p:cNvGraphicFramePr/>
          <p:nvPr/>
        </p:nvGraphicFramePr>
        <p:xfrm>
          <a:off x="-685800" y="-76320"/>
          <a:ext cx="10515600" cy="7010640"/>
        </p:xfrm>
        <a:graphic>
          <a:graphicData uri="http://schemas.openxmlformats.org/presentationml/2006/ole">
            <p:oleObj progId="PowerPoint.Show.12" r:id="rId1" spid="">
              <p:embed/>
              <p:pic>
                <p:nvPicPr>
                  <p:cNvPr id="117" name="" descr=""/>
                  <p:cNvPicPr/>
                  <p:nvPr/>
                </p:nvPicPr>
                <p:blipFill>
                  <a:blip r:embed="rId2"/>
                  <a:stretch/>
                </p:blipFill>
                <p:spPr>
                  <a:xfrm>
                    <a:off x="-685800" y="-76320"/>
                    <a:ext cx="10515600" cy="701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55 year old Hispanic man comes to your clinic for a first visit.  He recently immigrated from Mexico several years ago, he was on some medications for blood pressure previously but has not taken anything for several year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 5’ 8” 190 pounds BP 172/105 HR 82</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are you looking for on P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kind of screening labs do you order?</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ew Hypertensive Patient –</a:t>
            </a:r>
            <a:br>
              <a:rPr sz="4400"/>
            </a:br>
            <a:r>
              <a:rPr b="0" lang="en-US" sz="4400" spc="-1" strike="noStrike">
                <a:solidFill>
                  <a:srgbClr val="ebd189"/>
                </a:solidFill>
                <a:latin typeface="Arial"/>
              </a:rPr>
              <a:t>The Physical Examination</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 accuracy of reading (check cuff size, check other arm, repeat office reading or home readin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fundoscopic evalu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rough exam heart/lung/JVP</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uscultate for abdominal bruit (renal artery stenosi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moral pulses (coarct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 edem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3"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cheap screening for secondary hypertension” labs:</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inin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dium, Potassium (hyperaldosteron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A (nephrotic syndrome, nephritic syndrom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lcium (secondary hyperparathyroid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BC (polycythemia)</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Tox (CCRMC special)</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Consider </a:t>
            </a:r>
            <a:r>
              <a:rPr b="0" lang="en-US" sz="2800" spc="-1" strike="noStrike">
                <a:solidFill>
                  <a:srgbClr val="eaeaea"/>
                </a:solidFill>
                <a:latin typeface="Arial"/>
              </a:rPr>
              <a:t>TSH (both hyper and hypothyroidism associated with hypertension)</a:t>
            </a:r>
            <a:endParaRPr b="0" lang="en-US" sz="2800" spc="-1" strike="noStrike">
              <a:solidFill>
                <a:srgbClr val="eaeaea"/>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Cardiovascular Risk” lab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KG (get as baseline + evaluate for LVH, prior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ipid panel</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ting glucose</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22:13:54Z</dcterms:created>
  <dc:creator>HCMARTINEZ</dc:creator>
  <dc:description/>
  <dc:language>en-US</dc:language>
  <cp:lastModifiedBy>Michelle</cp:lastModifiedBy>
  <dcterms:modified xsi:type="dcterms:W3CDTF">2010-01-22T23:27:55Z</dcterms:modified>
  <cp:revision>37</cp:revision>
  <dc:subject/>
  <dc:title>Sexy Topics In Hypertension</dc:title>
</cp:coreProperties>
</file>